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55720" y="531720"/>
            <a:ext cx="4959360" cy="37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221760" y="4313160"/>
            <a:ext cx="6224760" cy="528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/06/01 13: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F66451-B3D6-4627-871B-4C820377AB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7600" y="4716360"/>
            <a:ext cx="629928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l-NL" sz="1200" spc="-1" strike="noStrike">
                <a:solidFill>
                  <a:srgbClr val="b2b2b2"/>
                </a:solidFill>
                <a:latin typeface="Times New Roman"/>
              </a:rPr>
              <a:t>Does anyone mind if I’ll talk in Dutc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Hallo, mijn naam is Patrick Ehlert, ik ben werkzaam als AIO bij de afdeling Mediamatica / Kennisgestuurde systemen groep. In deze laatste presentatie van vanochtend zal ik wat vertellen over Intelligent driving ag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Mijn presentatie is beetje vreemde eend in de bijt -&gt; enige die niet direct met het PITA project (routing and travel information systems)  te maken heef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Indirect verband via intelligent agent aanpa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5720" y="531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1760" y="4313160"/>
            <a:ext cx="6224760" cy="528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E415-B243-4615-A7C5-E06353663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45812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7720" y="3722400"/>
            <a:ext cx="745812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1D83-AC7C-4D99-87B9-E4097C28A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48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372240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9480" y="372240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B997-4484-466F-BA3E-C0D882EE3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9520" y="175248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0960" y="175248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7720" y="372240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9520" y="372240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0960" y="372240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A5C3-0220-487D-A093-B8ADA3C8C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745812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45812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3924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9480" y="1752480"/>
            <a:ext cx="363924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461520"/>
            <a:ext cx="844236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9480" y="1752480"/>
            <a:ext cx="363924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7720" y="372240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745812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6EA0-3865-493C-97BC-D9E41240E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3924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948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9480" y="372240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48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3722400"/>
            <a:ext cx="745812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45812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7720" y="3722400"/>
            <a:ext cx="745812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948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372240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9480" y="372240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9520" y="175248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0960" y="175248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7720" y="372240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9520" y="372240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0960" y="3722400"/>
            <a:ext cx="24012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45812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86E79-32B6-4A64-9916-E70744BC8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3924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9480" y="1752480"/>
            <a:ext cx="363924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9EB8-2E95-4562-9A9D-84E59C7BB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6848-A67A-4305-A327-236750B09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461520"/>
            <a:ext cx="844236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3A4F-31A5-4BBF-B9CF-B9898B491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480" y="1752480"/>
            <a:ext cx="363924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7720" y="372240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BAC79-0E46-4C7D-AE23-BB1E63FBB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3924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48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9480" y="372240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6265-8D3C-42D8-B968-C96C01EB4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9480" y="1752480"/>
            <a:ext cx="363924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7720" y="3722400"/>
            <a:ext cx="745812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E7E5-2F6F-4A51-9E12-490A6FFD2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5840" y="6248520"/>
            <a:ext cx="520920" cy="520560"/>
          </a:xfrm>
          <a:custGeom>
            <a:avLst/>
            <a:gdLst/>
            <a:ahLst/>
            <a:rect l="l" t="t" r="r" b="b"/>
            <a:pathLst>
              <a:path w="327" h="326">
                <a:moveTo>
                  <a:pt x="326" y="163"/>
                </a:moveTo>
                <a:lnTo>
                  <a:pt x="163" y="0"/>
                </a:lnTo>
                <a:lnTo>
                  <a:pt x="0" y="163"/>
                </a:lnTo>
                <a:lnTo>
                  <a:pt x="163" y="325"/>
                </a:lnTo>
                <a:lnTo>
                  <a:pt x="326" y="163"/>
                </a:lnTo>
              </a:path>
            </a:pathLst>
          </a:custGeom>
          <a:noFill/>
          <a:ln cap="rnd"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7720" y="1752480"/>
            <a:ext cx="7458120" cy="37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198360">
              <a:spcBef>
                <a:spcPts val="751"/>
              </a:spcBef>
              <a:buClr>
                <a:srgbClr val="ff0033"/>
              </a:buClr>
              <a:buSzPct val="70000"/>
              <a:buFont typeface="Wingdings (PCL6)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19044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25760">
              <a:spcBef>
                <a:spcPts val="751"/>
              </a:spcBef>
              <a:buClr>
                <a:srgbClr val="ffff00"/>
              </a:buClr>
              <a:buSzPct val="90000"/>
              <a:buFont typeface="Arial"/>
              <a:buChar char="#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90880" indent="-185760">
              <a:spcBef>
                <a:spcPts val="751"/>
              </a:spcBef>
              <a:buClr>
                <a:srgbClr val="ffff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90880" indent="-18576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90880" indent="-18576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1120" y="6248520"/>
            <a:ext cx="337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d2d2b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2d2b4"/>
                </a:solidFill>
                <a:latin typeface="Arial"/>
              </a:rPr>
              <a:t>Mediamatics 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2d2b4"/>
                </a:solidFill>
                <a:latin typeface="Arial"/>
              </a:rPr>
              <a:t>Knowledge-based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43040" y="6356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3D47-3F8B-4A97-991D-82B2EACE839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67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518240" y="6146640"/>
            <a:ext cx="411480" cy="3286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1219320"/>
            <a:ext cx="8382240" cy="759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456840"/>
            <a:ext cx="816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141120" y="6248520"/>
            <a:ext cx="337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600" spc="-1" strike="noStrike">
                <a:solidFill>
                  <a:srgbClr val="d2d2b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2d2b4"/>
                </a:solidFill>
                <a:latin typeface="Arial"/>
              </a:rPr>
              <a:t>Mediamatics 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2d2b4"/>
                </a:solidFill>
                <a:latin typeface="Arial"/>
              </a:rPr>
              <a:t>Knowledge-based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604512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U</a:t>
            </a: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elf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11840" y="5826240"/>
            <a:ext cx="38124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248520" y="655308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ft University of Technolo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4724280" cy="152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47772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233360" indent="392400" algn="ctr">
              <a:spcBef>
                <a:spcPts val="550"/>
              </a:spcBef>
              <a:buClr>
                <a:srgbClr val="ffff00"/>
              </a:buClr>
              <a:buSzPct val="90000"/>
              <a:buFont typeface="Arial"/>
              <a:buChar char="#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ffff"/>
              </a:solidFill>
              <a:latin typeface="Arial"/>
            </a:endParaRPr>
          </a:p>
          <a:p>
            <a:pPr lvl="4" marL="1609560" indent="295560" algn="ctr">
              <a:lnSpc>
                <a:spcPct val="115000"/>
              </a:lnSpc>
              <a:buClr>
                <a:srgbClr val="ffff00"/>
              </a:buClr>
              <a:buFont typeface="Arial"/>
              <a:buChar char="–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09560" indent="295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09560" indent="295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1760" y="456840"/>
            <a:ext cx="816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400" spc="-1" strike="noStrike">
                <a:solidFill>
                  <a:srgbClr val="f8db6e"/>
                </a:solidFill>
                <a:latin typeface="Arial Black"/>
              </a:rPr>
              <a:t>The ACE Project</a:t>
            </a:r>
            <a:endParaRPr b="0" lang="en-US" sz="54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895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 of view from 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Logic system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553080" cy="44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ADB0-887A-4225-90D5-722887DECE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Work done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458120" cy="44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terature survey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1904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gents (report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1904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ext awareness (report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1904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aze track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1904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285840" indent="-285840">
              <a:spcBef>
                <a:spcPts val="649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cept architecture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repor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ulation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gging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76C5-C4E9-41AD-91A1-D7398FD832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Future work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458120" cy="266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tern recognition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patterns / ru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ate monitoring units (agent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termine result a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daptive outpu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00E2-9B1F-4E9C-81FB-FD678485C8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Recognize patterns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33520" y="1447920"/>
          <a:ext cx="807696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590D-C898-4CE2-B662-4BF2B7C3BFF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0"/>
          <a:ext cx="9144000" cy="68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C7DC1-06DC-4D82-BB37-012BF84E3E3A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ACE and TUD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458120" cy="43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ject memb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rick Ehler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int Moutha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i Sletterin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on Rothkrant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6753-A5AA-4202-8F6C-1E92BA61F6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Our point of view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458120" cy="38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 of ACE syste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198360">
              <a:spcBef>
                <a:spcPts val="649"/>
              </a:spcBef>
              <a:buClr>
                <a:srgbClr val="ff0033"/>
              </a:buClr>
              <a:buSzPct val="70000"/>
              <a:buFont typeface="Wingdings (PCL6)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 automated pil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198360">
              <a:spcBef>
                <a:spcPts val="649"/>
              </a:spcBef>
              <a:buClr>
                <a:srgbClr val="ff0033"/>
              </a:buClr>
              <a:buSzPct val="70000"/>
              <a:buFont typeface="Wingdings (PCL6)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ort pilot with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198360">
              <a:spcBef>
                <a:spcPts val="649"/>
              </a:spcBef>
              <a:buClr>
                <a:srgbClr val="ff0033"/>
              </a:buClr>
              <a:buSzPct val="70000"/>
              <a:buFont typeface="Wingdings (PCL6)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apt when pilot is not a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528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040F-43EC-4C09-A5DE-11EF0E94DE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Monitoring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458120" cy="28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ext awaren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going 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should be going o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2971800"/>
            <a:ext cx="685800" cy="990720"/>
          </a:xfrm>
          <a:prstGeom prst="downArrow">
            <a:avLst>
              <a:gd name="adj1" fmla="val 50000"/>
              <a:gd name="adj2" fmla="val 361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AE6A-0E39-4889-827C-951B1E0291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System concept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65292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00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sion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00240" y="2362320"/>
            <a:ext cx="36529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-line interpre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1676520"/>
            <a:ext cx="381240" cy="1828800"/>
          </a:xfrm>
          <a:custGeom>
            <a:avLst/>
            <a:gdLst>
              <a:gd name="textAreaLeft" fmla="*/ 0 w 381240"/>
              <a:gd name="textAreaRight" fmla="*/ 13752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24382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809880"/>
            <a:ext cx="2514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297180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96252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419720"/>
            <a:ext cx="685800" cy="761760"/>
          </a:xfrm>
          <a:prstGeom prst="downArrow">
            <a:avLst>
              <a:gd name="adj1" fmla="val 50000"/>
              <a:gd name="adj2" fmla="val 277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334120"/>
            <a:ext cx="205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AAB4-2813-4294-B7BE-5283E93847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Possible situations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45812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ilot una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ircraft 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844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side 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ong / forgetting a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0226-6FA8-41CC-B29F-40A3C3DC8F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Possible actions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458120" cy="321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rning on MF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gnify / Blink  HUD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und alert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9BB2-CA44-4695-8642-5C6B4DF301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Our approach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458120" cy="38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692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of of concep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0">
              <a:spcBef>
                <a:spcPts val="6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276480">
              <a:spcBef>
                <a:spcPts val="649"/>
              </a:spcBef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ord data from flight simula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276480">
              <a:spcBef>
                <a:spcPts val="649"/>
              </a:spcBef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276480">
              <a:spcBef>
                <a:spcPts val="649"/>
              </a:spcBef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normal / abnormal patter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276480">
              <a:spcBef>
                <a:spcPts val="649"/>
              </a:spcBef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 monitoring units (agen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276480">
              <a:spcBef>
                <a:spcPts val="649"/>
              </a:spcBef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result 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6360" indent="276480">
              <a:spcBef>
                <a:spcPts val="649"/>
              </a:spcBef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 pattern -&gt; action r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3772-60BC-4AAF-9B57-C5F7ED1997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215b"/>
            </a:gs>
            <a:gs pos="100000">
              <a:srgbClr val="1443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343040" y="6356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B32F-4BA7-40C2-B024-443DB6ADA12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120" y="6248520"/>
            <a:ext cx="337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2d2b4"/>
                </a:solidFill>
                <a:latin typeface="Arial"/>
              </a:rPr>
              <a:t>Mediamatics 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2d2b4"/>
                </a:solidFill>
                <a:latin typeface="Arial"/>
              </a:rPr>
              <a:t>Knowledge-based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461520"/>
            <a:ext cx="844236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8db6e"/>
                </a:solidFill>
                <a:latin typeface="Arial Black"/>
              </a:rPr>
              <a:t>Monitoring unit / agent</a:t>
            </a:r>
            <a:endParaRPr b="0" lang="en-US" sz="3600" spc="-1" strike="noStrike">
              <a:solidFill>
                <a:srgbClr val="f8db6e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276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 and conqu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-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ff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umption-lik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912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33920" y="1752480"/>
          <a:ext cx="52578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752480"/>
                    <a:ext cx="52578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341320" y="1752480"/>
            <a:ext cx="1969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 Uni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8:39:52Z</dcterms:created>
  <dc:creator>Patrick Ehlert</dc:creator>
  <dc:description/>
  <dc:language>en-US</dc:language>
  <cp:lastModifiedBy>Patrick Ehlert</cp:lastModifiedBy>
  <cp:lastPrinted>2001-05-17T13:37:53Z</cp:lastPrinted>
  <dcterms:modified xsi:type="dcterms:W3CDTF">2002-04-11T15:23:16Z</dcterms:modified>
  <cp:revision>20</cp:revision>
  <dc:subject/>
  <dc:title>The ACE Project</dc:title>
</cp:coreProperties>
</file>