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4400" y="4348080"/>
            <a:ext cx="7858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36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34808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360" y="434808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200" y="193464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8360" y="193464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400" y="434808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200" y="434808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8360" y="4348080"/>
            <a:ext cx="2530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38347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360" y="1934640"/>
            <a:ext cx="38347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4400" y="288720"/>
            <a:ext cx="78566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360" y="1934640"/>
            <a:ext cx="38347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4400" y="434808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38347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36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360" y="434808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360" y="1934640"/>
            <a:ext cx="383472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4400" y="4348080"/>
            <a:ext cx="785808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5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25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239440" y="179280"/>
            <a:ext cx="3521520" cy="1357560"/>
            <a:chOff x="5239440" y="179280"/>
            <a:chExt cx="3521520" cy="1357560"/>
          </a:xfrm>
        </p:grpSpPr>
        <p:sp>
          <p:nvSpPr>
            <p:cNvPr id="3" name=""/>
            <p:cNvSpPr/>
            <p:nvPr/>
          </p:nvSpPr>
          <p:spPr>
            <a:xfrm>
              <a:off x="5239440" y="179280"/>
              <a:ext cx="34444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Franklin Gothic Demi"/>
                </a:rPr>
                <a:t>Nationaal Lucht- en Ruimtevaartlaboratoriu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Franklin Gothic Book"/>
                </a:rPr>
                <a:t>National Aerospace Laboratory NL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" name=""/>
            <p:cNvGraphicFramePr/>
            <p:nvPr/>
          </p:nvGraphicFramePr>
          <p:xfrm>
            <a:off x="8260200" y="790560"/>
            <a:ext cx="500760" cy="746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0200" y="790560"/>
                      <a:ext cx="50076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" name=""/>
          <p:cNvSpPr/>
          <p:nvPr/>
        </p:nvSpPr>
        <p:spPr>
          <a:xfrm>
            <a:off x="162000" y="6583320"/>
            <a:ext cx="882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XXX-</a:t>
            </a:r>
            <a:fld id="{3E7EB3FD-8D8C-418B-9224-EA2A86E47FB7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631960" y="961920"/>
            <a:ext cx="3296880" cy="5146920"/>
            <a:chOff x="2631960" y="961920"/>
            <a:chExt cx="3296880" cy="5146920"/>
          </a:xfrm>
        </p:grpSpPr>
        <p:sp>
          <p:nvSpPr>
            <p:cNvPr id="44" name=""/>
            <p:cNvSpPr/>
            <p:nvPr/>
          </p:nvSpPr>
          <p:spPr>
            <a:xfrm>
              <a:off x="2854800" y="4780080"/>
              <a:ext cx="1977840" cy="1328760"/>
            </a:xfrm>
            <a:custGeom>
              <a:avLst/>
              <a:gdLst/>
              <a:ahLst/>
              <a:rect l="l" t="t" r="r" b="b"/>
              <a:pathLst>
                <a:path w="1402" h="837">
                  <a:moveTo>
                    <a:pt x="1246" y="186"/>
                  </a:moveTo>
                  <a:lnTo>
                    <a:pt x="1246" y="186"/>
                  </a:lnTo>
                  <a:lnTo>
                    <a:pt x="1246" y="186"/>
                  </a:lnTo>
                  <a:lnTo>
                    <a:pt x="1246" y="186"/>
                  </a:lnTo>
                  <a:lnTo>
                    <a:pt x="1254" y="186"/>
                  </a:lnTo>
                  <a:lnTo>
                    <a:pt x="1254" y="186"/>
                  </a:lnTo>
                  <a:lnTo>
                    <a:pt x="1254" y="186"/>
                  </a:lnTo>
                  <a:lnTo>
                    <a:pt x="1254" y="186"/>
                  </a:lnTo>
                  <a:lnTo>
                    <a:pt x="1262" y="168"/>
                  </a:lnTo>
                  <a:lnTo>
                    <a:pt x="1254" y="168"/>
                  </a:lnTo>
                  <a:lnTo>
                    <a:pt x="1254" y="168"/>
                  </a:lnTo>
                  <a:lnTo>
                    <a:pt x="1254" y="168"/>
                  </a:lnTo>
                  <a:lnTo>
                    <a:pt x="1254" y="160"/>
                  </a:lnTo>
                  <a:lnTo>
                    <a:pt x="1254" y="160"/>
                  </a:lnTo>
                  <a:lnTo>
                    <a:pt x="1254" y="160"/>
                  </a:lnTo>
                  <a:lnTo>
                    <a:pt x="1254" y="160"/>
                  </a:lnTo>
                  <a:lnTo>
                    <a:pt x="1254" y="151"/>
                  </a:lnTo>
                  <a:lnTo>
                    <a:pt x="1205" y="133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29" y="115"/>
                  </a:lnTo>
                  <a:lnTo>
                    <a:pt x="1238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21" y="97"/>
                  </a:lnTo>
                  <a:lnTo>
                    <a:pt x="1205" y="106"/>
                  </a:lnTo>
                  <a:lnTo>
                    <a:pt x="1205" y="44"/>
                  </a:lnTo>
                  <a:lnTo>
                    <a:pt x="1197" y="44"/>
                  </a:lnTo>
                  <a:lnTo>
                    <a:pt x="1197" y="44"/>
                  </a:lnTo>
                  <a:lnTo>
                    <a:pt x="1197" y="44"/>
                  </a:lnTo>
                  <a:lnTo>
                    <a:pt x="1197" y="35"/>
                  </a:lnTo>
                  <a:lnTo>
                    <a:pt x="1189" y="35"/>
                  </a:lnTo>
                  <a:lnTo>
                    <a:pt x="1189" y="35"/>
                  </a:lnTo>
                  <a:lnTo>
                    <a:pt x="1189" y="35"/>
                  </a:lnTo>
                  <a:lnTo>
                    <a:pt x="1189" y="26"/>
                  </a:lnTo>
                  <a:lnTo>
                    <a:pt x="1172" y="26"/>
                  </a:lnTo>
                  <a:lnTo>
                    <a:pt x="1172" y="26"/>
                  </a:lnTo>
                  <a:lnTo>
                    <a:pt x="1172" y="26"/>
                  </a:lnTo>
                  <a:lnTo>
                    <a:pt x="1172" y="26"/>
                  </a:lnTo>
                  <a:lnTo>
                    <a:pt x="1164" y="35"/>
                  </a:lnTo>
                  <a:lnTo>
                    <a:pt x="1164" y="35"/>
                  </a:lnTo>
                  <a:lnTo>
                    <a:pt x="1164" y="35"/>
                  </a:lnTo>
                  <a:lnTo>
                    <a:pt x="1164" y="35"/>
                  </a:lnTo>
                  <a:lnTo>
                    <a:pt x="1132" y="80"/>
                  </a:lnTo>
                  <a:lnTo>
                    <a:pt x="1107" y="80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91" y="88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83" y="97"/>
                  </a:lnTo>
                  <a:lnTo>
                    <a:pt x="1034" y="204"/>
                  </a:lnTo>
                  <a:lnTo>
                    <a:pt x="700" y="355"/>
                  </a:lnTo>
                  <a:lnTo>
                    <a:pt x="651" y="26"/>
                  </a:lnTo>
                  <a:lnTo>
                    <a:pt x="635" y="26"/>
                  </a:lnTo>
                  <a:lnTo>
                    <a:pt x="635" y="26"/>
                  </a:lnTo>
                  <a:lnTo>
                    <a:pt x="635" y="26"/>
                  </a:lnTo>
                  <a:lnTo>
                    <a:pt x="635" y="8"/>
                  </a:lnTo>
                  <a:lnTo>
                    <a:pt x="619" y="8"/>
                  </a:lnTo>
                  <a:lnTo>
                    <a:pt x="619" y="8"/>
                  </a:lnTo>
                  <a:lnTo>
                    <a:pt x="619" y="8"/>
                  </a:lnTo>
                  <a:lnTo>
                    <a:pt x="619" y="0"/>
                  </a:lnTo>
                  <a:lnTo>
                    <a:pt x="602" y="8"/>
                  </a:lnTo>
                  <a:lnTo>
                    <a:pt x="602" y="8"/>
                  </a:lnTo>
                  <a:lnTo>
                    <a:pt x="594" y="8"/>
                  </a:lnTo>
                  <a:lnTo>
                    <a:pt x="594" y="8"/>
                  </a:lnTo>
                  <a:lnTo>
                    <a:pt x="586" y="17"/>
                  </a:lnTo>
                  <a:lnTo>
                    <a:pt x="586" y="17"/>
                  </a:lnTo>
                  <a:lnTo>
                    <a:pt x="586" y="17"/>
                  </a:lnTo>
                  <a:lnTo>
                    <a:pt x="586" y="17"/>
                  </a:lnTo>
                  <a:lnTo>
                    <a:pt x="374" y="560"/>
                  </a:lnTo>
                  <a:lnTo>
                    <a:pt x="97" y="729"/>
                  </a:lnTo>
                  <a:lnTo>
                    <a:pt x="0" y="836"/>
                  </a:lnTo>
                  <a:lnTo>
                    <a:pt x="130" y="809"/>
                  </a:lnTo>
                  <a:lnTo>
                    <a:pt x="431" y="631"/>
                  </a:lnTo>
                  <a:lnTo>
                    <a:pt x="1384" y="560"/>
                  </a:lnTo>
                  <a:lnTo>
                    <a:pt x="1384" y="560"/>
                  </a:lnTo>
                  <a:lnTo>
                    <a:pt x="1384" y="560"/>
                  </a:lnTo>
                  <a:lnTo>
                    <a:pt x="1384" y="560"/>
                  </a:lnTo>
                  <a:lnTo>
                    <a:pt x="1392" y="560"/>
                  </a:lnTo>
                  <a:lnTo>
                    <a:pt x="1392" y="560"/>
                  </a:lnTo>
                  <a:lnTo>
                    <a:pt x="1392" y="551"/>
                  </a:lnTo>
                  <a:lnTo>
                    <a:pt x="1392" y="551"/>
                  </a:lnTo>
                  <a:lnTo>
                    <a:pt x="1401" y="542"/>
                  </a:lnTo>
                  <a:lnTo>
                    <a:pt x="1392" y="542"/>
                  </a:lnTo>
                  <a:lnTo>
                    <a:pt x="1392" y="542"/>
                  </a:lnTo>
                  <a:lnTo>
                    <a:pt x="1392" y="542"/>
                  </a:lnTo>
                  <a:lnTo>
                    <a:pt x="1392" y="524"/>
                  </a:lnTo>
                  <a:lnTo>
                    <a:pt x="1384" y="524"/>
                  </a:lnTo>
                  <a:lnTo>
                    <a:pt x="1384" y="524"/>
                  </a:lnTo>
                  <a:lnTo>
                    <a:pt x="1384" y="524"/>
                  </a:lnTo>
                  <a:lnTo>
                    <a:pt x="1384" y="506"/>
                  </a:lnTo>
                  <a:lnTo>
                    <a:pt x="806" y="418"/>
                  </a:lnTo>
                  <a:lnTo>
                    <a:pt x="1042" y="240"/>
                  </a:lnTo>
                  <a:lnTo>
                    <a:pt x="1246" y="186"/>
                  </a:lnTo>
                  <a:lnTo>
                    <a:pt x="1246" y="186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65040" y="3057480"/>
              <a:ext cx="747360" cy="792360"/>
            </a:xfrm>
            <a:custGeom>
              <a:avLst/>
              <a:gdLst/>
              <a:ahLst/>
              <a:rect l="l" t="t" r="r" b="b"/>
              <a:pathLst>
                <a:path w="530" h="499">
                  <a:moveTo>
                    <a:pt x="368" y="419"/>
                  </a:moveTo>
                  <a:lnTo>
                    <a:pt x="368" y="419"/>
                  </a:lnTo>
                  <a:lnTo>
                    <a:pt x="376" y="419"/>
                  </a:lnTo>
                  <a:lnTo>
                    <a:pt x="384" y="419"/>
                  </a:lnTo>
                  <a:lnTo>
                    <a:pt x="400" y="410"/>
                  </a:lnTo>
                  <a:lnTo>
                    <a:pt x="400" y="410"/>
                  </a:lnTo>
                  <a:lnTo>
                    <a:pt x="416" y="401"/>
                  </a:lnTo>
                  <a:lnTo>
                    <a:pt x="432" y="393"/>
                  </a:lnTo>
                  <a:lnTo>
                    <a:pt x="440" y="384"/>
                  </a:lnTo>
                  <a:lnTo>
                    <a:pt x="440" y="384"/>
                  </a:lnTo>
                  <a:lnTo>
                    <a:pt x="448" y="366"/>
                  </a:lnTo>
                  <a:lnTo>
                    <a:pt x="448" y="358"/>
                  </a:lnTo>
                  <a:lnTo>
                    <a:pt x="464" y="349"/>
                  </a:lnTo>
                  <a:lnTo>
                    <a:pt x="464" y="332"/>
                  </a:lnTo>
                  <a:lnTo>
                    <a:pt x="464" y="323"/>
                  </a:lnTo>
                  <a:lnTo>
                    <a:pt x="464" y="314"/>
                  </a:lnTo>
                  <a:lnTo>
                    <a:pt x="472" y="297"/>
                  </a:lnTo>
                  <a:lnTo>
                    <a:pt x="529" y="297"/>
                  </a:lnTo>
                  <a:lnTo>
                    <a:pt x="529" y="498"/>
                  </a:lnTo>
                  <a:lnTo>
                    <a:pt x="0" y="498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6" y="419"/>
                  </a:lnTo>
                  <a:lnTo>
                    <a:pt x="16" y="419"/>
                  </a:lnTo>
                  <a:lnTo>
                    <a:pt x="24" y="419"/>
                  </a:lnTo>
                  <a:lnTo>
                    <a:pt x="24" y="419"/>
                  </a:lnTo>
                  <a:lnTo>
                    <a:pt x="32" y="401"/>
                  </a:lnTo>
                  <a:lnTo>
                    <a:pt x="32" y="401"/>
                  </a:lnTo>
                  <a:lnTo>
                    <a:pt x="32" y="393"/>
                  </a:lnTo>
                  <a:lnTo>
                    <a:pt x="32" y="393"/>
                  </a:lnTo>
                  <a:lnTo>
                    <a:pt x="48" y="384"/>
                  </a:lnTo>
                  <a:lnTo>
                    <a:pt x="48" y="384"/>
                  </a:lnTo>
                  <a:lnTo>
                    <a:pt x="48" y="366"/>
                  </a:lnTo>
                  <a:lnTo>
                    <a:pt x="48" y="358"/>
                  </a:lnTo>
                  <a:lnTo>
                    <a:pt x="56" y="349"/>
                  </a:lnTo>
                  <a:lnTo>
                    <a:pt x="56" y="148"/>
                  </a:lnTo>
                  <a:lnTo>
                    <a:pt x="48" y="148"/>
                  </a:lnTo>
                  <a:lnTo>
                    <a:pt x="48" y="139"/>
                  </a:lnTo>
                  <a:lnTo>
                    <a:pt x="48" y="139"/>
                  </a:lnTo>
                  <a:lnTo>
                    <a:pt x="48" y="122"/>
                  </a:lnTo>
                  <a:lnTo>
                    <a:pt x="32" y="122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16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87"/>
                  </a:lnTo>
                  <a:lnTo>
                    <a:pt x="264" y="87"/>
                  </a:lnTo>
                  <a:lnTo>
                    <a:pt x="264" y="87"/>
                  </a:lnTo>
                  <a:lnTo>
                    <a:pt x="256" y="87"/>
                  </a:lnTo>
                  <a:lnTo>
                    <a:pt x="256" y="87"/>
                  </a:lnTo>
                  <a:lnTo>
                    <a:pt x="240" y="104"/>
                  </a:lnTo>
                  <a:lnTo>
                    <a:pt x="240" y="104"/>
                  </a:lnTo>
                  <a:lnTo>
                    <a:pt x="232" y="104"/>
                  </a:lnTo>
                  <a:lnTo>
                    <a:pt x="232" y="104"/>
                  </a:lnTo>
                  <a:lnTo>
                    <a:pt x="224" y="113"/>
                  </a:lnTo>
                  <a:lnTo>
                    <a:pt x="224" y="113"/>
                  </a:lnTo>
                  <a:lnTo>
                    <a:pt x="224" y="122"/>
                  </a:lnTo>
                  <a:lnTo>
                    <a:pt x="224" y="122"/>
                  </a:lnTo>
                  <a:lnTo>
                    <a:pt x="216" y="139"/>
                  </a:lnTo>
                  <a:lnTo>
                    <a:pt x="216" y="139"/>
                  </a:lnTo>
                  <a:lnTo>
                    <a:pt x="216" y="148"/>
                  </a:lnTo>
                  <a:lnTo>
                    <a:pt x="216" y="148"/>
                  </a:lnTo>
                  <a:lnTo>
                    <a:pt x="216" y="419"/>
                  </a:lnTo>
                  <a:lnTo>
                    <a:pt x="368" y="419"/>
                  </a:lnTo>
                  <a:lnTo>
                    <a:pt x="368" y="419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68920" y="3057480"/>
              <a:ext cx="899640" cy="792360"/>
            </a:xfrm>
            <a:custGeom>
              <a:avLst/>
              <a:gdLst/>
              <a:ahLst/>
              <a:rect l="l" t="t" r="r" b="b"/>
              <a:pathLst>
                <a:path w="638" h="499">
                  <a:moveTo>
                    <a:pt x="579" y="498"/>
                  </a:moveTo>
                  <a:lnTo>
                    <a:pt x="408" y="498"/>
                  </a:lnTo>
                  <a:lnTo>
                    <a:pt x="114" y="160"/>
                  </a:lnTo>
                  <a:lnTo>
                    <a:pt x="114" y="355"/>
                  </a:lnTo>
                  <a:lnTo>
                    <a:pt x="114" y="364"/>
                  </a:lnTo>
                  <a:lnTo>
                    <a:pt x="114" y="373"/>
                  </a:lnTo>
                  <a:lnTo>
                    <a:pt x="114" y="382"/>
                  </a:lnTo>
                  <a:lnTo>
                    <a:pt x="122" y="382"/>
                  </a:lnTo>
                  <a:lnTo>
                    <a:pt x="122" y="400"/>
                  </a:lnTo>
                  <a:lnTo>
                    <a:pt x="122" y="400"/>
                  </a:lnTo>
                  <a:lnTo>
                    <a:pt x="122" y="400"/>
                  </a:lnTo>
                  <a:lnTo>
                    <a:pt x="130" y="400"/>
                  </a:lnTo>
                  <a:lnTo>
                    <a:pt x="130" y="409"/>
                  </a:lnTo>
                  <a:lnTo>
                    <a:pt x="138" y="409"/>
                  </a:lnTo>
                  <a:lnTo>
                    <a:pt x="138" y="409"/>
                  </a:lnTo>
                  <a:lnTo>
                    <a:pt x="155" y="409"/>
                  </a:lnTo>
                  <a:lnTo>
                    <a:pt x="155" y="409"/>
                  </a:lnTo>
                  <a:lnTo>
                    <a:pt x="163" y="409"/>
                  </a:lnTo>
                  <a:lnTo>
                    <a:pt x="163" y="409"/>
                  </a:lnTo>
                  <a:lnTo>
                    <a:pt x="171" y="409"/>
                  </a:lnTo>
                  <a:lnTo>
                    <a:pt x="171" y="498"/>
                  </a:lnTo>
                  <a:lnTo>
                    <a:pt x="0" y="498"/>
                  </a:lnTo>
                  <a:lnTo>
                    <a:pt x="0" y="409"/>
                  </a:lnTo>
                  <a:lnTo>
                    <a:pt x="0" y="409"/>
                  </a:lnTo>
                  <a:lnTo>
                    <a:pt x="8" y="409"/>
                  </a:lnTo>
                  <a:lnTo>
                    <a:pt x="8" y="409"/>
                  </a:lnTo>
                  <a:lnTo>
                    <a:pt x="16" y="409"/>
                  </a:lnTo>
                  <a:lnTo>
                    <a:pt x="16" y="409"/>
                  </a:lnTo>
                  <a:lnTo>
                    <a:pt x="24" y="409"/>
                  </a:lnTo>
                  <a:lnTo>
                    <a:pt x="24" y="409"/>
                  </a:lnTo>
                  <a:lnTo>
                    <a:pt x="40" y="400"/>
                  </a:lnTo>
                  <a:lnTo>
                    <a:pt x="40" y="400"/>
                  </a:lnTo>
                  <a:lnTo>
                    <a:pt x="40" y="391"/>
                  </a:lnTo>
                  <a:lnTo>
                    <a:pt x="40" y="391"/>
                  </a:lnTo>
                  <a:lnTo>
                    <a:pt x="49" y="382"/>
                  </a:lnTo>
                  <a:lnTo>
                    <a:pt x="49" y="382"/>
                  </a:lnTo>
                  <a:lnTo>
                    <a:pt x="49" y="364"/>
                  </a:lnTo>
                  <a:lnTo>
                    <a:pt x="49" y="364"/>
                  </a:lnTo>
                  <a:lnTo>
                    <a:pt x="57" y="346"/>
                  </a:lnTo>
                  <a:lnTo>
                    <a:pt x="57" y="142"/>
                  </a:lnTo>
                  <a:lnTo>
                    <a:pt x="49" y="142"/>
                  </a:lnTo>
                  <a:lnTo>
                    <a:pt x="49" y="142"/>
                  </a:lnTo>
                  <a:lnTo>
                    <a:pt x="49" y="142"/>
                  </a:lnTo>
                  <a:lnTo>
                    <a:pt x="49" y="124"/>
                  </a:lnTo>
                  <a:lnTo>
                    <a:pt x="40" y="124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06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16" y="106"/>
                  </a:lnTo>
                  <a:lnTo>
                    <a:pt x="16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522" y="311"/>
                  </a:lnTo>
                  <a:lnTo>
                    <a:pt x="522" y="142"/>
                  </a:lnTo>
                  <a:lnTo>
                    <a:pt x="506" y="142"/>
                  </a:lnTo>
                  <a:lnTo>
                    <a:pt x="506" y="142"/>
                  </a:lnTo>
                  <a:lnTo>
                    <a:pt x="506" y="142"/>
                  </a:lnTo>
                  <a:lnTo>
                    <a:pt x="506" y="124"/>
                  </a:lnTo>
                  <a:lnTo>
                    <a:pt x="498" y="124"/>
                  </a:lnTo>
                  <a:lnTo>
                    <a:pt x="498" y="115"/>
                  </a:lnTo>
                  <a:lnTo>
                    <a:pt x="498" y="115"/>
                  </a:lnTo>
                  <a:lnTo>
                    <a:pt x="498" y="106"/>
                  </a:lnTo>
                  <a:lnTo>
                    <a:pt x="481" y="106"/>
                  </a:lnTo>
                  <a:lnTo>
                    <a:pt x="481" y="106"/>
                  </a:lnTo>
                  <a:lnTo>
                    <a:pt x="481" y="106"/>
                  </a:lnTo>
                  <a:lnTo>
                    <a:pt x="481" y="88"/>
                  </a:lnTo>
                  <a:lnTo>
                    <a:pt x="465" y="88"/>
                  </a:lnTo>
                  <a:lnTo>
                    <a:pt x="465" y="88"/>
                  </a:lnTo>
                  <a:lnTo>
                    <a:pt x="465" y="88"/>
                  </a:lnTo>
                  <a:lnTo>
                    <a:pt x="465" y="88"/>
                  </a:lnTo>
                  <a:lnTo>
                    <a:pt x="465" y="0"/>
                  </a:lnTo>
                  <a:lnTo>
                    <a:pt x="637" y="0"/>
                  </a:lnTo>
                  <a:lnTo>
                    <a:pt x="637" y="88"/>
                  </a:lnTo>
                  <a:lnTo>
                    <a:pt x="620" y="88"/>
                  </a:lnTo>
                  <a:lnTo>
                    <a:pt x="620" y="88"/>
                  </a:lnTo>
                  <a:lnTo>
                    <a:pt x="612" y="88"/>
                  </a:lnTo>
                  <a:lnTo>
                    <a:pt x="612" y="88"/>
                  </a:lnTo>
                  <a:lnTo>
                    <a:pt x="596" y="106"/>
                  </a:lnTo>
                  <a:lnTo>
                    <a:pt x="596" y="106"/>
                  </a:lnTo>
                  <a:lnTo>
                    <a:pt x="596" y="106"/>
                  </a:lnTo>
                  <a:lnTo>
                    <a:pt x="596" y="106"/>
                  </a:lnTo>
                  <a:lnTo>
                    <a:pt x="579" y="115"/>
                  </a:lnTo>
                  <a:lnTo>
                    <a:pt x="579" y="115"/>
                  </a:lnTo>
                  <a:lnTo>
                    <a:pt x="579" y="124"/>
                  </a:lnTo>
                  <a:lnTo>
                    <a:pt x="579" y="124"/>
                  </a:lnTo>
                  <a:lnTo>
                    <a:pt x="579" y="142"/>
                  </a:lnTo>
                  <a:lnTo>
                    <a:pt x="579" y="142"/>
                  </a:lnTo>
                  <a:lnTo>
                    <a:pt x="579" y="142"/>
                  </a:lnTo>
                  <a:lnTo>
                    <a:pt x="579" y="142"/>
                  </a:lnTo>
                  <a:lnTo>
                    <a:pt x="579" y="498"/>
                  </a:lnTo>
                  <a:lnTo>
                    <a:pt x="579" y="498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31960" y="2075040"/>
              <a:ext cx="2712960" cy="2690640"/>
            </a:xfrm>
            <a:custGeom>
              <a:avLst/>
              <a:gdLst/>
              <a:ahLst/>
              <a:rect l="l" t="t" r="r" b="b"/>
              <a:pathLst>
                <a:path w="1923" h="1695">
                  <a:moveTo>
                    <a:pt x="1922" y="1378"/>
                  </a:moveTo>
                  <a:lnTo>
                    <a:pt x="1905" y="1386"/>
                  </a:lnTo>
                  <a:lnTo>
                    <a:pt x="1889" y="1386"/>
                  </a:lnTo>
                  <a:lnTo>
                    <a:pt x="1856" y="1404"/>
                  </a:lnTo>
                  <a:lnTo>
                    <a:pt x="1824" y="1404"/>
                  </a:lnTo>
                  <a:lnTo>
                    <a:pt x="1775" y="1430"/>
                  </a:lnTo>
                  <a:lnTo>
                    <a:pt x="1718" y="1439"/>
                  </a:lnTo>
                  <a:lnTo>
                    <a:pt x="1661" y="1457"/>
                  </a:lnTo>
                  <a:lnTo>
                    <a:pt x="1596" y="1474"/>
                  </a:lnTo>
                  <a:lnTo>
                    <a:pt x="1514" y="1492"/>
                  </a:lnTo>
                  <a:lnTo>
                    <a:pt x="1441" y="1509"/>
                  </a:lnTo>
                  <a:lnTo>
                    <a:pt x="1351" y="1518"/>
                  </a:lnTo>
                  <a:lnTo>
                    <a:pt x="1270" y="1527"/>
                  </a:lnTo>
                  <a:lnTo>
                    <a:pt x="1180" y="1536"/>
                  </a:lnTo>
                  <a:lnTo>
                    <a:pt x="1099" y="1536"/>
                  </a:lnTo>
                  <a:lnTo>
                    <a:pt x="1009" y="1527"/>
                  </a:lnTo>
                  <a:lnTo>
                    <a:pt x="928" y="1518"/>
                  </a:lnTo>
                  <a:lnTo>
                    <a:pt x="855" y="1518"/>
                  </a:lnTo>
                  <a:lnTo>
                    <a:pt x="798" y="1509"/>
                  </a:lnTo>
                  <a:lnTo>
                    <a:pt x="732" y="1492"/>
                  </a:lnTo>
                  <a:lnTo>
                    <a:pt x="675" y="1483"/>
                  </a:lnTo>
                  <a:lnTo>
                    <a:pt x="618" y="1465"/>
                  </a:lnTo>
                  <a:lnTo>
                    <a:pt x="570" y="1448"/>
                  </a:lnTo>
                  <a:lnTo>
                    <a:pt x="521" y="1430"/>
                  </a:lnTo>
                  <a:lnTo>
                    <a:pt x="472" y="1404"/>
                  </a:lnTo>
                  <a:lnTo>
                    <a:pt x="423" y="1386"/>
                  </a:lnTo>
                  <a:lnTo>
                    <a:pt x="374" y="1360"/>
                  </a:lnTo>
                  <a:lnTo>
                    <a:pt x="333" y="1334"/>
                  </a:lnTo>
                  <a:lnTo>
                    <a:pt x="301" y="1316"/>
                  </a:lnTo>
                  <a:lnTo>
                    <a:pt x="260" y="1281"/>
                  </a:lnTo>
                  <a:lnTo>
                    <a:pt x="228" y="1255"/>
                  </a:lnTo>
                  <a:lnTo>
                    <a:pt x="187" y="1220"/>
                  </a:lnTo>
                  <a:lnTo>
                    <a:pt x="162" y="1184"/>
                  </a:lnTo>
                  <a:lnTo>
                    <a:pt x="130" y="1176"/>
                  </a:lnTo>
                  <a:lnTo>
                    <a:pt x="122" y="1158"/>
                  </a:lnTo>
                  <a:lnTo>
                    <a:pt x="114" y="1141"/>
                  </a:lnTo>
                  <a:lnTo>
                    <a:pt x="97" y="1114"/>
                  </a:lnTo>
                  <a:lnTo>
                    <a:pt x="89" y="1105"/>
                  </a:lnTo>
                  <a:lnTo>
                    <a:pt x="73" y="1079"/>
                  </a:lnTo>
                  <a:lnTo>
                    <a:pt x="65" y="1053"/>
                  </a:lnTo>
                  <a:lnTo>
                    <a:pt x="65" y="1035"/>
                  </a:lnTo>
                  <a:lnTo>
                    <a:pt x="48" y="1018"/>
                  </a:lnTo>
                  <a:lnTo>
                    <a:pt x="48" y="991"/>
                  </a:lnTo>
                  <a:lnTo>
                    <a:pt x="40" y="974"/>
                  </a:lnTo>
                  <a:lnTo>
                    <a:pt x="40" y="947"/>
                  </a:lnTo>
                  <a:lnTo>
                    <a:pt x="32" y="930"/>
                  </a:lnTo>
                  <a:lnTo>
                    <a:pt x="32" y="912"/>
                  </a:lnTo>
                  <a:lnTo>
                    <a:pt x="32" y="886"/>
                  </a:lnTo>
                  <a:lnTo>
                    <a:pt x="40" y="860"/>
                  </a:lnTo>
                  <a:lnTo>
                    <a:pt x="40" y="842"/>
                  </a:lnTo>
                  <a:lnTo>
                    <a:pt x="40" y="833"/>
                  </a:lnTo>
                  <a:lnTo>
                    <a:pt x="40" y="825"/>
                  </a:lnTo>
                  <a:lnTo>
                    <a:pt x="48" y="798"/>
                  </a:lnTo>
                  <a:lnTo>
                    <a:pt x="48" y="781"/>
                  </a:lnTo>
                  <a:lnTo>
                    <a:pt x="48" y="754"/>
                  </a:lnTo>
                  <a:lnTo>
                    <a:pt x="57" y="737"/>
                  </a:lnTo>
                  <a:lnTo>
                    <a:pt x="65" y="710"/>
                  </a:lnTo>
                  <a:lnTo>
                    <a:pt x="65" y="702"/>
                  </a:lnTo>
                  <a:lnTo>
                    <a:pt x="81" y="675"/>
                  </a:lnTo>
                  <a:lnTo>
                    <a:pt x="89" y="649"/>
                  </a:lnTo>
                  <a:lnTo>
                    <a:pt x="105" y="623"/>
                  </a:lnTo>
                  <a:lnTo>
                    <a:pt x="114" y="614"/>
                  </a:lnTo>
                  <a:lnTo>
                    <a:pt x="130" y="588"/>
                  </a:lnTo>
                  <a:lnTo>
                    <a:pt x="146" y="561"/>
                  </a:lnTo>
                  <a:lnTo>
                    <a:pt x="171" y="544"/>
                  </a:lnTo>
                  <a:lnTo>
                    <a:pt x="171" y="544"/>
                  </a:lnTo>
                  <a:lnTo>
                    <a:pt x="187" y="535"/>
                  </a:lnTo>
                  <a:lnTo>
                    <a:pt x="195" y="517"/>
                  </a:lnTo>
                  <a:lnTo>
                    <a:pt x="219" y="500"/>
                  </a:lnTo>
                  <a:lnTo>
                    <a:pt x="244" y="491"/>
                  </a:lnTo>
                  <a:lnTo>
                    <a:pt x="260" y="465"/>
                  </a:lnTo>
                  <a:lnTo>
                    <a:pt x="285" y="438"/>
                  </a:lnTo>
                  <a:lnTo>
                    <a:pt x="317" y="421"/>
                  </a:lnTo>
                  <a:lnTo>
                    <a:pt x="342" y="403"/>
                  </a:lnTo>
                  <a:lnTo>
                    <a:pt x="358" y="377"/>
                  </a:lnTo>
                  <a:lnTo>
                    <a:pt x="390" y="359"/>
                  </a:lnTo>
                  <a:lnTo>
                    <a:pt x="415" y="333"/>
                  </a:lnTo>
                  <a:lnTo>
                    <a:pt x="431" y="324"/>
                  </a:lnTo>
                  <a:lnTo>
                    <a:pt x="456" y="298"/>
                  </a:lnTo>
                  <a:lnTo>
                    <a:pt x="472" y="289"/>
                  </a:lnTo>
                  <a:lnTo>
                    <a:pt x="488" y="272"/>
                  </a:lnTo>
                  <a:lnTo>
                    <a:pt x="504" y="263"/>
                  </a:lnTo>
                  <a:lnTo>
                    <a:pt x="521" y="245"/>
                  </a:lnTo>
                  <a:lnTo>
                    <a:pt x="537" y="236"/>
                  </a:lnTo>
                  <a:lnTo>
                    <a:pt x="561" y="228"/>
                  </a:lnTo>
                  <a:lnTo>
                    <a:pt x="570" y="210"/>
                  </a:lnTo>
                  <a:lnTo>
                    <a:pt x="602" y="201"/>
                  </a:lnTo>
                  <a:lnTo>
                    <a:pt x="618" y="184"/>
                  </a:lnTo>
                  <a:lnTo>
                    <a:pt x="643" y="166"/>
                  </a:lnTo>
                  <a:lnTo>
                    <a:pt x="667" y="149"/>
                  </a:lnTo>
                  <a:lnTo>
                    <a:pt x="684" y="140"/>
                  </a:lnTo>
                  <a:lnTo>
                    <a:pt x="716" y="122"/>
                  </a:lnTo>
                  <a:lnTo>
                    <a:pt x="732" y="105"/>
                  </a:lnTo>
                  <a:lnTo>
                    <a:pt x="757" y="96"/>
                  </a:lnTo>
                  <a:lnTo>
                    <a:pt x="781" y="87"/>
                  </a:lnTo>
                  <a:lnTo>
                    <a:pt x="806" y="70"/>
                  </a:lnTo>
                  <a:lnTo>
                    <a:pt x="830" y="43"/>
                  </a:lnTo>
                  <a:lnTo>
                    <a:pt x="830" y="43"/>
                  </a:lnTo>
                  <a:lnTo>
                    <a:pt x="830" y="43"/>
                  </a:lnTo>
                  <a:lnTo>
                    <a:pt x="830" y="43"/>
                  </a:lnTo>
                  <a:lnTo>
                    <a:pt x="838" y="43"/>
                  </a:lnTo>
                  <a:lnTo>
                    <a:pt x="838" y="43"/>
                  </a:lnTo>
                  <a:lnTo>
                    <a:pt x="855" y="35"/>
                  </a:lnTo>
                  <a:lnTo>
                    <a:pt x="855" y="35"/>
                  </a:lnTo>
                  <a:lnTo>
                    <a:pt x="863" y="26"/>
                  </a:lnTo>
                  <a:lnTo>
                    <a:pt x="863" y="26"/>
                  </a:lnTo>
                  <a:lnTo>
                    <a:pt x="879" y="26"/>
                  </a:lnTo>
                  <a:lnTo>
                    <a:pt x="879" y="26"/>
                  </a:lnTo>
                  <a:lnTo>
                    <a:pt x="887" y="17"/>
                  </a:lnTo>
                  <a:lnTo>
                    <a:pt x="887" y="17"/>
                  </a:lnTo>
                  <a:lnTo>
                    <a:pt x="895" y="8"/>
                  </a:lnTo>
                  <a:lnTo>
                    <a:pt x="895" y="8"/>
                  </a:lnTo>
                  <a:lnTo>
                    <a:pt x="903" y="0"/>
                  </a:lnTo>
                  <a:lnTo>
                    <a:pt x="895" y="0"/>
                  </a:lnTo>
                  <a:lnTo>
                    <a:pt x="89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71" y="17"/>
                  </a:lnTo>
                  <a:lnTo>
                    <a:pt x="871" y="17"/>
                  </a:lnTo>
                  <a:lnTo>
                    <a:pt x="855" y="17"/>
                  </a:lnTo>
                  <a:lnTo>
                    <a:pt x="855" y="17"/>
                  </a:lnTo>
                  <a:lnTo>
                    <a:pt x="846" y="26"/>
                  </a:lnTo>
                  <a:lnTo>
                    <a:pt x="838" y="26"/>
                  </a:lnTo>
                  <a:lnTo>
                    <a:pt x="830" y="26"/>
                  </a:lnTo>
                  <a:lnTo>
                    <a:pt x="830" y="26"/>
                  </a:lnTo>
                  <a:lnTo>
                    <a:pt x="814" y="26"/>
                  </a:lnTo>
                  <a:lnTo>
                    <a:pt x="814" y="26"/>
                  </a:lnTo>
                  <a:lnTo>
                    <a:pt x="814" y="26"/>
                  </a:lnTo>
                  <a:lnTo>
                    <a:pt x="814" y="26"/>
                  </a:lnTo>
                  <a:lnTo>
                    <a:pt x="806" y="35"/>
                  </a:lnTo>
                  <a:lnTo>
                    <a:pt x="798" y="43"/>
                  </a:lnTo>
                  <a:lnTo>
                    <a:pt x="773" y="52"/>
                  </a:lnTo>
                  <a:lnTo>
                    <a:pt x="757" y="61"/>
                  </a:lnTo>
                  <a:lnTo>
                    <a:pt x="732" y="78"/>
                  </a:lnTo>
                  <a:lnTo>
                    <a:pt x="708" y="87"/>
                  </a:lnTo>
                  <a:lnTo>
                    <a:pt x="684" y="105"/>
                  </a:lnTo>
                  <a:lnTo>
                    <a:pt x="659" y="122"/>
                  </a:lnTo>
                  <a:lnTo>
                    <a:pt x="627" y="140"/>
                  </a:lnTo>
                  <a:lnTo>
                    <a:pt x="602" y="157"/>
                  </a:lnTo>
                  <a:lnTo>
                    <a:pt x="570" y="175"/>
                  </a:lnTo>
                  <a:lnTo>
                    <a:pt x="553" y="193"/>
                  </a:lnTo>
                  <a:lnTo>
                    <a:pt x="529" y="210"/>
                  </a:lnTo>
                  <a:lnTo>
                    <a:pt x="504" y="228"/>
                  </a:lnTo>
                  <a:lnTo>
                    <a:pt x="480" y="236"/>
                  </a:lnTo>
                  <a:lnTo>
                    <a:pt x="472" y="245"/>
                  </a:lnTo>
                  <a:lnTo>
                    <a:pt x="447" y="272"/>
                  </a:lnTo>
                  <a:lnTo>
                    <a:pt x="423" y="280"/>
                  </a:lnTo>
                  <a:lnTo>
                    <a:pt x="399" y="298"/>
                  </a:lnTo>
                  <a:lnTo>
                    <a:pt x="374" y="315"/>
                  </a:lnTo>
                  <a:lnTo>
                    <a:pt x="358" y="333"/>
                  </a:lnTo>
                  <a:lnTo>
                    <a:pt x="333" y="351"/>
                  </a:lnTo>
                  <a:lnTo>
                    <a:pt x="309" y="368"/>
                  </a:lnTo>
                  <a:lnTo>
                    <a:pt x="285" y="386"/>
                  </a:lnTo>
                  <a:lnTo>
                    <a:pt x="260" y="412"/>
                  </a:lnTo>
                  <a:lnTo>
                    <a:pt x="244" y="421"/>
                  </a:lnTo>
                  <a:lnTo>
                    <a:pt x="219" y="438"/>
                  </a:lnTo>
                  <a:lnTo>
                    <a:pt x="203" y="456"/>
                  </a:lnTo>
                  <a:lnTo>
                    <a:pt x="187" y="473"/>
                  </a:lnTo>
                  <a:lnTo>
                    <a:pt x="171" y="482"/>
                  </a:lnTo>
                  <a:lnTo>
                    <a:pt x="162" y="491"/>
                  </a:lnTo>
                  <a:lnTo>
                    <a:pt x="154" y="500"/>
                  </a:lnTo>
                  <a:lnTo>
                    <a:pt x="130" y="526"/>
                  </a:lnTo>
                  <a:lnTo>
                    <a:pt x="122" y="535"/>
                  </a:lnTo>
                  <a:lnTo>
                    <a:pt x="105" y="552"/>
                  </a:lnTo>
                  <a:lnTo>
                    <a:pt x="89" y="561"/>
                  </a:lnTo>
                  <a:lnTo>
                    <a:pt x="73" y="596"/>
                  </a:lnTo>
                  <a:lnTo>
                    <a:pt x="65" y="614"/>
                  </a:lnTo>
                  <a:lnTo>
                    <a:pt x="48" y="640"/>
                  </a:lnTo>
                  <a:lnTo>
                    <a:pt x="48" y="658"/>
                  </a:lnTo>
                  <a:lnTo>
                    <a:pt x="32" y="684"/>
                  </a:lnTo>
                  <a:lnTo>
                    <a:pt x="16" y="719"/>
                  </a:lnTo>
                  <a:lnTo>
                    <a:pt x="8" y="737"/>
                  </a:lnTo>
                  <a:lnTo>
                    <a:pt x="8" y="763"/>
                  </a:lnTo>
                  <a:lnTo>
                    <a:pt x="0" y="807"/>
                  </a:lnTo>
                  <a:lnTo>
                    <a:pt x="0" y="825"/>
                  </a:lnTo>
                  <a:lnTo>
                    <a:pt x="0" y="868"/>
                  </a:lnTo>
                  <a:lnTo>
                    <a:pt x="0" y="895"/>
                  </a:lnTo>
                  <a:lnTo>
                    <a:pt x="0" y="930"/>
                  </a:lnTo>
                  <a:lnTo>
                    <a:pt x="0" y="956"/>
                  </a:lnTo>
                  <a:lnTo>
                    <a:pt x="0" y="983"/>
                  </a:lnTo>
                  <a:lnTo>
                    <a:pt x="8" y="1009"/>
                  </a:lnTo>
                  <a:lnTo>
                    <a:pt x="8" y="1035"/>
                  </a:lnTo>
                  <a:lnTo>
                    <a:pt x="16" y="1062"/>
                  </a:lnTo>
                  <a:lnTo>
                    <a:pt x="32" y="1088"/>
                  </a:lnTo>
                  <a:lnTo>
                    <a:pt x="48" y="1114"/>
                  </a:lnTo>
                  <a:lnTo>
                    <a:pt x="48" y="1141"/>
                  </a:lnTo>
                  <a:lnTo>
                    <a:pt x="65" y="1158"/>
                  </a:lnTo>
                  <a:lnTo>
                    <a:pt x="73" y="1193"/>
                  </a:lnTo>
                  <a:lnTo>
                    <a:pt x="89" y="1211"/>
                  </a:lnTo>
                  <a:lnTo>
                    <a:pt x="97" y="1237"/>
                  </a:lnTo>
                  <a:lnTo>
                    <a:pt x="114" y="1246"/>
                  </a:lnTo>
                  <a:lnTo>
                    <a:pt x="122" y="1263"/>
                  </a:lnTo>
                  <a:lnTo>
                    <a:pt x="138" y="1272"/>
                  </a:lnTo>
                  <a:lnTo>
                    <a:pt x="162" y="1316"/>
                  </a:lnTo>
                  <a:lnTo>
                    <a:pt x="195" y="1334"/>
                  </a:lnTo>
                  <a:lnTo>
                    <a:pt x="219" y="1369"/>
                  </a:lnTo>
                  <a:lnTo>
                    <a:pt x="252" y="1395"/>
                  </a:lnTo>
                  <a:lnTo>
                    <a:pt x="276" y="1421"/>
                  </a:lnTo>
                  <a:lnTo>
                    <a:pt x="309" y="1448"/>
                  </a:lnTo>
                  <a:lnTo>
                    <a:pt x="350" y="1474"/>
                  </a:lnTo>
                  <a:lnTo>
                    <a:pt x="382" y="1483"/>
                  </a:lnTo>
                  <a:lnTo>
                    <a:pt x="407" y="1509"/>
                  </a:lnTo>
                  <a:lnTo>
                    <a:pt x="439" y="1527"/>
                  </a:lnTo>
                  <a:lnTo>
                    <a:pt x="472" y="1544"/>
                  </a:lnTo>
                  <a:lnTo>
                    <a:pt x="513" y="1562"/>
                  </a:lnTo>
                  <a:lnTo>
                    <a:pt x="537" y="1571"/>
                  </a:lnTo>
                  <a:lnTo>
                    <a:pt x="570" y="1588"/>
                  </a:lnTo>
                  <a:lnTo>
                    <a:pt x="602" y="1597"/>
                  </a:lnTo>
                  <a:lnTo>
                    <a:pt x="635" y="1606"/>
                  </a:lnTo>
                  <a:lnTo>
                    <a:pt x="659" y="1615"/>
                  </a:lnTo>
                  <a:lnTo>
                    <a:pt x="684" y="1632"/>
                  </a:lnTo>
                  <a:lnTo>
                    <a:pt x="716" y="1641"/>
                  </a:lnTo>
                  <a:lnTo>
                    <a:pt x="749" y="1641"/>
                  </a:lnTo>
                  <a:lnTo>
                    <a:pt x="773" y="1650"/>
                  </a:lnTo>
                  <a:lnTo>
                    <a:pt x="798" y="1650"/>
                  </a:lnTo>
                  <a:lnTo>
                    <a:pt x="830" y="1667"/>
                  </a:lnTo>
                  <a:lnTo>
                    <a:pt x="863" y="1667"/>
                  </a:lnTo>
                  <a:lnTo>
                    <a:pt x="887" y="1676"/>
                  </a:lnTo>
                  <a:lnTo>
                    <a:pt x="912" y="1676"/>
                  </a:lnTo>
                  <a:lnTo>
                    <a:pt x="928" y="1676"/>
                  </a:lnTo>
                  <a:lnTo>
                    <a:pt x="961" y="1676"/>
                  </a:lnTo>
                  <a:lnTo>
                    <a:pt x="985" y="1685"/>
                  </a:lnTo>
                  <a:lnTo>
                    <a:pt x="1009" y="1685"/>
                  </a:lnTo>
                  <a:lnTo>
                    <a:pt x="1034" y="1685"/>
                  </a:lnTo>
                  <a:lnTo>
                    <a:pt x="1058" y="1685"/>
                  </a:lnTo>
                  <a:lnTo>
                    <a:pt x="1083" y="1694"/>
                  </a:lnTo>
                  <a:lnTo>
                    <a:pt x="1123" y="1694"/>
                  </a:lnTo>
                  <a:lnTo>
                    <a:pt x="1156" y="1694"/>
                  </a:lnTo>
                  <a:lnTo>
                    <a:pt x="1189" y="1694"/>
                  </a:lnTo>
                  <a:lnTo>
                    <a:pt x="1221" y="1694"/>
                  </a:lnTo>
                  <a:lnTo>
                    <a:pt x="1254" y="1694"/>
                  </a:lnTo>
                  <a:lnTo>
                    <a:pt x="1286" y="1694"/>
                  </a:lnTo>
                  <a:lnTo>
                    <a:pt x="1319" y="1676"/>
                  </a:lnTo>
                  <a:lnTo>
                    <a:pt x="1343" y="1676"/>
                  </a:lnTo>
                  <a:lnTo>
                    <a:pt x="1368" y="1676"/>
                  </a:lnTo>
                  <a:lnTo>
                    <a:pt x="1392" y="1676"/>
                  </a:lnTo>
                  <a:lnTo>
                    <a:pt x="1425" y="1667"/>
                  </a:lnTo>
                  <a:lnTo>
                    <a:pt x="1433" y="1667"/>
                  </a:lnTo>
                  <a:lnTo>
                    <a:pt x="1449" y="1667"/>
                  </a:lnTo>
                  <a:lnTo>
                    <a:pt x="1457" y="1667"/>
                  </a:lnTo>
                  <a:lnTo>
                    <a:pt x="1465" y="1658"/>
                  </a:lnTo>
                  <a:lnTo>
                    <a:pt x="1465" y="1658"/>
                  </a:lnTo>
                  <a:lnTo>
                    <a:pt x="1482" y="1650"/>
                  </a:lnTo>
                  <a:lnTo>
                    <a:pt x="1498" y="1632"/>
                  </a:lnTo>
                  <a:lnTo>
                    <a:pt x="1531" y="1615"/>
                  </a:lnTo>
                  <a:lnTo>
                    <a:pt x="1563" y="1597"/>
                  </a:lnTo>
                  <a:lnTo>
                    <a:pt x="1604" y="1571"/>
                  </a:lnTo>
                  <a:lnTo>
                    <a:pt x="1645" y="1544"/>
                  </a:lnTo>
                  <a:lnTo>
                    <a:pt x="1693" y="1518"/>
                  </a:lnTo>
                  <a:lnTo>
                    <a:pt x="1726" y="1500"/>
                  </a:lnTo>
                  <a:lnTo>
                    <a:pt x="1767" y="1474"/>
                  </a:lnTo>
                  <a:lnTo>
                    <a:pt x="1807" y="1448"/>
                  </a:lnTo>
                  <a:lnTo>
                    <a:pt x="1840" y="1421"/>
                  </a:lnTo>
                  <a:lnTo>
                    <a:pt x="1864" y="1413"/>
                  </a:lnTo>
                  <a:lnTo>
                    <a:pt x="1889" y="1386"/>
                  </a:lnTo>
                  <a:lnTo>
                    <a:pt x="1905" y="1386"/>
                  </a:lnTo>
                  <a:lnTo>
                    <a:pt x="1922" y="1378"/>
                  </a:lnTo>
                  <a:lnTo>
                    <a:pt x="1922" y="1378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8280" y="2203560"/>
              <a:ext cx="2680560" cy="2712960"/>
            </a:xfrm>
            <a:custGeom>
              <a:avLst/>
              <a:gdLst/>
              <a:ahLst/>
              <a:rect l="l" t="t" r="r" b="b"/>
              <a:pathLst>
                <a:path w="1900" h="1709">
                  <a:moveTo>
                    <a:pt x="0" y="316"/>
                  </a:moveTo>
                  <a:lnTo>
                    <a:pt x="8" y="316"/>
                  </a:lnTo>
                  <a:lnTo>
                    <a:pt x="24" y="316"/>
                  </a:lnTo>
                  <a:lnTo>
                    <a:pt x="48" y="308"/>
                  </a:lnTo>
                  <a:lnTo>
                    <a:pt x="88" y="290"/>
                  </a:lnTo>
                  <a:lnTo>
                    <a:pt x="129" y="281"/>
                  </a:lnTo>
                  <a:lnTo>
                    <a:pt x="185" y="264"/>
                  </a:lnTo>
                  <a:lnTo>
                    <a:pt x="250" y="255"/>
                  </a:lnTo>
                  <a:lnTo>
                    <a:pt x="315" y="228"/>
                  </a:lnTo>
                  <a:lnTo>
                    <a:pt x="387" y="220"/>
                  </a:lnTo>
                  <a:lnTo>
                    <a:pt x="460" y="202"/>
                  </a:lnTo>
                  <a:lnTo>
                    <a:pt x="549" y="193"/>
                  </a:lnTo>
                  <a:lnTo>
                    <a:pt x="630" y="176"/>
                  </a:lnTo>
                  <a:lnTo>
                    <a:pt x="719" y="176"/>
                  </a:lnTo>
                  <a:lnTo>
                    <a:pt x="800" y="167"/>
                  </a:lnTo>
                  <a:lnTo>
                    <a:pt x="888" y="176"/>
                  </a:lnTo>
                  <a:lnTo>
                    <a:pt x="985" y="176"/>
                  </a:lnTo>
                  <a:lnTo>
                    <a:pt x="1042" y="184"/>
                  </a:lnTo>
                  <a:lnTo>
                    <a:pt x="1107" y="202"/>
                  </a:lnTo>
                  <a:lnTo>
                    <a:pt x="1163" y="211"/>
                  </a:lnTo>
                  <a:lnTo>
                    <a:pt x="1228" y="228"/>
                  </a:lnTo>
                  <a:lnTo>
                    <a:pt x="1268" y="246"/>
                  </a:lnTo>
                  <a:lnTo>
                    <a:pt x="1333" y="264"/>
                  </a:lnTo>
                  <a:lnTo>
                    <a:pt x="1381" y="281"/>
                  </a:lnTo>
                  <a:lnTo>
                    <a:pt x="1430" y="299"/>
                  </a:lnTo>
                  <a:lnTo>
                    <a:pt x="1470" y="325"/>
                  </a:lnTo>
                  <a:lnTo>
                    <a:pt x="1519" y="352"/>
                  </a:lnTo>
                  <a:lnTo>
                    <a:pt x="1551" y="369"/>
                  </a:lnTo>
                  <a:lnTo>
                    <a:pt x="1600" y="396"/>
                  </a:lnTo>
                  <a:lnTo>
                    <a:pt x="1632" y="431"/>
                  </a:lnTo>
                  <a:lnTo>
                    <a:pt x="1672" y="457"/>
                  </a:lnTo>
                  <a:lnTo>
                    <a:pt x="1705" y="484"/>
                  </a:lnTo>
                  <a:lnTo>
                    <a:pt x="1745" y="510"/>
                  </a:lnTo>
                  <a:lnTo>
                    <a:pt x="1753" y="537"/>
                  </a:lnTo>
                  <a:lnTo>
                    <a:pt x="1769" y="554"/>
                  </a:lnTo>
                  <a:lnTo>
                    <a:pt x="1777" y="581"/>
                  </a:lnTo>
                  <a:lnTo>
                    <a:pt x="1802" y="589"/>
                  </a:lnTo>
                  <a:lnTo>
                    <a:pt x="1802" y="616"/>
                  </a:lnTo>
                  <a:lnTo>
                    <a:pt x="1818" y="633"/>
                  </a:lnTo>
                  <a:lnTo>
                    <a:pt x="1826" y="660"/>
                  </a:lnTo>
                  <a:lnTo>
                    <a:pt x="1834" y="669"/>
                  </a:lnTo>
                  <a:lnTo>
                    <a:pt x="1834" y="695"/>
                  </a:lnTo>
                  <a:lnTo>
                    <a:pt x="1842" y="721"/>
                  </a:lnTo>
                  <a:lnTo>
                    <a:pt x="1842" y="748"/>
                  </a:lnTo>
                  <a:lnTo>
                    <a:pt x="1858" y="757"/>
                  </a:lnTo>
                  <a:lnTo>
                    <a:pt x="1858" y="783"/>
                  </a:lnTo>
                  <a:lnTo>
                    <a:pt x="1858" y="801"/>
                  </a:lnTo>
                  <a:lnTo>
                    <a:pt x="1858" y="827"/>
                  </a:lnTo>
                  <a:lnTo>
                    <a:pt x="1858" y="836"/>
                  </a:lnTo>
                  <a:lnTo>
                    <a:pt x="1850" y="862"/>
                  </a:lnTo>
                  <a:lnTo>
                    <a:pt x="1850" y="880"/>
                  </a:lnTo>
                  <a:lnTo>
                    <a:pt x="1850" y="898"/>
                  </a:lnTo>
                  <a:lnTo>
                    <a:pt x="1850" y="915"/>
                  </a:lnTo>
                  <a:lnTo>
                    <a:pt x="1834" y="942"/>
                  </a:lnTo>
                  <a:lnTo>
                    <a:pt x="1834" y="950"/>
                  </a:lnTo>
                  <a:lnTo>
                    <a:pt x="1826" y="986"/>
                  </a:lnTo>
                  <a:lnTo>
                    <a:pt x="1826" y="994"/>
                  </a:lnTo>
                  <a:lnTo>
                    <a:pt x="1818" y="1021"/>
                  </a:lnTo>
                  <a:lnTo>
                    <a:pt x="1802" y="1038"/>
                  </a:lnTo>
                  <a:lnTo>
                    <a:pt x="1793" y="1065"/>
                  </a:lnTo>
                  <a:lnTo>
                    <a:pt x="1785" y="1074"/>
                  </a:lnTo>
                  <a:lnTo>
                    <a:pt x="1769" y="1109"/>
                  </a:lnTo>
                  <a:lnTo>
                    <a:pt x="1753" y="1118"/>
                  </a:lnTo>
                  <a:lnTo>
                    <a:pt x="1737" y="1144"/>
                  </a:lnTo>
                  <a:lnTo>
                    <a:pt x="1729" y="1153"/>
                  </a:lnTo>
                  <a:lnTo>
                    <a:pt x="1713" y="1170"/>
                  </a:lnTo>
                  <a:lnTo>
                    <a:pt x="1705" y="1179"/>
                  </a:lnTo>
                  <a:lnTo>
                    <a:pt x="1688" y="1197"/>
                  </a:lnTo>
                  <a:lnTo>
                    <a:pt x="1672" y="1206"/>
                  </a:lnTo>
                  <a:lnTo>
                    <a:pt x="1648" y="1232"/>
                  </a:lnTo>
                  <a:lnTo>
                    <a:pt x="1632" y="1241"/>
                  </a:lnTo>
                  <a:lnTo>
                    <a:pt x="1608" y="1267"/>
                  </a:lnTo>
                  <a:lnTo>
                    <a:pt x="1583" y="1285"/>
                  </a:lnTo>
                  <a:lnTo>
                    <a:pt x="1551" y="1303"/>
                  </a:lnTo>
                  <a:lnTo>
                    <a:pt x="1527" y="1338"/>
                  </a:lnTo>
                  <a:lnTo>
                    <a:pt x="1503" y="1355"/>
                  </a:lnTo>
                  <a:lnTo>
                    <a:pt x="1478" y="1373"/>
                  </a:lnTo>
                  <a:lnTo>
                    <a:pt x="1462" y="1399"/>
                  </a:lnTo>
                  <a:lnTo>
                    <a:pt x="1446" y="1408"/>
                  </a:lnTo>
                  <a:lnTo>
                    <a:pt x="1430" y="1426"/>
                  </a:lnTo>
                  <a:lnTo>
                    <a:pt x="1414" y="1426"/>
                  </a:lnTo>
                  <a:lnTo>
                    <a:pt x="1389" y="1443"/>
                  </a:lnTo>
                  <a:lnTo>
                    <a:pt x="1373" y="1461"/>
                  </a:lnTo>
                  <a:lnTo>
                    <a:pt x="1349" y="1479"/>
                  </a:lnTo>
                  <a:lnTo>
                    <a:pt x="1333" y="1487"/>
                  </a:lnTo>
                  <a:lnTo>
                    <a:pt x="1317" y="1496"/>
                  </a:lnTo>
                  <a:lnTo>
                    <a:pt x="1292" y="1514"/>
                  </a:lnTo>
                  <a:lnTo>
                    <a:pt x="1268" y="1523"/>
                  </a:lnTo>
                  <a:lnTo>
                    <a:pt x="1252" y="1540"/>
                  </a:lnTo>
                  <a:lnTo>
                    <a:pt x="1236" y="1567"/>
                  </a:lnTo>
                  <a:lnTo>
                    <a:pt x="1212" y="1575"/>
                  </a:lnTo>
                  <a:lnTo>
                    <a:pt x="1187" y="1584"/>
                  </a:lnTo>
                  <a:lnTo>
                    <a:pt x="1163" y="1602"/>
                  </a:lnTo>
                  <a:lnTo>
                    <a:pt x="1139" y="1611"/>
                  </a:lnTo>
                  <a:lnTo>
                    <a:pt x="1123" y="1628"/>
                  </a:lnTo>
                  <a:lnTo>
                    <a:pt x="1098" y="1637"/>
                  </a:lnTo>
                  <a:lnTo>
                    <a:pt x="1074" y="1655"/>
                  </a:lnTo>
                  <a:lnTo>
                    <a:pt x="1066" y="1663"/>
                  </a:lnTo>
                  <a:lnTo>
                    <a:pt x="1066" y="1663"/>
                  </a:lnTo>
                  <a:lnTo>
                    <a:pt x="1058" y="1663"/>
                  </a:lnTo>
                  <a:lnTo>
                    <a:pt x="1058" y="1663"/>
                  </a:lnTo>
                  <a:lnTo>
                    <a:pt x="1042" y="1672"/>
                  </a:lnTo>
                  <a:lnTo>
                    <a:pt x="1042" y="1672"/>
                  </a:lnTo>
                  <a:lnTo>
                    <a:pt x="1034" y="1672"/>
                  </a:lnTo>
                  <a:lnTo>
                    <a:pt x="1034" y="1672"/>
                  </a:lnTo>
                  <a:lnTo>
                    <a:pt x="1026" y="1690"/>
                  </a:lnTo>
                  <a:lnTo>
                    <a:pt x="1026" y="1690"/>
                  </a:lnTo>
                  <a:lnTo>
                    <a:pt x="1010" y="1699"/>
                  </a:lnTo>
                  <a:lnTo>
                    <a:pt x="1010" y="1699"/>
                  </a:lnTo>
                  <a:lnTo>
                    <a:pt x="1002" y="1708"/>
                  </a:lnTo>
                  <a:lnTo>
                    <a:pt x="1002" y="1708"/>
                  </a:lnTo>
                  <a:lnTo>
                    <a:pt x="1002" y="1708"/>
                  </a:lnTo>
                  <a:lnTo>
                    <a:pt x="1010" y="1708"/>
                  </a:lnTo>
                  <a:lnTo>
                    <a:pt x="1010" y="1708"/>
                  </a:lnTo>
                  <a:lnTo>
                    <a:pt x="1010" y="1708"/>
                  </a:lnTo>
                  <a:lnTo>
                    <a:pt x="1010" y="1708"/>
                  </a:lnTo>
                  <a:lnTo>
                    <a:pt x="1010" y="1708"/>
                  </a:lnTo>
                  <a:lnTo>
                    <a:pt x="1010" y="1708"/>
                  </a:lnTo>
                  <a:lnTo>
                    <a:pt x="1026" y="1708"/>
                  </a:lnTo>
                  <a:lnTo>
                    <a:pt x="1034" y="1708"/>
                  </a:lnTo>
                  <a:lnTo>
                    <a:pt x="1042" y="1690"/>
                  </a:lnTo>
                  <a:lnTo>
                    <a:pt x="1042" y="1690"/>
                  </a:lnTo>
                  <a:lnTo>
                    <a:pt x="1058" y="1690"/>
                  </a:lnTo>
                  <a:lnTo>
                    <a:pt x="1058" y="1690"/>
                  </a:lnTo>
                  <a:lnTo>
                    <a:pt x="1074" y="1681"/>
                  </a:lnTo>
                  <a:lnTo>
                    <a:pt x="1074" y="1681"/>
                  </a:lnTo>
                  <a:lnTo>
                    <a:pt x="1082" y="1681"/>
                  </a:lnTo>
                  <a:lnTo>
                    <a:pt x="1082" y="1681"/>
                  </a:lnTo>
                  <a:lnTo>
                    <a:pt x="1090" y="1672"/>
                  </a:lnTo>
                  <a:lnTo>
                    <a:pt x="1090" y="1672"/>
                  </a:lnTo>
                  <a:lnTo>
                    <a:pt x="1098" y="1672"/>
                  </a:lnTo>
                  <a:lnTo>
                    <a:pt x="1115" y="1663"/>
                  </a:lnTo>
                  <a:lnTo>
                    <a:pt x="1139" y="1646"/>
                  </a:lnTo>
                  <a:lnTo>
                    <a:pt x="1155" y="1637"/>
                  </a:lnTo>
                  <a:lnTo>
                    <a:pt x="1179" y="1619"/>
                  </a:lnTo>
                  <a:lnTo>
                    <a:pt x="1204" y="1611"/>
                  </a:lnTo>
                  <a:lnTo>
                    <a:pt x="1236" y="1584"/>
                  </a:lnTo>
                  <a:lnTo>
                    <a:pt x="1260" y="1575"/>
                  </a:lnTo>
                  <a:lnTo>
                    <a:pt x="1284" y="1558"/>
                  </a:lnTo>
                  <a:lnTo>
                    <a:pt x="1309" y="1549"/>
                  </a:lnTo>
                  <a:lnTo>
                    <a:pt x="1349" y="1523"/>
                  </a:lnTo>
                  <a:lnTo>
                    <a:pt x="1365" y="1505"/>
                  </a:lnTo>
                  <a:lnTo>
                    <a:pt x="1389" y="1487"/>
                  </a:lnTo>
                  <a:lnTo>
                    <a:pt x="1414" y="1479"/>
                  </a:lnTo>
                  <a:lnTo>
                    <a:pt x="1438" y="1461"/>
                  </a:lnTo>
                  <a:lnTo>
                    <a:pt x="1446" y="1443"/>
                  </a:lnTo>
                  <a:lnTo>
                    <a:pt x="1470" y="1426"/>
                  </a:lnTo>
                  <a:lnTo>
                    <a:pt x="1494" y="1417"/>
                  </a:lnTo>
                  <a:lnTo>
                    <a:pt x="1519" y="1399"/>
                  </a:lnTo>
                  <a:lnTo>
                    <a:pt x="1543" y="1382"/>
                  </a:lnTo>
                  <a:lnTo>
                    <a:pt x="1559" y="1355"/>
                  </a:lnTo>
                  <a:lnTo>
                    <a:pt x="1591" y="1347"/>
                  </a:lnTo>
                  <a:lnTo>
                    <a:pt x="1608" y="1320"/>
                  </a:lnTo>
                  <a:lnTo>
                    <a:pt x="1624" y="1303"/>
                  </a:lnTo>
                  <a:lnTo>
                    <a:pt x="1648" y="1294"/>
                  </a:lnTo>
                  <a:lnTo>
                    <a:pt x="1664" y="1276"/>
                  </a:lnTo>
                  <a:lnTo>
                    <a:pt x="1688" y="1250"/>
                  </a:lnTo>
                  <a:lnTo>
                    <a:pt x="1705" y="1241"/>
                  </a:lnTo>
                  <a:lnTo>
                    <a:pt x="1713" y="1232"/>
                  </a:lnTo>
                  <a:lnTo>
                    <a:pt x="1729" y="1214"/>
                  </a:lnTo>
                  <a:lnTo>
                    <a:pt x="1745" y="1197"/>
                  </a:lnTo>
                  <a:lnTo>
                    <a:pt x="1761" y="1188"/>
                  </a:lnTo>
                  <a:lnTo>
                    <a:pt x="1769" y="1170"/>
                  </a:lnTo>
                  <a:lnTo>
                    <a:pt x="1785" y="1162"/>
                  </a:lnTo>
                  <a:lnTo>
                    <a:pt x="1802" y="1135"/>
                  </a:lnTo>
                  <a:lnTo>
                    <a:pt x="1818" y="1118"/>
                  </a:lnTo>
                  <a:lnTo>
                    <a:pt x="1826" y="1091"/>
                  </a:lnTo>
                  <a:lnTo>
                    <a:pt x="1842" y="1074"/>
                  </a:lnTo>
                  <a:lnTo>
                    <a:pt x="1858" y="1047"/>
                  </a:lnTo>
                  <a:lnTo>
                    <a:pt x="1858" y="1021"/>
                  </a:lnTo>
                  <a:lnTo>
                    <a:pt x="1866" y="994"/>
                  </a:lnTo>
                  <a:lnTo>
                    <a:pt x="1874" y="968"/>
                  </a:lnTo>
                  <a:lnTo>
                    <a:pt x="1882" y="942"/>
                  </a:lnTo>
                  <a:lnTo>
                    <a:pt x="1882" y="915"/>
                  </a:lnTo>
                  <a:lnTo>
                    <a:pt x="1899" y="880"/>
                  </a:lnTo>
                  <a:lnTo>
                    <a:pt x="1899" y="845"/>
                  </a:lnTo>
                  <a:lnTo>
                    <a:pt x="1899" y="801"/>
                  </a:lnTo>
                  <a:lnTo>
                    <a:pt x="1899" y="774"/>
                  </a:lnTo>
                  <a:lnTo>
                    <a:pt x="1899" y="757"/>
                  </a:lnTo>
                  <a:lnTo>
                    <a:pt x="1882" y="721"/>
                  </a:lnTo>
                  <a:lnTo>
                    <a:pt x="1882" y="695"/>
                  </a:lnTo>
                  <a:lnTo>
                    <a:pt x="1874" y="669"/>
                  </a:lnTo>
                  <a:lnTo>
                    <a:pt x="1866" y="642"/>
                  </a:lnTo>
                  <a:lnTo>
                    <a:pt x="1858" y="616"/>
                  </a:lnTo>
                  <a:lnTo>
                    <a:pt x="1858" y="589"/>
                  </a:lnTo>
                  <a:lnTo>
                    <a:pt x="1842" y="572"/>
                  </a:lnTo>
                  <a:lnTo>
                    <a:pt x="1834" y="545"/>
                  </a:lnTo>
                  <a:lnTo>
                    <a:pt x="1818" y="519"/>
                  </a:lnTo>
                  <a:lnTo>
                    <a:pt x="1810" y="493"/>
                  </a:lnTo>
                  <a:lnTo>
                    <a:pt x="1802" y="484"/>
                  </a:lnTo>
                  <a:lnTo>
                    <a:pt x="1785" y="457"/>
                  </a:lnTo>
                  <a:lnTo>
                    <a:pt x="1777" y="449"/>
                  </a:lnTo>
                  <a:lnTo>
                    <a:pt x="1761" y="422"/>
                  </a:lnTo>
                  <a:lnTo>
                    <a:pt x="1729" y="396"/>
                  </a:lnTo>
                  <a:lnTo>
                    <a:pt x="1705" y="369"/>
                  </a:lnTo>
                  <a:lnTo>
                    <a:pt x="1664" y="343"/>
                  </a:lnTo>
                  <a:lnTo>
                    <a:pt x="1640" y="308"/>
                  </a:lnTo>
                  <a:lnTo>
                    <a:pt x="1608" y="290"/>
                  </a:lnTo>
                  <a:lnTo>
                    <a:pt x="1575" y="264"/>
                  </a:lnTo>
                  <a:lnTo>
                    <a:pt x="1535" y="237"/>
                  </a:lnTo>
                  <a:lnTo>
                    <a:pt x="1511" y="211"/>
                  </a:lnTo>
                  <a:lnTo>
                    <a:pt x="1478" y="202"/>
                  </a:lnTo>
                  <a:lnTo>
                    <a:pt x="1446" y="176"/>
                  </a:lnTo>
                  <a:lnTo>
                    <a:pt x="1406" y="167"/>
                  </a:lnTo>
                  <a:lnTo>
                    <a:pt x="1381" y="140"/>
                  </a:lnTo>
                  <a:lnTo>
                    <a:pt x="1349" y="123"/>
                  </a:lnTo>
                  <a:lnTo>
                    <a:pt x="1325" y="114"/>
                  </a:lnTo>
                  <a:lnTo>
                    <a:pt x="1292" y="105"/>
                  </a:lnTo>
                  <a:lnTo>
                    <a:pt x="1268" y="88"/>
                  </a:lnTo>
                  <a:lnTo>
                    <a:pt x="1236" y="88"/>
                  </a:lnTo>
                  <a:lnTo>
                    <a:pt x="1212" y="79"/>
                  </a:lnTo>
                  <a:lnTo>
                    <a:pt x="1171" y="70"/>
                  </a:lnTo>
                  <a:lnTo>
                    <a:pt x="1155" y="61"/>
                  </a:lnTo>
                  <a:lnTo>
                    <a:pt x="1115" y="61"/>
                  </a:lnTo>
                  <a:lnTo>
                    <a:pt x="1090" y="44"/>
                  </a:lnTo>
                  <a:lnTo>
                    <a:pt x="1066" y="44"/>
                  </a:lnTo>
                  <a:lnTo>
                    <a:pt x="1042" y="35"/>
                  </a:lnTo>
                  <a:lnTo>
                    <a:pt x="1010" y="35"/>
                  </a:lnTo>
                  <a:lnTo>
                    <a:pt x="985" y="35"/>
                  </a:lnTo>
                  <a:lnTo>
                    <a:pt x="961" y="35"/>
                  </a:lnTo>
                  <a:lnTo>
                    <a:pt x="945" y="17"/>
                  </a:lnTo>
                  <a:lnTo>
                    <a:pt x="913" y="17"/>
                  </a:lnTo>
                  <a:lnTo>
                    <a:pt x="896" y="17"/>
                  </a:lnTo>
                  <a:lnTo>
                    <a:pt x="872" y="17"/>
                  </a:lnTo>
                  <a:lnTo>
                    <a:pt x="848" y="0"/>
                  </a:lnTo>
                  <a:lnTo>
                    <a:pt x="816" y="8"/>
                  </a:lnTo>
                  <a:lnTo>
                    <a:pt x="783" y="8"/>
                  </a:lnTo>
                  <a:lnTo>
                    <a:pt x="743" y="8"/>
                  </a:lnTo>
                  <a:lnTo>
                    <a:pt x="719" y="8"/>
                  </a:lnTo>
                  <a:lnTo>
                    <a:pt x="678" y="17"/>
                  </a:lnTo>
                  <a:lnTo>
                    <a:pt x="646" y="17"/>
                  </a:lnTo>
                  <a:lnTo>
                    <a:pt x="606" y="17"/>
                  </a:lnTo>
                  <a:lnTo>
                    <a:pt x="589" y="17"/>
                  </a:lnTo>
                  <a:lnTo>
                    <a:pt x="549" y="35"/>
                  </a:lnTo>
                  <a:lnTo>
                    <a:pt x="525" y="35"/>
                  </a:lnTo>
                  <a:lnTo>
                    <a:pt x="501" y="35"/>
                  </a:lnTo>
                  <a:lnTo>
                    <a:pt x="476" y="35"/>
                  </a:lnTo>
                  <a:lnTo>
                    <a:pt x="460" y="35"/>
                  </a:lnTo>
                  <a:lnTo>
                    <a:pt x="452" y="35"/>
                  </a:lnTo>
                  <a:lnTo>
                    <a:pt x="444" y="35"/>
                  </a:lnTo>
                  <a:lnTo>
                    <a:pt x="444" y="35"/>
                  </a:lnTo>
                  <a:lnTo>
                    <a:pt x="436" y="44"/>
                  </a:lnTo>
                  <a:lnTo>
                    <a:pt x="420" y="52"/>
                  </a:lnTo>
                  <a:lnTo>
                    <a:pt x="395" y="70"/>
                  </a:lnTo>
                  <a:lnTo>
                    <a:pt x="371" y="88"/>
                  </a:lnTo>
                  <a:lnTo>
                    <a:pt x="331" y="114"/>
                  </a:lnTo>
                  <a:lnTo>
                    <a:pt x="298" y="132"/>
                  </a:lnTo>
                  <a:lnTo>
                    <a:pt x="250" y="158"/>
                  </a:lnTo>
                  <a:lnTo>
                    <a:pt x="218" y="176"/>
                  </a:lnTo>
                  <a:lnTo>
                    <a:pt x="169" y="211"/>
                  </a:lnTo>
                  <a:lnTo>
                    <a:pt x="137" y="237"/>
                  </a:lnTo>
                  <a:lnTo>
                    <a:pt x="96" y="264"/>
                  </a:lnTo>
                  <a:lnTo>
                    <a:pt x="72" y="281"/>
                  </a:lnTo>
                  <a:lnTo>
                    <a:pt x="40" y="299"/>
                  </a:lnTo>
                  <a:lnTo>
                    <a:pt x="16" y="308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5600" y="961920"/>
              <a:ext cx="1522080" cy="1143000"/>
            </a:xfrm>
            <a:custGeom>
              <a:avLst/>
              <a:gdLst/>
              <a:ahLst/>
              <a:rect l="l" t="t" r="r" b="b"/>
              <a:pathLst>
                <a:path w="1079" h="720">
                  <a:moveTo>
                    <a:pt x="0" y="582"/>
                  </a:moveTo>
                  <a:lnTo>
                    <a:pt x="40" y="650"/>
                  </a:lnTo>
                  <a:lnTo>
                    <a:pt x="121" y="599"/>
                  </a:lnTo>
                  <a:lnTo>
                    <a:pt x="186" y="719"/>
                  </a:lnTo>
                  <a:lnTo>
                    <a:pt x="316" y="487"/>
                  </a:lnTo>
                  <a:lnTo>
                    <a:pt x="818" y="188"/>
                  </a:lnTo>
                  <a:lnTo>
                    <a:pt x="1078" y="0"/>
                  </a:lnTo>
                  <a:lnTo>
                    <a:pt x="786" y="128"/>
                  </a:lnTo>
                  <a:lnTo>
                    <a:pt x="283" y="419"/>
                  </a:lnTo>
                  <a:lnTo>
                    <a:pt x="24" y="419"/>
                  </a:lnTo>
                  <a:lnTo>
                    <a:pt x="89" y="530"/>
                  </a:lnTo>
                  <a:lnTo>
                    <a:pt x="0" y="582"/>
                  </a:lnTo>
                  <a:lnTo>
                    <a:pt x="0" y="582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400" y="3303720"/>
              <a:ext cx="18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96280" y="3057480"/>
              <a:ext cx="889920" cy="792360"/>
            </a:xfrm>
            <a:custGeom>
              <a:avLst/>
              <a:gdLst/>
              <a:ahLst/>
              <a:rect l="l" t="t" r="r" b="b"/>
              <a:pathLst>
                <a:path w="631" h="499">
                  <a:moveTo>
                    <a:pt x="0" y="498"/>
                  </a:moveTo>
                  <a:lnTo>
                    <a:pt x="0" y="428"/>
                  </a:lnTo>
                  <a:lnTo>
                    <a:pt x="0" y="428"/>
                  </a:lnTo>
                  <a:lnTo>
                    <a:pt x="8" y="428"/>
                  </a:lnTo>
                  <a:lnTo>
                    <a:pt x="8" y="428"/>
                  </a:lnTo>
                  <a:lnTo>
                    <a:pt x="16" y="428"/>
                  </a:lnTo>
                  <a:lnTo>
                    <a:pt x="16" y="428"/>
                  </a:lnTo>
                  <a:lnTo>
                    <a:pt x="24" y="419"/>
                  </a:lnTo>
                  <a:lnTo>
                    <a:pt x="24" y="419"/>
                  </a:lnTo>
                  <a:lnTo>
                    <a:pt x="41" y="410"/>
                  </a:lnTo>
                  <a:lnTo>
                    <a:pt x="41" y="410"/>
                  </a:lnTo>
                  <a:lnTo>
                    <a:pt x="41" y="401"/>
                  </a:lnTo>
                  <a:lnTo>
                    <a:pt x="41" y="401"/>
                  </a:lnTo>
                  <a:lnTo>
                    <a:pt x="49" y="384"/>
                  </a:lnTo>
                  <a:lnTo>
                    <a:pt x="49" y="384"/>
                  </a:lnTo>
                  <a:lnTo>
                    <a:pt x="49" y="375"/>
                  </a:lnTo>
                  <a:lnTo>
                    <a:pt x="49" y="366"/>
                  </a:lnTo>
                  <a:lnTo>
                    <a:pt x="58" y="358"/>
                  </a:lnTo>
                  <a:lnTo>
                    <a:pt x="58" y="148"/>
                  </a:lnTo>
                  <a:lnTo>
                    <a:pt x="49" y="148"/>
                  </a:lnTo>
                  <a:lnTo>
                    <a:pt x="49" y="148"/>
                  </a:lnTo>
                  <a:lnTo>
                    <a:pt x="49" y="148"/>
                  </a:lnTo>
                  <a:lnTo>
                    <a:pt x="49" y="131"/>
                  </a:lnTo>
                  <a:lnTo>
                    <a:pt x="41" y="131"/>
                  </a:lnTo>
                  <a:lnTo>
                    <a:pt x="41" y="122"/>
                  </a:lnTo>
                  <a:lnTo>
                    <a:pt x="41" y="122"/>
                  </a:lnTo>
                  <a:lnTo>
                    <a:pt x="41" y="113"/>
                  </a:lnTo>
                  <a:lnTo>
                    <a:pt x="24" y="113"/>
                  </a:lnTo>
                  <a:lnTo>
                    <a:pt x="24" y="113"/>
                  </a:lnTo>
                  <a:lnTo>
                    <a:pt x="16" y="113"/>
                  </a:lnTo>
                  <a:lnTo>
                    <a:pt x="16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"/>
                  </a:lnTo>
                  <a:lnTo>
                    <a:pt x="290" y="0"/>
                  </a:lnTo>
                  <a:lnTo>
                    <a:pt x="290" y="96"/>
                  </a:lnTo>
                  <a:lnTo>
                    <a:pt x="198" y="96"/>
                  </a:lnTo>
                  <a:lnTo>
                    <a:pt x="198" y="200"/>
                  </a:lnTo>
                  <a:lnTo>
                    <a:pt x="348" y="200"/>
                  </a:lnTo>
                  <a:lnTo>
                    <a:pt x="348" y="200"/>
                  </a:lnTo>
                  <a:lnTo>
                    <a:pt x="356" y="200"/>
                  </a:lnTo>
                  <a:lnTo>
                    <a:pt x="373" y="200"/>
                  </a:lnTo>
                  <a:lnTo>
                    <a:pt x="381" y="183"/>
                  </a:lnTo>
                  <a:lnTo>
                    <a:pt x="381" y="183"/>
                  </a:lnTo>
                  <a:lnTo>
                    <a:pt x="389" y="174"/>
                  </a:lnTo>
                  <a:lnTo>
                    <a:pt x="389" y="166"/>
                  </a:lnTo>
                  <a:lnTo>
                    <a:pt x="397" y="148"/>
                  </a:lnTo>
                  <a:lnTo>
                    <a:pt x="389" y="148"/>
                  </a:lnTo>
                  <a:lnTo>
                    <a:pt x="389" y="139"/>
                  </a:lnTo>
                  <a:lnTo>
                    <a:pt x="381" y="131"/>
                  </a:lnTo>
                  <a:lnTo>
                    <a:pt x="381" y="113"/>
                  </a:lnTo>
                  <a:lnTo>
                    <a:pt x="373" y="113"/>
                  </a:lnTo>
                  <a:lnTo>
                    <a:pt x="356" y="104"/>
                  </a:lnTo>
                  <a:lnTo>
                    <a:pt x="348" y="104"/>
                  </a:lnTo>
                  <a:lnTo>
                    <a:pt x="348" y="96"/>
                  </a:lnTo>
                  <a:lnTo>
                    <a:pt x="290" y="96"/>
                  </a:lnTo>
                  <a:lnTo>
                    <a:pt x="290" y="0"/>
                  </a:lnTo>
                  <a:lnTo>
                    <a:pt x="422" y="0"/>
                  </a:lnTo>
                  <a:lnTo>
                    <a:pt x="447" y="8"/>
                  </a:lnTo>
                  <a:lnTo>
                    <a:pt x="472" y="17"/>
                  </a:lnTo>
                  <a:lnTo>
                    <a:pt x="497" y="34"/>
                  </a:lnTo>
                  <a:lnTo>
                    <a:pt x="522" y="43"/>
                  </a:lnTo>
                  <a:lnTo>
                    <a:pt x="530" y="69"/>
                  </a:lnTo>
                  <a:lnTo>
                    <a:pt x="555" y="96"/>
                  </a:lnTo>
                  <a:lnTo>
                    <a:pt x="555" y="113"/>
                  </a:lnTo>
                  <a:lnTo>
                    <a:pt x="571" y="131"/>
                  </a:lnTo>
                  <a:lnTo>
                    <a:pt x="563" y="166"/>
                  </a:lnTo>
                  <a:lnTo>
                    <a:pt x="563" y="183"/>
                  </a:lnTo>
                  <a:lnTo>
                    <a:pt x="555" y="218"/>
                  </a:lnTo>
                  <a:lnTo>
                    <a:pt x="555" y="235"/>
                  </a:lnTo>
                  <a:lnTo>
                    <a:pt x="530" y="262"/>
                  </a:lnTo>
                  <a:lnTo>
                    <a:pt x="522" y="279"/>
                  </a:lnTo>
                  <a:lnTo>
                    <a:pt x="497" y="288"/>
                  </a:lnTo>
                  <a:lnTo>
                    <a:pt x="472" y="297"/>
                  </a:lnTo>
                  <a:lnTo>
                    <a:pt x="555" y="428"/>
                  </a:lnTo>
                  <a:lnTo>
                    <a:pt x="630" y="428"/>
                  </a:lnTo>
                  <a:lnTo>
                    <a:pt x="630" y="498"/>
                  </a:lnTo>
                  <a:lnTo>
                    <a:pt x="406" y="498"/>
                  </a:lnTo>
                  <a:lnTo>
                    <a:pt x="256" y="305"/>
                  </a:lnTo>
                  <a:lnTo>
                    <a:pt x="198" y="305"/>
                  </a:lnTo>
                  <a:lnTo>
                    <a:pt x="207" y="358"/>
                  </a:lnTo>
                  <a:lnTo>
                    <a:pt x="207" y="366"/>
                  </a:lnTo>
                  <a:lnTo>
                    <a:pt x="207" y="375"/>
                  </a:lnTo>
                  <a:lnTo>
                    <a:pt x="207" y="384"/>
                  </a:lnTo>
                  <a:lnTo>
                    <a:pt x="207" y="38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07" y="410"/>
                  </a:lnTo>
                  <a:lnTo>
                    <a:pt x="215" y="410"/>
                  </a:lnTo>
                  <a:lnTo>
                    <a:pt x="215" y="419"/>
                  </a:lnTo>
                  <a:lnTo>
                    <a:pt x="223" y="419"/>
                  </a:lnTo>
                  <a:lnTo>
                    <a:pt x="223" y="428"/>
                  </a:lnTo>
                  <a:lnTo>
                    <a:pt x="240" y="428"/>
                  </a:lnTo>
                  <a:lnTo>
                    <a:pt x="240" y="428"/>
                  </a:lnTo>
                  <a:lnTo>
                    <a:pt x="248" y="428"/>
                  </a:lnTo>
                  <a:lnTo>
                    <a:pt x="248" y="428"/>
                  </a:lnTo>
                  <a:lnTo>
                    <a:pt x="256" y="428"/>
                  </a:lnTo>
                  <a:lnTo>
                    <a:pt x="256" y="498"/>
                  </a:lnTo>
                  <a:lnTo>
                    <a:pt x="0" y="498"/>
                  </a:lnTo>
                  <a:lnTo>
                    <a:pt x="0" y="498"/>
                  </a:lnTo>
                </a:path>
              </a:pathLst>
            </a:custGeom>
            <a:solidFill>
              <a:srgbClr val="3c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666880"/>
            <a:ext cx="8382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ilitary Academy in BRNO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echnical University Delf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ational Aerospac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44400" y="914400"/>
            <a:ext cx="7856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daptive </a:t>
            </a:r>
            <a:r>
              <a:rPr b="1" i="1" lang="en-US" sz="4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ckpit </a:t>
            </a:r>
            <a:r>
              <a:rPr b="1" i="1" lang="en-US" sz="4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nvironmen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 advTm="1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co-ordinator: Harrie Bohnen (bohnen@nlr.n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ftware co-ordinator: Fulko van Westrenen (westre@nlr.n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orkpackage leaders (see project pla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co-ordin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&amp; annual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 meetings (&amp; M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ssurance (document control she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u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livers: progress reports/MoM/harmonis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co-ord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ing / languages / plat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/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&amp; lic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V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package le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s activities &amp; monitors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rdinates work with other WP participant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control and assu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s project-co-ord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livers: progress report input/deliver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V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progress reports (every 2 months): 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(problem)/ purpose/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ties/ what went good or wrong / co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e/ budget/ nex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(other interesting fa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mon spreadsheet will follo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afd00"/>
                </a:solidFill>
                <a:latin typeface="Arial"/>
              </a:rPr>
              <a:t>Year 1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335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3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.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1828800"/>
            <a:ext cx="8229600" cy="990360"/>
            <a:chOff x="0" y="1828800"/>
            <a:chExt cx="8229600" cy="990360"/>
          </a:xfrm>
        </p:grpSpPr>
        <p:sp>
          <p:nvSpPr>
            <p:cNvPr id="86" name=""/>
            <p:cNvSpPr/>
            <p:nvPr/>
          </p:nvSpPr>
          <p:spPr>
            <a:xfrm>
              <a:off x="0" y="2666880"/>
              <a:ext cx="8229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57400" y="228600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29600" y="236196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20" y="182880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til April 2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9112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7220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432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0120" y="236196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774960" y="326556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2 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02400" y="4267080"/>
            <a:ext cx="16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5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05320"/>
            <a:ext cx="83664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809880"/>
            <a:ext cx="480060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191120"/>
            <a:ext cx="365760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572000"/>
            <a:ext cx="373356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88620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 4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952880"/>
            <a:ext cx="2971800" cy="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6 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208480" y="5410080"/>
            <a:ext cx="1497240" cy="504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19960" y="51055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7 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286000"/>
            <a:ext cx="0" cy="29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V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2 Literature study 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NL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3 Situation Assessor 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MA/NL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4 System functions, tasks def. &amp; databas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NLR/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5 Pilot model: operator characteristic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NLR/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6 Determination actual status 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NLR/T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7 Definition of on-line status concep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de3ba"/>
                </a:solidFill>
                <a:latin typeface="Arial"/>
              </a:rPr>
              <a:t>NLR/T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VI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8000"/>
          </a:bodyPr>
          <a:p>
            <a:pPr marL="335880" indent="-3358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P lead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2: Eamon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360 hr N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3: MA 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720 MA / 40 N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4: MA 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40 NLR / 400 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5: MA 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40 NLR / 475 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6: Harr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200 NLR / 40 TU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 7: Fulk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500 NLR / 40 TU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X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 distribution: year 2 and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2: WP 8 to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3: WP 14 to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-hour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 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2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4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co-ordination (IX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7000"/>
          </a:bodyPr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 addresses (complete for normal mail / emails / telephone numbers / fax numbers) to all ‘colleagu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for written document (word processor + form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equent communication: email (+attachments) / tele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requent communication: fax / 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deliverables / all partn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ortium meeting 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t WPs activities / first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progress report WPs: Friday June 15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afd00"/>
                </a:solidFill>
                <a:latin typeface="Arial"/>
              </a:rPr>
              <a:t>Programme (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gramme Thursday (morn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9.15 h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ival at NL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9.30 h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ffee, agenda and personal 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00 h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30 h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&amp; Coff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45 h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Co-ord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.0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The ACE concept (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is to acquire knowledge and hands-on experience on the usefulness of adaptive automation for fighter pilo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m is not develop software / technology but to determine when and how to help the pilot: in other words determining when (if...) the pilot is overloaded (according to us and himself) and how he wants us to help him is most import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experiments and one demon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The ACE concept (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7000"/>
          </a:bodyPr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 is about adaptivity: we should be able to anticipate informational needs (or overload) + intentions and provide information without the need for control by the user (that is: not ‘adaptable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dea is not to replace the user but to keep him in-the-l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stbed is an F-16 aircraft simulator (attra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lots will set user requirements (applica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 will set SW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219320"/>
            <a:ext cx="3124080" cy="157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219320"/>
            <a:ext cx="3505320" cy="157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3429000"/>
            <a:ext cx="4343400" cy="1747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re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put &amp; decide to act (or not) and 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5562720"/>
            <a:ext cx="4495680" cy="1015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8195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09720" y="2895480"/>
            <a:ext cx="8384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TU Del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4970520"/>
            <a:ext cx="8229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 3 SAR: military scenarios (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 4 Functions &amp; tasks (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 5 Pilot: operator characteristics (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 6 Determination actual status (NL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P 7 Definition of on-line status concept (NL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4572000" cy="212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SSION, FUNCTION &amp;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P 5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P 3 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P 4 Function &amp; tas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572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505320"/>
            <a:ext cx="34290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762120"/>
            <a:ext cx="3429000" cy="212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havi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P 6 &amp;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15000" y="2971800"/>
            <a:ext cx="5335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971800"/>
            <a:ext cx="91440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4343400"/>
            <a:ext cx="32004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TERFACE 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U Del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End of day 1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rk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Group discussions (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ual discussion (not technical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Theme (Fulko/Alex/Vladimir/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Theme (Eamonn/Jiri/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Theme (Fulko/Vladimir/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Theme (Eamonn/Alex/Jiri/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Group discussions (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(purpose) and what n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(+ ‘quality’ standar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s to other ACE the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Group discussions (I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iv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of’ resu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s to be lear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ppy if …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Deliverables first yea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LR: Progress reports / Literature review  report / Actual status measures report / Technical note applicable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D: n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: SAR module and report / Filled database and Technical note / Pilot model and Technical no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Deliverables second yea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LR: progress reports / Mock-up with capability of adaptive automation / validated conce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D: technical note (WAM) / sw development plan / operational WAM sw / technical note on logic / sw development plan / operational A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: n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gramme (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gramme Thursday (afterno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.15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E concept: discussion (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.15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&amp; T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.3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E concept: discussion (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.45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simulation depar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.3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day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Deliverables third yea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LR: progress reports / technical notes describing experiments / questionnaires / experiment ready mock-up / data / reports on experiments / demonstration / final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D: modified sw / final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: analysed data / reports on experiments / final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End of day 2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rk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gramme (I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gramme Friday (morn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0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E concept: group discu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15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p discussions (parallel) on Referenc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 &amp; Input Th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.00 hr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gramme (IV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gramme Friday (afternoon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.0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p discussions (parallel) on Logic Theme &amp;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Th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.45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&amp; T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.15 hr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s of discussion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.45 hr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-up of the ACE concept (discuss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.3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verables first, second and third y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.00 h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day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status (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4400" y="1935000"/>
            <a:ext cx="7858080" cy="32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25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n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2551"/>
              </a:spcBef>
              <a:buClr>
                <a:srgbClr val="fafd00"/>
              </a:buClr>
              <a:buSzPct val="8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ilitary Academy in Br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artment of Technical Cybernetics and Military Rob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2551"/>
              </a:spcBef>
              <a:buClr>
                <a:srgbClr val="fafd00"/>
              </a:buClr>
              <a:buSzPct val="8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University Del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aculty of Informatics &amp;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2551"/>
              </a:spcBef>
              <a:buClr>
                <a:srgbClr val="fafd00"/>
              </a:buClr>
              <a:buSzPct val="8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ational Aerospace Laboratory (NLR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man Factors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289080"/>
            <a:ext cx="78566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status (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act MoD/NLR (November 2000) &amp; TUD/NLR (March 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herlands / Czech Republic: MoU / 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LR / MA (letter …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proved by M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ly 17th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ly 31th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quested to M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nuary 1th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ember 31th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8120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status (III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actual work: March (visit MA) / April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equence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co-ordination budg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 (work) timeline &amp; almost no spare time le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 payment schedule (if approved by M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reduction in number of manhours (all partners last yea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288720"/>
            <a:ext cx="785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Project status (IV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934640"/>
            <a:ext cx="78580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ject plan (before end of M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ptive (not adapt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 concept (figure 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of kick-off meeting 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4T16:48:24Z</dcterms:created>
  <dc:creator>H. van Dort</dc:creator>
  <dc:description/>
  <dc:language>en-US</dc:language>
  <cp:lastModifiedBy>Human Factors Department</cp:lastModifiedBy>
  <cp:lastPrinted>2001-03-15T15:32:02Z</cp:lastPrinted>
  <dcterms:modified xsi:type="dcterms:W3CDTF">2001-04-26T06:20:38Z</dcterms:modified>
  <cp:revision>93</cp:revision>
  <dc:subject/>
  <dc:title>Master Sheet</dc:title>
</cp:coreProperties>
</file>