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5C8-5281-4183-8451-B19162A8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8DD-0AA8-492D-8E64-9B450021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7E6-4992-470B-855C-F791A8BA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881-EE69-4ABA-9F05-C4548ADD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5D77-57B9-4450-982D-8CF5CA4B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3B25-EB56-45B0-9246-B4802460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B1D7-3CAA-4CE7-8B7A-C09DFE7D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6976-DECA-429B-871B-C6526085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5F68-8B74-46D8-9D75-DE447645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14CA-A4F1-42B4-8BC1-C7A07B6C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756E-8897-4817-B85A-FD58092E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784-8A27-4DA4-8A2C-1E6B71B2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1E56-A098-452B-A0A8-4DA63406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118E-C175-4691-9F0C-78F9F64C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92DF-C6CD-47F4-A990-14DC360B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2706-4EEF-4181-939A-879203F8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1EF0-F724-4102-A952-0A2BB3A7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E58-1188-461D-8766-BB539131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DAA-0D8A-4E5E-927F-312B97CB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793-D31B-433C-9B7A-27757789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D30-8F7C-4934-BB9B-A7524C22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A5A-7EE6-4E3E-99C2-2EA105FF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EC2-CB65-4443-A5AF-752B6DFE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DD8-2675-4716-9EC5-D6DD3CD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70FA-63CB-426E-A185-9094F23040A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4434-FBB2-4057-A41B-0033B506901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gres</a:t>
            </a: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ject: Adaptive Cockpit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litary Academy B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pril 12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5213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71360" y="1452600"/>
          <a:ext cx="88027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52600"/>
                    <a:ext cx="88027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Generally conception of the Reference mo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What to 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hoosen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ctual state – resul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pen questions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connection to nex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modu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litera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cbcbcb"/>
                </a:solidFill>
                <a:latin typeface="Times New Roman"/>
              </a:rPr>
              <a:t>Situation Assessor </a:t>
            </a:r>
            <a:r>
              <a:rPr b="0" lang="en-US" sz="4300" spc="-1" strike="noStrike">
                <a:solidFill>
                  <a:srgbClr val="cbcbcb"/>
                </a:solidFill>
                <a:latin typeface="Times New Roman"/>
              </a:rPr>
              <a:t>&amp;</a:t>
            </a:r>
            <a:r>
              <a:rPr b="0" lang="cs-CZ" sz="4300" spc="-1" strike="noStrike">
                <a:solidFill>
                  <a:srgbClr val="cbcbcb"/>
                </a:solidFill>
                <a:latin typeface="Times New Roman"/>
              </a:rPr>
              <a:t> Recogniser (WP3)</a:t>
            </a:r>
            <a:endParaRPr b="0" lang="en-US" sz="43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31840" y="2073240"/>
            <a:ext cx="4703760" cy="3649680"/>
            <a:chOff x="2031840" y="2073240"/>
            <a:chExt cx="4703760" cy="3649680"/>
          </a:xfrm>
        </p:grpSpPr>
        <p:sp>
          <p:nvSpPr>
            <p:cNvPr id="138" name=""/>
            <p:cNvSpPr/>
            <p:nvPr/>
          </p:nvSpPr>
          <p:spPr>
            <a:xfrm>
              <a:off x="4051080" y="435600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51080" y="511812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11560" y="2968560"/>
              <a:ext cx="2482560" cy="2754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36920" y="3254400"/>
              <a:ext cx="20476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Inference eng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6920" y="4098960"/>
              <a:ext cx="20476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Rule 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66920" y="4400280"/>
              <a:ext cx="95868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48120" y="4763880"/>
              <a:ext cx="8017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v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42000" y="3940200"/>
              <a:ext cx="674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a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25880" y="2073240"/>
              <a:ext cx="9698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nt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03840" y="3071880"/>
              <a:ext cx="10317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is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31840" y="3678120"/>
              <a:ext cx="11718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/C state ve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08520" y="3593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09960" y="4403520"/>
              <a:ext cx="87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08520" y="5194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98920" y="2488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36920" y="4898880"/>
              <a:ext cx="2047680" cy="63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em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mission&gt;, &lt;task&gt;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, &lt;event&gt; and &lt;A/C state vector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mission_i&gt; :={&lt;task_1&gt;,&lt;task _2&gt;,&lt;task _3&gt;, ….,&lt;task _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m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}(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task_i&gt; := {&lt;event_1&gt;,&lt;event_2&gt;,&lt;event_3&gt;, ….,&lt;event_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}(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event_i&gt; := {&lt;A/C_state_vector_1&gt;, &lt;A/C_state_vector_2&gt;, &lt;A/C_state_vector_3&gt;, …, &lt;A/C_state_vector_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a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}(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11600" y="6091200"/>
            <a:ext cx="60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37640" y="444600"/>
            <a:ext cx="7038000" cy="5476680"/>
            <a:chOff x="737640" y="444600"/>
            <a:chExt cx="7038000" cy="5476680"/>
          </a:xfrm>
        </p:grpSpPr>
        <p:sp>
          <p:nvSpPr>
            <p:cNvPr id="157" name=""/>
            <p:cNvSpPr/>
            <p:nvPr/>
          </p:nvSpPr>
          <p:spPr>
            <a:xfrm>
              <a:off x="2262240" y="2228760"/>
              <a:ext cx="917640" cy="43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00480" y="2301840"/>
              <a:ext cx="588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00480" y="230832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2240" y="1692360"/>
              <a:ext cx="917640" cy="44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00480" y="1766880"/>
              <a:ext cx="4237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01200" y="17748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54240" y="1573200"/>
              <a:ext cx="1135080" cy="12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54600" y="3417840"/>
              <a:ext cx="915840" cy="44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1040" y="3506760"/>
              <a:ext cx="588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1040" y="351468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4600" y="2882880"/>
              <a:ext cx="915840" cy="46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91040" y="2973240"/>
              <a:ext cx="4255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91760" y="297972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44800" y="2762280"/>
              <a:ext cx="1135080" cy="12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32560" y="4640400"/>
              <a:ext cx="930240" cy="44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81600" y="4727520"/>
              <a:ext cx="588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81600" y="473400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2560" y="4103640"/>
              <a:ext cx="930240" cy="44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81600" y="4192560"/>
              <a:ext cx="4269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82320" y="4197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22760" y="3984480"/>
              <a:ext cx="1146240" cy="122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86080" y="21844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3400" y="2093760"/>
              <a:ext cx="150840" cy="165240"/>
            </a:xfrm>
            <a:custGeom>
              <a:avLst/>
              <a:gdLst/>
              <a:ahLst/>
              <a:rect l="l" t="t" r="r" b="b"/>
              <a:pathLst>
                <a:path w="95" h="104">
                  <a:moveTo>
                    <a:pt x="0" y="104"/>
                  </a:moveTo>
                  <a:lnTo>
                    <a:pt x="95" y="57"/>
                  </a:lnTo>
                  <a:lnTo>
                    <a:pt x="0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86080" y="2184480"/>
              <a:ext cx="4310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81960" y="2093760"/>
              <a:ext cx="149040" cy="165240"/>
            </a:xfrm>
            <a:custGeom>
              <a:avLst/>
              <a:gdLst/>
              <a:ahLst/>
              <a:rect l="l" t="t" r="r" b="b"/>
              <a:pathLst>
                <a:path w="94" h="104">
                  <a:moveTo>
                    <a:pt x="0" y="104"/>
                  </a:moveTo>
                  <a:lnTo>
                    <a:pt x="94" y="57"/>
                  </a:lnTo>
                  <a:lnTo>
                    <a:pt x="0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63920" y="3375000"/>
              <a:ext cx="244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8360" y="3298680"/>
              <a:ext cx="136440" cy="163800"/>
            </a:xfrm>
            <a:custGeom>
              <a:avLst/>
              <a:gdLst/>
              <a:ahLst/>
              <a:rect l="l" t="t" r="r" b="b"/>
              <a:pathLst>
                <a:path w="86" h="103">
                  <a:moveTo>
                    <a:pt x="0" y="103"/>
                  </a:moveTo>
                  <a:lnTo>
                    <a:pt x="86" y="48"/>
                  </a:lnTo>
                  <a:lnTo>
                    <a:pt x="0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463920" y="2184120"/>
              <a:ext cx="1440" cy="11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08480" y="2109960"/>
              <a:ext cx="1378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5141520" y="3417840"/>
              <a:ext cx="3240" cy="12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84640" y="3359160"/>
              <a:ext cx="141480" cy="15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00240" y="4622760"/>
              <a:ext cx="25117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987800" y="3419640"/>
              <a:ext cx="25941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69360" y="3344760"/>
              <a:ext cx="149040" cy="162000"/>
            </a:xfrm>
            <a:custGeom>
              <a:avLst/>
              <a:gdLst/>
              <a:ahLst/>
              <a:rect l="l" t="t" r="r" b="b"/>
              <a:pathLst>
                <a:path w="94" h="102">
                  <a:moveTo>
                    <a:pt x="0" y="102"/>
                  </a:moveTo>
                  <a:lnTo>
                    <a:pt x="94" y="46"/>
                  </a:lnTo>
                  <a:lnTo>
                    <a:pt x="0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54960" y="4622760"/>
              <a:ext cx="9270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69360" y="4549680"/>
              <a:ext cx="149040" cy="16344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0" y="103"/>
                  </a:moveTo>
                  <a:lnTo>
                    <a:pt x="94" y="46"/>
                  </a:lnTo>
                  <a:lnTo>
                    <a:pt x="0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831000" y="4622760"/>
              <a:ext cx="3240" cy="12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64400" y="4564080"/>
              <a:ext cx="139680" cy="15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359080" y="5827680"/>
              <a:ext cx="4471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359080" y="2925360"/>
              <a:ext cx="1440" cy="290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90680" y="276228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5" y="103"/>
                  </a:moveTo>
                  <a:lnTo>
                    <a:pt x="43" y="0"/>
                  </a:lnTo>
                  <a:lnTo>
                    <a:pt x="0" y="103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000240" y="2925720"/>
              <a:ext cx="1800" cy="169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32200" y="276228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5" y="103"/>
                  </a:moveTo>
                  <a:lnTo>
                    <a:pt x="43" y="0"/>
                  </a:lnTo>
                  <a:lnTo>
                    <a:pt x="0" y="103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732200" y="4116240"/>
              <a:ext cx="1800" cy="171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78200" y="5754600"/>
              <a:ext cx="138240" cy="166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62360" y="3968640"/>
              <a:ext cx="15084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95" y="102"/>
                  </a:moveTo>
                  <a:lnTo>
                    <a:pt x="44" y="0"/>
                  </a:lnTo>
                  <a:lnTo>
                    <a:pt x="0" y="102"/>
                  </a:lnTo>
                  <a:lnTo>
                    <a:pt x="95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741760" y="725040"/>
              <a:ext cx="1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71920" y="1407960"/>
              <a:ext cx="137880" cy="165240"/>
            </a:xfrm>
            <a:custGeom>
              <a:avLst/>
              <a:gdLst/>
              <a:ahLst/>
              <a:rect l="l" t="t" r="r" b="b"/>
              <a:pathLst>
                <a:path w="87" h="104">
                  <a:moveTo>
                    <a:pt x="0" y="0"/>
                  </a:moveTo>
                  <a:lnTo>
                    <a:pt x="44" y="104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1920" y="652320"/>
              <a:ext cx="1522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433760" y="725400"/>
              <a:ext cx="1800" cy="18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62480" y="261468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0" y="0"/>
                  </a:moveTo>
                  <a:lnTo>
                    <a:pt x="45" y="93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78320" y="652320"/>
              <a:ext cx="138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135840" y="725040"/>
              <a:ext cx="1440" cy="31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54840" y="3835440"/>
              <a:ext cx="150840" cy="14904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0" y="0"/>
                  </a:moveTo>
                  <a:lnTo>
                    <a:pt x="51" y="94"/>
                  </a:lnTo>
                  <a:lnTo>
                    <a:pt x="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130400" y="725400"/>
              <a:ext cx="5005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30400" y="725400"/>
              <a:ext cx="806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55680" y="444600"/>
              <a:ext cx="601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55680" y="450720"/>
              <a:ext cx="59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tex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00240" y="4280040"/>
              <a:ext cx="9432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37040" y="4356000"/>
              <a:ext cx="603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35240" y="4362480"/>
              <a:ext cx="59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tex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59080" y="5472000"/>
              <a:ext cx="9428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81120" y="5545080"/>
              <a:ext cx="603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81120" y="5551560"/>
              <a:ext cx="59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tex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55680" y="1900080"/>
              <a:ext cx="47628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7640" y="1892160"/>
              <a:ext cx="76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/C sta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vect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31000" y="1827360"/>
              <a:ext cx="9446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56280" y="1900080"/>
              <a:ext cx="6019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88240" y="19191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92840" y="3060720"/>
              <a:ext cx="9432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4240" y="3137040"/>
              <a:ext cx="682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2520" y="315900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92840" y="4265640"/>
              <a:ext cx="9432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15240" y="4341960"/>
              <a:ext cx="6015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15960" y="434808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iss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5390280" y="4553280"/>
              <a:ext cx="137880" cy="149040"/>
            </a:xfrm>
            <a:custGeom>
              <a:avLst/>
              <a:gdLst/>
              <a:ahLst/>
              <a:rect l="l" t="t" r="r" b="b"/>
              <a:pathLst>
                <a:path w="87" h="94">
                  <a:moveTo>
                    <a:pt x="0" y="0"/>
                  </a:moveTo>
                  <a:lnTo>
                    <a:pt x="43" y="94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5280" y="4540320"/>
              <a:ext cx="141120" cy="15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752480" y="241200"/>
            <a:ext cx="5747040" cy="5956560"/>
            <a:chOff x="1752480" y="241200"/>
            <a:chExt cx="5747040" cy="5956560"/>
          </a:xfrm>
        </p:grpSpPr>
        <p:sp>
          <p:nvSpPr>
            <p:cNvPr id="235" name=""/>
            <p:cNvSpPr/>
            <p:nvPr/>
          </p:nvSpPr>
          <p:spPr>
            <a:xfrm>
              <a:off x="2070000" y="241200"/>
              <a:ext cx="4394160" cy="5956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58960" y="3273480"/>
              <a:ext cx="106668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11480" y="309600"/>
              <a:ext cx="2822760" cy="151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98920" y="338040"/>
              <a:ext cx="20001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3880" y="393840"/>
              <a:ext cx="1693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Knowledge 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1640" y="757080"/>
              <a:ext cx="907920" cy="26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5760" y="817560"/>
              <a:ext cx="71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CONTEX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0400" y="757080"/>
              <a:ext cx="1411200" cy="26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35800" y="80028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MISS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73520" y="1263600"/>
              <a:ext cx="162396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task_state_diagra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70280" y="1519200"/>
              <a:ext cx="16207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Event_state_diagra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125880" y="1104840"/>
              <a:ext cx="2798280" cy="9720"/>
              <a:chOff x="3125880" y="1104840"/>
              <a:chExt cx="2798280" cy="9720"/>
            </a:xfrm>
          </p:grpSpPr>
          <p:sp>
            <p:nvSpPr>
              <p:cNvPr id="247" name=""/>
              <p:cNvSpPr/>
              <p:nvPr/>
            </p:nvSpPr>
            <p:spPr>
              <a:xfrm>
                <a:off x="312588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8" y="0"/>
                    </a:move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8924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5440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1776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8112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4628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1000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7336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63852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70188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65600" y="1104840"/>
                <a:ext cx="4536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30400" y="110484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9412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5748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22640" y="1104840"/>
                <a:ext cx="439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8600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4972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0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14880" y="1104840"/>
                <a:ext cx="439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7824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4160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0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06760" y="110484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70480" y="1104840"/>
                <a:ext cx="4536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3384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0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99000" y="1104840"/>
                <a:ext cx="439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6236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2572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5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90880" y="110484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460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1796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5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83120" y="1104840"/>
                <a:ext cx="439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4648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1020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75000" y="110484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3872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30208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67240" y="1104840"/>
                <a:ext cx="439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3060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9432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559480" y="1104840"/>
                <a:ext cx="439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62284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68620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51360" y="110484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15080" y="1104840"/>
                <a:ext cx="4536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3" y="12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5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78440" y="110484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111480" y="4883040"/>
              <a:ext cx="2832120" cy="123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13200" y="4863960"/>
              <a:ext cx="12384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02120" y="4919760"/>
              <a:ext cx="933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87600" y="5521320"/>
              <a:ext cx="1297080" cy="3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27160" y="5576760"/>
              <a:ext cx="4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59200" y="5521320"/>
              <a:ext cx="831960" cy="3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79800" y="5583240"/>
              <a:ext cx="58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21200" y="2692440"/>
              <a:ext cx="2822400" cy="13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49600" y="2682720"/>
              <a:ext cx="20970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36000" y="2736720"/>
              <a:ext cx="179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nference mod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9800" y="3243240"/>
              <a:ext cx="111600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32080" y="3300480"/>
              <a:ext cx="81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Module_co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11840" y="4006800"/>
              <a:ext cx="947520" cy="876240"/>
            </a:xfrm>
            <a:custGeom>
              <a:avLst/>
              <a:gdLst/>
              <a:ahLst/>
              <a:rect l="l" t="t" r="r" b="b"/>
              <a:pathLst>
                <a:path w="1192" h="1068">
                  <a:moveTo>
                    <a:pt x="0" y="267"/>
                  </a:moveTo>
                  <a:lnTo>
                    <a:pt x="298" y="267"/>
                  </a:lnTo>
                  <a:lnTo>
                    <a:pt x="298" y="1068"/>
                  </a:lnTo>
                  <a:lnTo>
                    <a:pt x="895" y="1068"/>
                  </a:lnTo>
                  <a:lnTo>
                    <a:pt x="895" y="267"/>
                  </a:lnTo>
                  <a:lnTo>
                    <a:pt x="1192" y="267"/>
                  </a:lnTo>
                  <a:lnTo>
                    <a:pt x="597" y="0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92560" y="4014720"/>
              <a:ext cx="947520" cy="868320"/>
            </a:xfrm>
            <a:custGeom>
              <a:avLst/>
              <a:gdLst/>
              <a:ahLst/>
              <a:rect l="l" t="t" r="r" b="b"/>
              <a:pathLst>
                <a:path w="1195" h="1070">
                  <a:moveTo>
                    <a:pt x="0" y="803"/>
                  </a:moveTo>
                  <a:lnTo>
                    <a:pt x="300" y="803"/>
                  </a:lnTo>
                  <a:lnTo>
                    <a:pt x="300" y="0"/>
                  </a:lnTo>
                  <a:lnTo>
                    <a:pt x="895" y="0"/>
                  </a:lnTo>
                  <a:lnTo>
                    <a:pt x="895" y="803"/>
                  </a:lnTo>
                  <a:lnTo>
                    <a:pt x="1195" y="803"/>
                  </a:lnTo>
                  <a:lnTo>
                    <a:pt x="598" y="1070"/>
                  </a:lnTo>
                  <a:lnTo>
                    <a:pt x="0" y="8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92560" y="1825560"/>
              <a:ext cx="947520" cy="866880"/>
            </a:xfrm>
            <a:custGeom>
              <a:avLst/>
              <a:gdLst/>
              <a:ahLst/>
              <a:rect l="l" t="t" r="r" b="b"/>
              <a:pathLst>
                <a:path w="1195" h="1068">
                  <a:moveTo>
                    <a:pt x="0" y="267"/>
                  </a:moveTo>
                  <a:lnTo>
                    <a:pt x="300" y="267"/>
                  </a:lnTo>
                  <a:lnTo>
                    <a:pt x="300" y="1068"/>
                  </a:lnTo>
                  <a:lnTo>
                    <a:pt x="895" y="1068"/>
                  </a:lnTo>
                  <a:lnTo>
                    <a:pt x="895" y="267"/>
                  </a:lnTo>
                  <a:lnTo>
                    <a:pt x="1195" y="267"/>
                  </a:lnTo>
                  <a:lnTo>
                    <a:pt x="598" y="0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02120" y="1833480"/>
              <a:ext cx="947880" cy="847800"/>
            </a:xfrm>
            <a:custGeom>
              <a:avLst/>
              <a:gdLst/>
              <a:ahLst/>
              <a:rect l="l" t="t" r="r" b="b"/>
              <a:pathLst>
                <a:path w="1192" h="1068">
                  <a:moveTo>
                    <a:pt x="0" y="801"/>
                  </a:moveTo>
                  <a:lnTo>
                    <a:pt x="298" y="801"/>
                  </a:lnTo>
                  <a:lnTo>
                    <a:pt x="298" y="0"/>
                  </a:lnTo>
                  <a:lnTo>
                    <a:pt x="895" y="0"/>
                  </a:lnTo>
                  <a:lnTo>
                    <a:pt x="895" y="801"/>
                  </a:lnTo>
                  <a:lnTo>
                    <a:pt x="1192" y="801"/>
                  </a:lnTo>
                  <a:lnTo>
                    <a:pt x="597" y="1068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01840" y="3102120"/>
              <a:ext cx="797040" cy="598320"/>
            </a:xfrm>
            <a:custGeom>
              <a:avLst/>
              <a:gdLst/>
              <a:ahLst/>
              <a:rect l="l" t="t" r="r" b="b"/>
              <a:pathLst>
                <a:path w="1005" h="755">
                  <a:moveTo>
                    <a:pt x="753" y="0"/>
                  </a:moveTo>
                  <a:lnTo>
                    <a:pt x="753" y="188"/>
                  </a:lnTo>
                  <a:lnTo>
                    <a:pt x="0" y="188"/>
                  </a:lnTo>
                  <a:lnTo>
                    <a:pt x="0" y="567"/>
                  </a:lnTo>
                  <a:lnTo>
                    <a:pt x="753" y="567"/>
                  </a:lnTo>
                  <a:lnTo>
                    <a:pt x="753" y="755"/>
                  </a:lnTo>
                  <a:lnTo>
                    <a:pt x="1005" y="378"/>
                  </a:lnTo>
                  <a:lnTo>
                    <a:pt x="75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01840" y="701640"/>
              <a:ext cx="800280" cy="584280"/>
            </a:xfrm>
            <a:custGeom>
              <a:avLst/>
              <a:gdLst/>
              <a:ahLst/>
              <a:rect l="l" t="t" r="r" b="b"/>
              <a:pathLst>
                <a:path w="1008" h="735">
                  <a:moveTo>
                    <a:pt x="757" y="0"/>
                  </a:moveTo>
                  <a:lnTo>
                    <a:pt x="757" y="184"/>
                  </a:lnTo>
                  <a:lnTo>
                    <a:pt x="0" y="184"/>
                  </a:lnTo>
                  <a:lnTo>
                    <a:pt x="0" y="551"/>
                  </a:lnTo>
                  <a:lnTo>
                    <a:pt x="757" y="551"/>
                  </a:lnTo>
                  <a:lnTo>
                    <a:pt x="757" y="735"/>
                  </a:lnTo>
                  <a:lnTo>
                    <a:pt x="1008" y="368"/>
                  </a:lnTo>
                  <a:lnTo>
                    <a:pt x="75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90680" y="853920"/>
              <a:ext cx="295200" cy="26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77960" y="1143000"/>
              <a:ext cx="1800" cy="2108160"/>
            </a:xfrm>
            <a:custGeom>
              <a:avLst/>
              <a:gdLst/>
              <a:ahLst/>
              <a:rect l="l" t="t" r="r" b="b"/>
              <a:pathLst>
                <a:path w="1" h="1328">
                  <a:moveTo>
                    <a:pt x="0" y="132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52480" y="863640"/>
              <a:ext cx="549360" cy="2685960"/>
            </a:xfrm>
            <a:custGeom>
              <a:avLst/>
              <a:gdLst/>
              <a:ahLst/>
              <a:rect l="l" t="t" r="r" b="b"/>
              <a:pathLst>
                <a:path w="346" h="1692">
                  <a:moveTo>
                    <a:pt x="346" y="1691"/>
                  </a:moveTo>
                  <a:lnTo>
                    <a:pt x="0" y="1692"/>
                  </a:lnTo>
                  <a:lnTo>
                    <a:pt x="0" y="1516"/>
                  </a:lnTo>
                  <a:lnTo>
                    <a:pt x="336" y="151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52200" y="332280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External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51520" y="3016080"/>
              <a:ext cx="1548000" cy="694080"/>
            </a:xfrm>
            <a:custGeom>
              <a:avLst/>
              <a:gdLst/>
              <a:ahLst/>
              <a:rect l="l" t="t" r="r" b="b"/>
              <a:pathLst>
                <a:path w="1951" h="876">
                  <a:moveTo>
                    <a:pt x="1463" y="0"/>
                  </a:moveTo>
                  <a:lnTo>
                    <a:pt x="1463" y="219"/>
                  </a:lnTo>
                  <a:lnTo>
                    <a:pt x="0" y="219"/>
                  </a:lnTo>
                  <a:lnTo>
                    <a:pt x="0" y="657"/>
                  </a:lnTo>
                  <a:lnTo>
                    <a:pt x="1463" y="657"/>
                  </a:lnTo>
                  <a:lnTo>
                    <a:pt x="1463" y="876"/>
                  </a:lnTo>
                  <a:lnTo>
                    <a:pt x="1951" y="438"/>
                  </a:lnTo>
                  <a:lnTo>
                    <a:pt x="146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78680" y="3225960"/>
              <a:ext cx="1028520" cy="26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76240" y="3262320"/>
              <a:ext cx="74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Output st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571680" y="438120"/>
          <a:ext cx="11169360" cy="801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38120"/>
                    <a:ext cx="11169360" cy="80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7093080" y="1434960"/>
          <a:ext cx="11360160" cy="580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1434960"/>
                    <a:ext cx="1136016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6146640" y="3314880"/>
            <a:ext cx="939960" cy="444240"/>
          </a:xfrm>
          <a:prstGeom prst="leftArrow">
            <a:avLst>
              <a:gd name="adj1" fmla="val 50000"/>
              <a:gd name="adj2" fmla="val 52897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Functions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&amp;</a:t>
            </a: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 Tasks dataBase (WP4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he mathematic model of plane movement in the ar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ordinate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ane equations of mo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inearization and decomposition plane equation of mo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sult-recapit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ilot Model (WP5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Pilot model as a part of general problem of human activity modell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Basic tasks fulfilled by pilo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Pilot model as a knowledge based syst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General structure of knowledge subsyst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For the fulfilling the knowledge base of the PM and for its validation is necessary to have outputs from other WP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’s namely WP6 nadWP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resentation contex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ntribution to the ACE system analysis - intelligent control approach to the system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ituation Assess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Recogniser (WP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unction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Tasks dataBase (WP4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ilot Model (WP5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uture Advance Pl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Basic tasks fulfilled by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62120" y="1905120"/>
          <a:ext cx="789120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89120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ilot model as knowledge based syste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209680" y="1600200"/>
          <a:ext cx="507708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50770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bcbcb"/>
                </a:solidFill>
                <a:latin typeface="Times New Roman"/>
              </a:rPr>
              <a:t>The basic structure of the knowledge syste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Contribution to the ACE system analysi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ystem analysis and IC principle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nowledge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volutionary synthe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nowledge structure of the AC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comendation for submodels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bcbcb"/>
                </a:solidFill>
                <a:latin typeface="Times New Roman"/>
              </a:rPr>
              <a:t>Most general - set or knowledge representation </a:t>
            </a: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Times New Roman"/>
              </a:rPr>
              <a:t>of the ACE system</a:t>
            </a:r>
            <a:r>
              <a:rPr b="0" lang="cs-CZ" sz="2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98680" y="1981080"/>
          <a:ext cx="6146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981080"/>
                    <a:ext cx="6146640" cy="41148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301760" y="6184800"/>
          <a:ext cx="6345360" cy="217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1760" y="6184800"/>
                    <a:ext cx="634536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850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X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uaton set (in most general sense state of pilo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ychical and physiological pilot state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nd tasks of pilot (incl. Mission, task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 of environment ( light,  sound, enemy, event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al state of aircraft and its equip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state of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- acting - adapting s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of possible adapting action and procedures - reconfiguration of presented information, warning signal, re-allocation of tasks pilot - machine, modifying the planned action , 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bcbcb"/>
                </a:solidFill>
                <a:latin typeface="Times New Roman"/>
              </a:rPr>
              <a:t>ACE - knowledge model representatio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70080" y="3162240"/>
          <a:ext cx="6286320" cy="21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3162240"/>
                    <a:ext cx="628632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095560" y="1473120"/>
          <a:ext cx="4419720" cy="15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1473120"/>
                    <a:ext cx="441972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095560" y="3098880"/>
          <a:ext cx="4495680" cy="15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5560" y="3098880"/>
                    <a:ext cx="44956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095560" y="4775040"/>
          <a:ext cx="4495680" cy="15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95560" y="4775040"/>
                    <a:ext cx="44956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ilot model constru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Question – concurrently solved by Czech Technical University, Prague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rof. Novak's team) and NL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sibilities and ways of the evaluating and processing of the pilot's psychical and physiological state, that implicates his ability in three main activities such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nse perception and understand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ision taking and problem solving,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toric activ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cussion about choice of appropriate "state variables" of pilot (for example "measure of fatigue", ...) and theirs influence on pilot's ability in said areas ("sensoring", "task solving" and "handling"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alysis and choice of possible qualitative criteria for evaluating the pilot's state and behaviour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Functional Pilot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’s Mod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428920" y="3452760"/>
            <a:ext cx="3149640" cy="2095560"/>
            <a:chOff x="2428920" y="3452760"/>
            <a:chExt cx="3149640" cy="2095560"/>
          </a:xfrm>
        </p:grpSpPr>
        <p:sp>
          <p:nvSpPr>
            <p:cNvPr id="115" name=""/>
            <p:cNvSpPr/>
            <p:nvPr/>
          </p:nvSpPr>
          <p:spPr>
            <a:xfrm>
              <a:off x="2428920" y="3452760"/>
              <a:ext cx="1501560" cy="3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el of Pilot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21040" y="3591000"/>
              <a:ext cx="2657520" cy="1957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59200" y="4243320"/>
              <a:ext cx="795240" cy="44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3760" y="4857840"/>
              <a:ext cx="7844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62560" y="4857840"/>
              <a:ext cx="80136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8800" y="4329000"/>
              <a:ext cx="75564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T&amp;P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781440" y="4610160"/>
              <a:ext cx="21276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46440" y="4622760"/>
              <a:ext cx="27792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37040" y="5070600"/>
              <a:ext cx="43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1280" y="3679920"/>
              <a:ext cx="78408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13280" y="3727440"/>
              <a:ext cx="488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28920" y="412452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54440" y="4924440"/>
              <a:ext cx="488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 - goals of pilot activ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T&amp;PS - decision taking and problem solv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 - sense percep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 - motorical activi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08400" y="4530600"/>
            <a:ext cx="4888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6:48:12Z</dcterms:created>
  <dc:creator>Jiří Kacer</dc:creator>
  <dc:description/>
  <dc:language>en-US</dc:language>
  <cp:lastModifiedBy>Willow</cp:lastModifiedBy>
  <dcterms:modified xsi:type="dcterms:W3CDTF">2002-04-12T11:21:54Z</dcterms:modified>
  <cp:revision>25</cp:revision>
  <dc:subject/>
  <dc:title>Progress Presentation</dc:title>
</cp:coreProperties>
</file>