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D3D-E6BD-4439-870B-D287F306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709-BA38-4891-827F-7A53D5F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7B8-7D69-4982-AA02-8A4066A1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37C-1E54-4FDF-8087-38450FD9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3F5-D4B6-40DF-8F5E-C6382650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4DD-0FB6-4E78-8C12-1349DEB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603-1DF9-4870-B6FA-C396FB19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C0B-77DB-48B6-82CE-43EAE88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5CF-E973-48BF-A8A7-B3D3B64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FFE-9979-4836-B0D0-0F54233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31-3054-4D26-94ED-4AB5788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118-CF8D-40C5-BFB2-B2C513F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709-F0FF-4361-B778-B43AD495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00920" y="380988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tur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19960" y="228600"/>
            <a:ext cx="145944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ING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3920" y="2666880"/>
            <a:ext cx="14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5" idx="0"/>
          </p:cNvCxnSpPr>
          <p:nvPr/>
        </p:nvCxnSpPr>
        <p:spPr>
          <a:xfrm flipH="1">
            <a:off x="3847320" y="444240"/>
            <a:ext cx="702720" cy="153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2" idx="2"/>
            <a:endCxn id="47" idx="0"/>
          </p:cNvCxnSpPr>
          <p:nvPr/>
        </p:nvCxnSpPr>
        <p:spPr>
          <a:xfrm>
            <a:off x="4549680" y="444240"/>
            <a:ext cx="3580560" cy="17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170680" y="10666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_ROOM_LIMIT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16520" y="2209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lve close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1320" y="1447920"/>
            <a:ext cx="24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OSE_RANGE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TURNING_ROOM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3080" y="1981080"/>
            <a:ext cx="178848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 THE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5" idx="2"/>
            <a:endCxn id="41" idx="0"/>
          </p:cNvCxnSpPr>
          <p:nvPr/>
        </p:nvCxnSpPr>
        <p:spPr>
          <a:xfrm>
            <a:off x="3847320" y="2196720"/>
            <a:ext cx="383400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346200" y="3290760"/>
            <a:ext cx="168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aspect angle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20880" y="38862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2"/>
            <a:endCxn id="52" idx="0"/>
          </p:cNvCxnSpPr>
          <p:nvPr/>
        </p:nvCxnSpPr>
        <p:spPr>
          <a:xfrm>
            <a:off x="3847320" y="2196720"/>
            <a:ext cx="495720" cy="16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816920" y="289548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spect angl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56" idx="0"/>
          </p:cNvCxnSpPr>
          <p:nvPr/>
        </p:nvCxnSpPr>
        <p:spPr>
          <a:xfrm flipH="1">
            <a:off x="1484640" y="2196720"/>
            <a:ext cx="2363040" cy="15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830520" y="373392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" y="243828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2" idx="2"/>
            <a:endCxn id="57" idx="0"/>
          </p:cNvCxnSpPr>
          <p:nvPr/>
        </p:nvCxnSpPr>
        <p:spPr>
          <a:xfrm flipH="1">
            <a:off x="1176840" y="444240"/>
            <a:ext cx="3373200" cy="19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368720" y="167652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CLOSE_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15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Pur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4343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91240" y="4495680"/>
            <a:ext cx="139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2"/>
          </p:cNvCxnSpPr>
          <p:nvPr/>
        </p:nvCxnSpPr>
        <p:spPr>
          <a:xfrm flipH="1">
            <a:off x="953640" y="3949560"/>
            <a:ext cx="531360" cy="86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51880" y="4205160"/>
            <a:ext cx="114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gle  Of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6" idx="2"/>
          </p:cNvCxnSpPr>
          <p:nvPr/>
        </p:nvCxnSpPr>
        <p:spPr>
          <a:xfrm>
            <a:off x="1484640" y="3949560"/>
            <a:ext cx="61920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90920" y="41911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6" idx="2"/>
            <a:endCxn id="68" idx="0"/>
          </p:cNvCxnSpPr>
          <p:nvPr/>
        </p:nvCxnSpPr>
        <p:spPr>
          <a:xfrm>
            <a:off x="1484640" y="3949560"/>
            <a:ext cx="199872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965320" y="48006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84760" y="46339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45760" y="48769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52" idx="2"/>
            <a:endCxn id="72" idx="0"/>
          </p:cNvCxnSpPr>
          <p:nvPr/>
        </p:nvCxnSpPr>
        <p:spPr>
          <a:xfrm>
            <a:off x="4342680" y="4101840"/>
            <a:ext cx="7668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98988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52" idx="2"/>
            <a:endCxn id="75" idx="0"/>
          </p:cNvCxnSpPr>
          <p:nvPr/>
        </p:nvCxnSpPr>
        <p:spPr>
          <a:xfrm>
            <a:off x="4342680" y="4101840"/>
            <a:ext cx="1872360" cy="12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629400" y="4724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52" idx="2"/>
            <a:endCxn id="78" idx="0"/>
          </p:cNvCxnSpPr>
          <p:nvPr/>
        </p:nvCxnSpPr>
        <p:spPr>
          <a:xfrm>
            <a:off x="4342680" y="4101840"/>
            <a:ext cx="363636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461000" y="525780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240" y="4876920"/>
            <a:ext cx="101592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680" y="54864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9" idx="2"/>
            <a:endCxn id="82" idx="0"/>
          </p:cNvCxnSpPr>
          <p:nvPr/>
        </p:nvCxnSpPr>
        <p:spPr>
          <a:xfrm flipH="1">
            <a:off x="359640" y="5092560"/>
            <a:ext cx="340920" cy="13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7360" y="647712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9" idx="2"/>
            <a:endCxn id="83" idx="0"/>
          </p:cNvCxnSpPr>
          <p:nvPr/>
        </p:nvCxnSpPr>
        <p:spPr>
          <a:xfrm>
            <a:off x="700200" y="5092560"/>
            <a:ext cx="46620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1598760" y="647712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9640" y="59436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9" idx="2"/>
            <a:endCxn id="85" idx="0"/>
          </p:cNvCxnSpPr>
          <p:nvPr/>
        </p:nvCxnSpPr>
        <p:spPr>
          <a:xfrm>
            <a:off x="700200" y="5092560"/>
            <a:ext cx="1239120" cy="13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-2520" y="6400800"/>
            <a:ext cx="7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5791320"/>
            <a:ext cx="9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0120" y="4890960"/>
            <a:ext cx="11516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8480" y="56386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9" idx="2"/>
            <a:endCxn id="92" idx="0"/>
          </p:cNvCxnSpPr>
          <p:nvPr/>
        </p:nvCxnSpPr>
        <p:spPr>
          <a:xfrm>
            <a:off x="2255760" y="5106600"/>
            <a:ext cx="300960" cy="121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311640" y="594360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0000" y="63244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9" idx="2"/>
            <a:endCxn id="94" idx="0"/>
          </p:cNvCxnSpPr>
          <p:nvPr/>
        </p:nvCxnSpPr>
        <p:spPr>
          <a:xfrm>
            <a:off x="2255760" y="5106600"/>
            <a:ext cx="1041120" cy="121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7234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8760" y="5881680"/>
            <a:ext cx="9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9" idx="2"/>
            <a:endCxn id="96" idx="0"/>
          </p:cNvCxnSpPr>
          <p:nvPr/>
        </p:nvCxnSpPr>
        <p:spPr>
          <a:xfrm>
            <a:off x="2255760" y="5106600"/>
            <a:ext cx="1817280" cy="12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207160" y="632448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2480" y="541008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60199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75" idx="2"/>
            <a:endCxn id="101" idx="0"/>
          </p:cNvCxnSpPr>
          <p:nvPr/>
        </p:nvCxnSpPr>
        <p:spPr>
          <a:xfrm flipH="1">
            <a:off x="5070960" y="5549760"/>
            <a:ext cx="114408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693480" y="6095880"/>
            <a:ext cx="95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080" y="647712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75" idx="2"/>
            <a:endCxn id="103" idx="0"/>
          </p:cNvCxnSpPr>
          <p:nvPr/>
        </p:nvCxnSpPr>
        <p:spPr>
          <a:xfrm>
            <a:off x="6214680" y="5549760"/>
            <a:ext cx="2062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54128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94360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75" idx="2"/>
            <a:endCxn id="105" idx="0"/>
          </p:cNvCxnSpPr>
          <p:nvPr/>
        </p:nvCxnSpPr>
        <p:spPr>
          <a:xfrm>
            <a:off x="6214680" y="5549760"/>
            <a:ext cx="167616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721760" y="640080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9040" y="533412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0"/>
            <a:ext cx="2620800" cy="1219320"/>
            <a:chOff x="152280" y="0"/>
            <a:chExt cx="2620800" cy="1219320"/>
          </a:xfrm>
        </p:grpSpPr>
        <p:sp>
          <p:nvSpPr>
            <p:cNvPr id="109" name=""/>
            <p:cNvSpPr/>
            <p:nvPr/>
          </p:nvSpPr>
          <p:spPr>
            <a:xfrm>
              <a:off x="15228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6400" y="2827440"/>
            <a:ext cx="394200" cy="2156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360" y="3284640"/>
            <a:ext cx="340920" cy="2156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8000" y="1600200"/>
            <a:ext cx="564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erer trajectoire previsionnelle ( current, Event, Maneuver ) -&gt; ensemble {Vitesse, TurnRate,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 n = 3 // number of points of the future traj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entData (Currentevent) - &gt; {V-1’, Tr-1’, G-1’}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le (I &lt; n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culate({Vi’, Tri’, Gi’} ) -&gt; {Vi+1’, Tri+1’, Gi+1’}  // calculate the I+1 th future 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le ({Vi+1’, Tri+1’, Gi+1’} does not satisfy constrain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7000" y="3657600"/>
            <a:ext cx="675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tcke l’ordre courant des priorites( ki doit etre modifi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tcke les points des trajectoires previsionnel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cke les fonctions souches qui fixent les valeurs de plus hautes priori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cule la trajectoire previsionn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nd en compte lors du lancement des Macro Actions souhaitees les formatted Data reelles du coup precedent (asserviss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70560" y="312840"/>
            <a:ext cx="202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ut ce qui est indexe en X’ est un souha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1320" y="3276720"/>
            <a:ext cx="380880" cy="160020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1008"/>
                </a:moveTo>
                <a:lnTo>
                  <a:pt x="0" y="672"/>
                </a:ln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2520" y="4276800"/>
            <a:ext cx="7632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24680" y="3733920"/>
            <a:ext cx="7596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81600" y="3267000"/>
            <a:ext cx="76320" cy="763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43760" y="4829040"/>
            <a:ext cx="75960" cy="763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30880" y="4656240"/>
            <a:ext cx="7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ent 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49640" y="4122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0, y0, z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46360" y="365760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1, y1, z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41800" y="31240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2, y2, z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15000" y="465624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DEXATION = PAR RAPPORT A TRAJECTOI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520" y="4884840"/>
            <a:ext cx="152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ro Actions ~ formatted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tesse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Rat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924200" y="4968720"/>
            <a:ext cx="5181480" cy="228600"/>
          </a:xfrm>
          <a:custGeom>
            <a:avLst/>
            <a:gdLst/>
            <a:ahLst/>
            <a:rect l="l" t="t" r="r" b="b"/>
            <a:pathLst>
              <a:path w="3264" h="144">
                <a:moveTo>
                  <a:pt x="0" y="0"/>
                </a:moveTo>
                <a:lnTo>
                  <a:pt x="0" y="144"/>
                </a:lnTo>
                <a:lnTo>
                  <a:pt x="3264" y="144"/>
                </a:lnTo>
                <a:lnTo>
                  <a:pt x="32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3920" y="5883120"/>
            <a:ext cx="16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Turn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3360" y="5770440"/>
            <a:ext cx="182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w-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 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gle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eed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695600" y="3978360"/>
            <a:ext cx="5638680" cy="837720"/>
            <a:chOff x="1695600" y="3978360"/>
            <a:chExt cx="5638680" cy="837720"/>
          </a:xfrm>
        </p:grpSpPr>
        <p:pic>
          <p:nvPicPr>
            <p:cNvPr id="457" name="avion" descr=""/>
            <p:cNvPicPr/>
            <p:nvPr/>
          </p:nvPicPr>
          <p:blipFill>
            <a:blip r:embed="rId1">
              <a:lum bright="50000"/>
            </a:blip>
            <a:stretch/>
          </p:blipFill>
          <p:spPr>
            <a:xfrm>
              <a:off x="6648480" y="3978360"/>
              <a:ext cx="68580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avion" descr=""/>
            <p:cNvPicPr/>
            <p:nvPr/>
          </p:nvPicPr>
          <p:blipFill>
            <a:blip r:embed="rId2"/>
            <a:stretch/>
          </p:blipFill>
          <p:spPr>
            <a:xfrm>
              <a:off x="1695600" y="4439160"/>
              <a:ext cx="68580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686320" y="4017240"/>
              <a:ext cx="3886200" cy="631440"/>
            </a:xfrm>
            <a:custGeom>
              <a:avLst/>
              <a:gdLst/>
              <a:ahLst/>
              <a:rect l="l" t="t" r="r" b="b"/>
              <a:pathLst>
                <a:path w="2448" h="723">
                  <a:moveTo>
                    <a:pt x="0" y="723"/>
                  </a:moveTo>
                  <a:cubicBezTo>
                    <a:pt x="83" y="617"/>
                    <a:pt x="90" y="176"/>
                    <a:pt x="498" y="88"/>
                  </a:cubicBezTo>
                  <a:cubicBezTo>
                    <a:pt x="906" y="0"/>
                    <a:pt x="2042" y="173"/>
                    <a:pt x="2448" y="19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4514760" y="50086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43160" y="50086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39000" y="50086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55" idx="0"/>
            <a:endCxn id="460" idx="0"/>
          </p:cNvCxnSpPr>
          <p:nvPr/>
        </p:nvCxnSpPr>
        <p:spPr>
          <a:xfrm flipH="1" flipV="1" rot="5400000">
            <a:off x="4069800" y="5325480"/>
            <a:ext cx="591120" cy="299160"/>
          </a:xfrm>
          <a:prstGeom prst="bentConnector3">
            <a:avLst>
              <a:gd name="adj1" fmla="val 5155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0"/>
            <a:endCxn id="461" idx="0"/>
          </p:cNvCxnSpPr>
          <p:nvPr/>
        </p:nvCxnSpPr>
        <p:spPr>
          <a:xfrm flipV="1" rot="16200000">
            <a:off x="3384000" y="4938120"/>
            <a:ext cx="591120" cy="1073520"/>
          </a:xfrm>
          <a:prstGeom prst="bentConnector3">
            <a:avLst>
              <a:gd name="adj1" fmla="val 5155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5" idx="0"/>
            <a:endCxn id="462" idx="0"/>
          </p:cNvCxnSpPr>
          <p:nvPr/>
        </p:nvCxnSpPr>
        <p:spPr>
          <a:xfrm flipH="1" flipV="1" rot="5400000">
            <a:off x="4831920" y="4563360"/>
            <a:ext cx="591120" cy="1823400"/>
          </a:xfrm>
          <a:prstGeom prst="bentConnector3">
            <a:avLst>
              <a:gd name="adj1" fmla="val 5155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 rot="16162200">
            <a:off x="-70920" y="4830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91280" y="3673440"/>
            <a:ext cx="1523880" cy="1066680"/>
          </a:xfrm>
          <a:prstGeom prst="cloudCallout">
            <a:avLst>
              <a:gd name="adj1" fmla="val -56148"/>
              <a:gd name="adj2" fmla="val 5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54" idx="0"/>
          </p:cNvCxnSpPr>
          <p:nvPr/>
        </p:nvCxnSpPr>
        <p:spPr>
          <a:xfrm flipV="1" rot="16200000">
            <a:off x="7062120" y="5239440"/>
            <a:ext cx="686520" cy="600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37800" y="14702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1560600"/>
            <a:ext cx="5181480" cy="228600"/>
          </a:xfrm>
          <a:custGeom>
            <a:avLst/>
            <a:gdLst/>
            <a:ahLst/>
            <a:rect l="l" t="t" r="r" b="b"/>
            <a:pathLst>
              <a:path w="3264" h="144">
                <a:moveTo>
                  <a:pt x="0" y="0"/>
                </a:moveTo>
                <a:lnTo>
                  <a:pt x="0" y="144"/>
                </a:lnTo>
                <a:lnTo>
                  <a:pt x="3264" y="144"/>
                </a:lnTo>
                <a:lnTo>
                  <a:pt x="32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50440" y="2362320"/>
            <a:ext cx="16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Turn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rget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905120" y="685800"/>
            <a:ext cx="5638680" cy="837720"/>
            <a:chOff x="1905120" y="685800"/>
            <a:chExt cx="5638680" cy="837720"/>
          </a:xfrm>
        </p:grpSpPr>
        <p:pic>
          <p:nvPicPr>
            <p:cNvPr id="474" name="avion" descr=""/>
            <p:cNvPicPr/>
            <p:nvPr/>
          </p:nvPicPr>
          <p:blipFill>
            <a:blip r:embed="rId3">
              <a:lum bright="50000"/>
            </a:blip>
            <a:stretch/>
          </p:blipFill>
          <p:spPr>
            <a:xfrm>
              <a:off x="6858000" y="685800"/>
              <a:ext cx="68580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avion" descr=""/>
            <p:cNvPicPr/>
            <p:nvPr/>
          </p:nvPicPr>
          <p:blipFill>
            <a:blip r:embed="rId4"/>
            <a:stretch/>
          </p:blipFill>
          <p:spPr>
            <a:xfrm>
              <a:off x="1905120" y="1146600"/>
              <a:ext cx="68580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895840" y="724680"/>
              <a:ext cx="3886200" cy="631440"/>
            </a:xfrm>
            <a:custGeom>
              <a:avLst/>
              <a:gdLst/>
              <a:ahLst/>
              <a:rect l="l" t="t" r="r" b="b"/>
              <a:pathLst>
                <a:path w="2448" h="723">
                  <a:moveTo>
                    <a:pt x="0" y="723"/>
                  </a:moveTo>
                  <a:cubicBezTo>
                    <a:pt x="83" y="617"/>
                    <a:pt x="90" y="176"/>
                    <a:pt x="498" y="88"/>
                  </a:cubicBezTo>
                  <a:cubicBezTo>
                    <a:pt x="906" y="0"/>
                    <a:pt x="2042" y="173"/>
                    <a:pt x="2448" y="19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400800" y="380880"/>
            <a:ext cx="1523880" cy="1067040"/>
          </a:xfrm>
          <a:prstGeom prst="cloudCallout">
            <a:avLst>
              <a:gd name="adj1" fmla="val -58023"/>
              <a:gd name="adj2" fmla="val 49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72" idx="0"/>
            <a:endCxn id="471" idx="0"/>
          </p:cNvCxnSpPr>
          <p:nvPr/>
        </p:nvCxnSpPr>
        <p:spPr>
          <a:xfrm flipH="1" flipV="1" rot="5400000">
            <a:off x="6766200" y="1794240"/>
            <a:ext cx="573840" cy="562680"/>
          </a:xfrm>
          <a:prstGeom prst="bentConnector4">
            <a:avLst>
              <a:gd name="adj1" fmla="val 49843"/>
              <a:gd name="adj2" fmla="val 985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1833840" y="2346480"/>
            <a:ext cx="117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"/>
          <p:cNvCxnSpPr>
            <a:stCxn id="479" idx="0"/>
          </p:cNvCxnSpPr>
          <p:nvPr/>
        </p:nvCxnSpPr>
        <p:spPr>
          <a:xfrm flipV="1" rot="16200000">
            <a:off x="2049120" y="1972800"/>
            <a:ext cx="457920" cy="289440"/>
          </a:xfrm>
          <a:prstGeom prst="bentConnector3">
            <a:avLst>
              <a:gd name="adj1" fmla="val 499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907000" y="1295280"/>
            <a:ext cx="552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avoir des maneuv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e de politiques (angles, G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er incompatibi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es de resultats &lt;- evenements courants  (angles, G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7120" y="5562720"/>
            <a:ext cx="77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types d’imcompatibil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ut niveau: entre branches d’arbres de decisions. (ex: increase TR et lag pursu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 niveau entre feuilles (G, V) (+ considerations energet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8840" y="2743200"/>
            <a:ext cx="898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arbres par position : turnrate, closure rate, pursuit,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rder en memoire chacune des branch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oeuds, et differentes politiques des feuil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ancer isCompatible() sur les neuds d’abord pr detecter incompatibilites de haut ni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non lancer isCompatible() sur les feuilles, isexisting(  quadruplet de politiques compatible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oui construit maneu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non retourner aux racines (sachant que energy prioritai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 choisir suivant l’ordre de priorites ancest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65160" y="4038480"/>
            <a:ext cx="480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d’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Box (-trace du parc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de HighLevel incompatibi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de low level incompatib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 de mane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457200"/>
            <a:ext cx="4267080" cy="484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 - 7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go Incompatibili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uver 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age des arbr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How = 8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jectory 4 j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Manager 2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cc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HRelay ½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– 1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cc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odel – 1/2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cc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ormatting Data 1/2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ol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8840" y="-152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360" y="129528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NRING_ROOM_LIMIT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m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2720" y="457200"/>
            <a:ext cx="12672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IDE 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2"/>
            <a:endCxn id="117" idx="0"/>
          </p:cNvCxnSpPr>
          <p:nvPr/>
        </p:nvCxnSpPr>
        <p:spPr>
          <a:xfrm flipH="1">
            <a:off x="2453760" y="671400"/>
            <a:ext cx="194400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096440" y="119700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_ROOM_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5" idx="2"/>
            <a:endCxn id="120" idx="0"/>
          </p:cNvCxnSpPr>
          <p:nvPr/>
        </p:nvCxnSpPr>
        <p:spPr>
          <a:xfrm>
            <a:off x="4397040" y="671400"/>
            <a:ext cx="1005480" cy="145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518720" y="2125800"/>
            <a:ext cx="17658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2"/>
            <a:endCxn id="122" idx="0"/>
          </p:cNvCxnSpPr>
          <p:nvPr/>
        </p:nvCxnSpPr>
        <p:spPr>
          <a:xfrm>
            <a:off x="5402160" y="2339640"/>
            <a:ext cx="126288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8201880" y="3254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0" idx="2"/>
            <a:endCxn id="123" idx="0"/>
          </p:cNvCxnSpPr>
          <p:nvPr/>
        </p:nvCxnSpPr>
        <p:spPr>
          <a:xfrm>
            <a:off x="5401800" y="2340000"/>
            <a:ext cx="3172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868800" y="2797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SPECT ANGLE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7120" y="288756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1800" y="34974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16600" y="3954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04160" y="3940200"/>
            <a:ext cx="90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2"/>
            <a:endCxn id="130" idx="0"/>
          </p:cNvCxnSpPr>
          <p:nvPr/>
        </p:nvCxnSpPr>
        <p:spPr>
          <a:xfrm flipH="1">
            <a:off x="6519600" y="3711240"/>
            <a:ext cx="1447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985080" y="396252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 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NGLE OFF 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200" y="4495680"/>
            <a:ext cx="11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back beyo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urning room limit r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2" idx="2"/>
            <a:endCxn id="132" idx="0"/>
          </p:cNvCxnSpPr>
          <p:nvPr/>
        </p:nvCxnSpPr>
        <p:spPr>
          <a:xfrm>
            <a:off x="6663960" y="3711600"/>
            <a:ext cx="170100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456800" y="28116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&lt;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42200" y="342108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0" idx="2"/>
            <a:endCxn id="135" idx="0"/>
          </p:cNvCxnSpPr>
          <p:nvPr/>
        </p:nvCxnSpPr>
        <p:spPr>
          <a:xfrm flipH="1">
            <a:off x="4396680" y="2339640"/>
            <a:ext cx="10054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4976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5280" y="39862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2200" y="38862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 &lt;AO_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2"/>
            <a:endCxn id="141" idx="0"/>
          </p:cNvCxnSpPr>
          <p:nvPr/>
        </p:nvCxnSpPr>
        <p:spPr>
          <a:xfrm flipH="1">
            <a:off x="1576080" y="3634920"/>
            <a:ext cx="28216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914280" y="411480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_LIMIT&lt;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2"/>
            <a:endCxn id="144" idx="0"/>
          </p:cNvCxnSpPr>
          <p:nvPr/>
        </p:nvCxnSpPr>
        <p:spPr>
          <a:xfrm flipH="1">
            <a:off x="4080960" y="3635280"/>
            <a:ext cx="31680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505680" y="4572000"/>
            <a:ext cx="11516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34320" y="1577880"/>
            <a:ext cx="18403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0520" y="31780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 speed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24163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8280" y="2187720"/>
            <a:ext cx="13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MEDIUM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17" idx="2"/>
            <a:endCxn id="149" idx="0"/>
          </p:cNvCxnSpPr>
          <p:nvPr/>
        </p:nvCxnSpPr>
        <p:spPr>
          <a:xfrm flipH="1">
            <a:off x="1461600" y="1792080"/>
            <a:ext cx="9928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1806840" y="27208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LOW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8280" y="3178080"/>
            <a:ext cx="11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 to get clo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7" idx="2"/>
            <a:endCxn id="151" idx="0"/>
          </p:cNvCxnSpPr>
          <p:nvPr/>
        </p:nvCxnSpPr>
        <p:spPr>
          <a:xfrm flipH="1">
            <a:off x="2293200" y="1792080"/>
            <a:ext cx="1609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621520" y="2340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HIGH ANGLE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7" idx="2"/>
            <a:endCxn id="145" idx="0"/>
          </p:cNvCxnSpPr>
          <p:nvPr/>
        </p:nvCxnSpPr>
        <p:spPr>
          <a:xfrm>
            <a:off x="2454120" y="1792080"/>
            <a:ext cx="107712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1111320" y="27208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corner 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120" y="4343400"/>
            <a:ext cx="101592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53341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1" idx="2"/>
            <a:endCxn id="137" idx="0"/>
          </p:cNvCxnSpPr>
          <p:nvPr/>
        </p:nvCxnSpPr>
        <p:spPr>
          <a:xfrm flipH="1">
            <a:off x="460080" y="4557240"/>
            <a:ext cx="111672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254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5360" y="61722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1576440" y="4557240"/>
            <a:ext cx="4680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2435400" y="60199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1814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1" idx="2"/>
            <a:endCxn id="160" idx="0"/>
          </p:cNvCxnSpPr>
          <p:nvPr/>
        </p:nvCxnSpPr>
        <p:spPr>
          <a:xfrm>
            <a:off x="1576080" y="4557600"/>
            <a:ext cx="115956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197880" y="624852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48640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44" idx="2"/>
            <a:endCxn id="163" idx="0"/>
          </p:cNvCxnSpPr>
          <p:nvPr/>
        </p:nvCxnSpPr>
        <p:spPr>
          <a:xfrm flipH="1">
            <a:off x="3507840" y="4786200"/>
            <a:ext cx="573840" cy="14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379760" y="5715000"/>
            <a:ext cx="11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39440" y="63244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4" idx="2"/>
            <a:endCxn id="167" idx="0"/>
          </p:cNvCxnSpPr>
          <p:nvPr/>
        </p:nvCxnSpPr>
        <p:spPr>
          <a:xfrm>
            <a:off x="4081320" y="4785840"/>
            <a:ext cx="6656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5299200" y="60958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maneveur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vent overshoo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410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44" idx="2"/>
            <a:endCxn id="169" idx="0"/>
          </p:cNvCxnSpPr>
          <p:nvPr/>
        </p:nvCxnSpPr>
        <p:spPr>
          <a:xfrm>
            <a:off x="4080960" y="4786200"/>
            <a:ext cx="1747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5943960" y="441972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6880" y="63244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11880" y="58672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0" idx="2"/>
            <a:endCxn id="172" idx="0"/>
          </p:cNvCxnSpPr>
          <p:nvPr/>
        </p:nvCxnSpPr>
        <p:spPr>
          <a:xfrm>
            <a:off x="6519600" y="4633920"/>
            <a:ext cx="41796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969240" y="556272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3520" y="624852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30" idx="2"/>
            <a:endCxn id="176" idx="0"/>
          </p:cNvCxnSpPr>
          <p:nvPr/>
        </p:nvCxnSpPr>
        <p:spPr>
          <a:xfrm>
            <a:off x="6519960" y="4633560"/>
            <a:ext cx="135108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8226720" y="5791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cel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2578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30" idx="2"/>
            <a:endCxn id="178" idx="0"/>
          </p:cNvCxnSpPr>
          <p:nvPr/>
        </p:nvCxnSpPr>
        <p:spPr>
          <a:xfrm>
            <a:off x="6519960" y="4633560"/>
            <a:ext cx="200736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1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182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41840" y="12873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TUNR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of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9480" y="2049480"/>
            <a:ext cx="18144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YOND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56600" y="228600"/>
            <a:ext cx="8910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URN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 flipH="1">
            <a:off x="1606320" y="380520"/>
            <a:ext cx="2596320" cy="16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416480" y="1066680"/>
            <a:ext cx="13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TUNR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3000 feet from the enem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9600" y="4191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2"/>
            <a:endCxn id="191" idx="0"/>
          </p:cNvCxnSpPr>
          <p:nvPr/>
        </p:nvCxnSpPr>
        <p:spPr>
          <a:xfrm>
            <a:off x="4202280" y="442440"/>
            <a:ext cx="186264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180760" y="2133720"/>
            <a:ext cx="176580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2"/>
            <a:endCxn id="193" idx="0"/>
          </p:cNvCxnSpPr>
          <p:nvPr/>
        </p:nvCxnSpPr>
        <p:spPr>
          <a:xfrm flipH="1">
            <a:off x="3582720" y="2347560"/>
            <a:ext cx="24818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8075880" y="3124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 tur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>
            <a:off x="6063840" y="2347920"/>
            <a:ext cx="24123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7162920" y="266688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1400" y="251460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0200" y="3048120"/>
            <a:ext cx="144396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7800" y="4114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3" idx="2"/>
            <a:endCxn id="189" idx="0"/>
          </p:cNvCxnSpPr>
          <p:nvPr/>
        </p:nvCxnSpPr>
        <p:spPr>
          <a:xfrm>
            <a:off x="3582720" y="3262320"/>
            <a:ext cx="2703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3" idx="2"/>
            <a:endCxn id="201" idx="0"/>
          </p:cNvCxnSpPr>
          <p:nvPr/>
        </p:nvCxnSpPr>
        <p:spPr>
          <a:xfrm flipH="1">
            <a:off x="2118960" y="3261960"/>
            <a:ext cx="146448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018840" y="274320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04280" y="3192480"/>
            <a:ext cx="130860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1" idx="2"/>
            <a:endCxn id="203" idx="0"/>
          </p:cNvCxnSpPr>
          <p:nvPr/>
        </p:nvCxnSpPr>
        <p:spPr>
          <a:xfrm>
            <a:off x="6064200" y="2347920"/>
            <a:ext cx="39600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2"/>
            <a:endCxn id="206" idx="0"/>
          </p:cNvCxnSpPr>
          <p:nvPr/>
        </p:nvCxnSpPr>
        <p:spPr>
          <a:xfrm flipH="1">
            <a:off x="6081120" y="3406680"/>
            <a:ext cx="37836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2"/>
            <a:endCxn id="208" idx="0"/>
          </p:cNvCxnSpPr>
          <p:nvPr/>
        </p:nvCxnSpPr>
        <p:spPr>
          <a:xfrm flipH="1">
            <a:off x="4647600" y="3406680"/>
            <a:ext cx="1811880" cy="186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7538760" y="50292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ok for turn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3" idx="2"/>
            <a:endCxn id="209" idx="0"/>
          </p:cNvCxnSpPr>
          <p:nvPr/>
        </p:nvCxnSpPr>
        <p:spPr>
          <a:xfrm>
            <a:off x="6459480" y="3406320"/>
            <a:ext cx="163584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518840" y="321480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92280" y="31305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85" idx="2"/>
            <a:endCxn id="211" idx="0"/>
          </p:cNvCxnSpPr>
          <p:nvPr/>
        </p:nvCxnSpPr>
        <p:spPr>
          <a:xfrm>
            <a:off x="1606320" y="2263680"/>
            <a:ext cx="43092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-5400" y="321480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85" idx="2"/>
            <a:endCxn id="214" idx="0"/>
          </p:cNvCxnSpPr>
          <p:nvPr/>
        </p:nvCxnSpPr>
        <p:spPr>
          <a:xfrm flipH="1">
            <a:off x="540720" y="2263680"/>
            <a:ext cx="106596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85" idx="2"/>
            <a:endCxn id="217" idx="0"/>
          </p:cNvCxnSpPr>
          <p:nvPr/>
        </p:nvCxnSpPr>
        <p:spPr>
          <a:xfrm flipH="1">
            <a:off x="1036080" y="2263680"/>
            <a:ext cx="57060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685800" y="4114800"/>
            <a:ext cx="70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0000" y="5272200"/>
            <a:ext cx="10159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2920" y="5943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8" idx="2"/>
            <a:endCxn id="220" idx="0"/>
          </p:cNvCxnSpPr>
          <p:nvPr/>
        </p:nvCxnSpPr>
        <p:spPr>
          <a:xfrm flipH="1">
            <a:off x="1156680" y="5486400"/>
            <a:ext cx="3491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243324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08" idx="2"/>
            <a:endCxn id="221" idx="0"/>
          </p:cNvCxnSpPr>
          <p:nvPr/>
        </p:nvCxnSpPr>
        <p:spPr>
          <a:xfrm flipH="1">
            <a:off x="2950920" y="5486400"/>
            <a:ext cx="16977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93400" y="63244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ntain the same turn rate as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740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1960" y="6332400"/>
            <a:ext cx="77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66200" y="64008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e turn 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int beh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8" idx="2"/>
            <a:endCxn id="225" idx="0"/>
          </p:cNvCxnSpPr>
          <p:nvPr/>
        </p:nvCxnSpPr>
        <p:spPr>
          <a:xfrm flipH="1">
            <a:off x="4419000" y="548640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505840" y="5257800"/>
            <a:ext cx="115164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76080" y="6521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Rate hig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06" idx="2"/>
            <a:endCxn id="227" idx="0"/>
          </p:cNvCxnSpPr>
          <p:nvPr/>
        </p:nvCxnSpPr>
        <p:spPr>
          <a:xfrm flipH="1">
            <a:off x="5722200" y="5471640"/>
            <a:ext cx="359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06" idx="2"/>
            <a:endCxn id="230" idx="0"/>
          </p:cNvCxnSpPr>
          <p:nvPr/>
        </p:nvCxnSpPr>
        <p:spPr>
          <a:xfrm>
            <a:off x="6081840" y="5472000"/>
            <a:ext cx="832320" cy="10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7678800" y="6324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06" idx="2"/>
            <a:endCxn id="231" idx="0"/>
          </p:cNvCxnSpPr>
          <p:nvPr/>
        </p:nvCxnSpPr>
        <p:spPr>
          <a:xfrm>
            <a:off x="6081840" y="5472000"/>
            <a:ext cx="22406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395760" y="647712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 to Max turn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3320" y="4267080"/>
            <a:ext cx="115164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648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54100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880" y="518148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01" idx="2"/>
            <a:endCxn id="235" idx="0"/>
          </p:cNvCxnSpPr>
          <p:nvPr/>
        </p:nvCxnSpPr>
        <p:spPr>
          <a:xfrm flipH="1">
            <a:off x="693360" y="4481640"/>
            <a:ext cx="142632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2117520" y="4724280"/>
            <a:ext cx="125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73600" y="5181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01" idx="2"/>
            <a:endCxn id="238" idx="0"/>
          </p:cNvCxnSpPr>
          <p:nvPr/>
        </p:nvCxnSpPr>
        <p:spPr>
          <a:xfrm>
            <a:off x="2119320" y="4481640"/>
            <a:ext cx="59760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197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Turn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8080" y="3322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4280" y="44956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0920" y="46483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640" y="419112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1560" y="27576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4400" y="26812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160" y="342900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67800" y="35892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56720" y="351324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79000" y="58672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4200" y="5791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8680" y="59436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2200" y="54864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2620800" cy="1219320"/>
            <a:chOff x="0" y="0"/>
            <a:chExt cx="2620800" cy="121932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2620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OSITION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HEADING  (relat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vision on enemy’s traj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685800"/>
              <a:ext cx="762120" cy="5335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4080" y="2895480"/>
            <a:ext cx="8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1,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680" y="457200"/>
            <a:ext cx="13086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6360" y="990720"/>
            <a:ext cx="101592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7680" y="990720"/>
            <a:ext cx="1407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O_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8" idx="2"/>
            <a:endCxn id="259" idx="0"/>
          </p:cNvCxnSpPr>
          <p:nvPr/>
        </p:nvCxnSpPr>
        <p:spPr>
          <a:xfrm flipH="1">
            <a:off x="813960" y="671040"/>
            <a:ext cx="106128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8" idx="2"/>
            <a:endCxn id="260" idx="0"/>
          </p:cNvCxnSpPr>
          <p:nvPr/>
        </p:nvCxnSpPr>
        <p:spPr>
          <a:xfrm>
            <a:off x="1874880" y="671040"/>
            <a:ext cx="60696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6248160" y="533520"/>
            <a:ext cx="144396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0040" y="1219320"/>
            <a:ext cx="140148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A_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3" idx="2"/>
            <a:endCxn id="264" idx="0"/>
          </p:cNvCxnSpPr>
          <p:nvPr/>
        </p:nvCxnSpPr>
        <p:spPr>
          <a:xfrm>
            <a:off x="6970680" y="747720"/>
            <a:ext cx="17064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-3240" y="22096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59" idx="2"/>
            <a:endCxn id="268" idx="0"/>
          </p:cNvCxnSpPr>
          <p:nvPr/>
        </p:nvCxnSpPr>
        <p:spPr>
          <a:xfrm flipH="1">
            <a:off x="513720" y="1204920"/>
            <a:ext cx="300600" cy="18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603000" y="342900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Make closure Rate &lt;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9" idx="2"/>
            <a:endCxn id="269" idx="0"/>
          </p:cNvCxnSpPr>
          <p:nvPr/>
        </p:nvCxnSpPr>
        <p:spPr>
          <a:xfrm>
            <a:off x="814320" y="1204920"/>
            <a:ext cx="362520" cy="22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1562400" y="31240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Pure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Keep closure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3840" y="283356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59" idx="2"/>
            <a:endCxn id="271" idx="0"/>
          </p:cNvCxnSpPr>
          <p:nvPr/>
        </p:nvCxnSpPr>
        <p:spPr>
          <a:xfrm>
            <a:off x="814320" y="1204560"/>
            <a:ext cx="1280160" cy="19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-159480" y="304812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ead  pursuit (POLITI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Make closure Rate &gt;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268128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4495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/>
          <p:nvPr/>
        </p:nvCxnSpPr>
        <p:spPr>
          <a:xfrm flipH="1">
            <a:off x="852120" y="3962160"/>
            <a:ext cx="15660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63400" y="51814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o to enemy turnRate + epsilon(GOOD_POSI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increase turn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endCxn id="277" idx="0"/>
          </p:cNvCxnSpPr>
          <p:nvPr/>
        </p:nvCxnSpPr>
        <p:spPr>
          <a:xfrm>
            <a:off x="2422080" y="3962520"/>
            <a:ext cx="22932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72960" y="50292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Turn as the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Decrease turn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97920" y="45720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85440" y="5105520"/>
            <a:ext cx="14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Ease turn G to LOW_turn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decrease turn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endCxn id="281" idx="0"/>
          </p:cNvCxnSpPr>
          <p:nvPr/>
        </p:nvCxnSpPr>
        <p:spPr>
          <a:xfrm>
            <a:off x="2419200" y="3962160"/>
            <a:ext cx="16977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2659320" y="41148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=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11200" y="17524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0" idx="2"/>
            <a:endCxn id="286" idx="0"/>
          </p:cNvCxnSpPr>
          <p:nvPr/>
        </p:nvCxnSpPr>
        <p:spPr>
          <a:xfrm>
            <a:off x="2480760" y="1204920"/>
            <a:ext cx="420120" cy="12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654360" y="205740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4920" y="28954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ABORT: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60" idx="2"/>
            <a:endCxn id="288" idx="0"/>
          </p:cNvCxnSpPr>
          <p:nvPr/>
        </p:nvCxnSpPr>
        <p:spPr>
          <a:xfrm>
            <a:off x="2480760" y="1204920"/>
            <a:ext cx="120240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886560" y="25146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Keep closure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1480" y="1995480"/>
            <a:ext cx="93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60" idx="2"/>
            <a:endCxn id="290" idx="0"/>
          </p:cNvCxnSpPr>
          <p:nvPr/>
        </p:nvCxnSpPr>
        <p:spPr>
          <a:xfrm>
            <a:off x="2481120" y="1204920"/>
            <a:ext cx="193752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2327040" y="2438280"/>
            <a:ext cx="114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Make closure Rate &gt;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6720" y="25146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64" idx="2"/>
            <a:endCxn id="295" idx="0"/>
          </p:cNvCxnSpPr>
          <p:nvPr/>
        </p:nvCxnSpPr>
        <p:spPr>
          <a:xfrm flipH="1">
            <a:off x="6530400" y="1433160"/>
            <a:ext cx="61020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7476120" y="1905120"/>
            <a:ext cx="95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81680" y="3200400"/>
            <a:ext cx="113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ag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Make closure Rate &lt;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64" idx="2"/>
            <a:endCxn id="297" idx="0"/>
          </p:cNvCxnSpPr>
          <p:nvPr/>
        </p:nvCxnSpPr>
        <p:spPr>
          <a:xfrm>
            <a:off x="7140600" y="1433520"/>
            <a:ext cx="2088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7829640" y="28954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Keep closure rate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160" y="220968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64" idx="2"/>
            <a:endCxn id="299" idx="0"/>
          </p:cNvCxnSpPr>
          <p:nvPr/>
        </p:nvCxnSpPr>
        <p:spPr>
          <a:xfrm>
            <a:off x="7140240" y="1433160"/>
            <a:ext cx="12214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5957640" y="289548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Lead purs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Make closure Rate &gt;=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75080" y="6407280"/>
            <a:ext cx="77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H="1">
            <a:off x="3056040" y="5546880"/>
            <a:ext cx="358920" cy="10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endCxn id="305" idx="0"/>
          </p:cNvCxnSpPr>
          <p:nvPr/>
        </p:nvCxnSpPr>
        <p:spPr>
          <a:xfrm>
            <a:off x="3417480" y="5546520"/>
            <a:ext cx="83268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5011920" y="639936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endCxn id="306" idx="0"/>
          </p:cNvCxnSpPr>
          <p:nvPr/>
        </p:nvCxnSpPr>
        <p:spPr>
          <a:xfrm>
            <a:off x="3414600" y="5546880"/>
            <a:ext cx="22406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3507120" y="6551640"/>
            <a:ext cx="1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o to enemy turnRate +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epsilon(MEDIUM_POSI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increase 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87320" y="58658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emy.turm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1800" y="601812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55320" y="556092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Enemy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86240" y="659592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Turn as the enem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decrease 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6520" y="0"/>
            <a:ext cx="176580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258" idx="0"/>
          </p:cNvCxnSpPr>
          <p:nvPr/>
        </p:nvCxnSpPr>
        <p:spPr>
          <a:xfrm flipH="1">
            <a:off x="1874520" y="213840"/>
            <a:ext cx="26661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2"/>
            <a:endCxn id="263" idx="0"/>
          </p:cNvCxnSpPr>
          <p:nvPr/>
        </p:nvCxnSpPr>
        <p:spPr>
          <a:xfrm>
            <a:off x="4539960" y="213840"/>
            <a:ext cx="243108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2286000" y="1219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POSITIO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1800" y="3352680"/>
            <a:ext cx="7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1,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9880" y="3048120"/>
            <a:ext cx="6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C</a:t>
            </a:r>
            <a:r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2360" y="23623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D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4,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4480" y="2743200"/>
            <a:ext cx="6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E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6600" y="2362320"/>
            <a:ext cx="6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F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2819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G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2440" y="30481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55080" y="2895480"/>
            <a:ext cx="4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I</a:t>
            </a:r>
            <a:r>
              <a:rPr b="0" lang="en-US" sz="1000" spc="-1" strike="noStrike">
                <a:solidFill>
                  <a:srgbClr val="b2b2b2"/>
                </a:solidFill>
                <a:latin typeface="Times New Roman"/>
              </a:rPr>
              <a:t>(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8640" y="5029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16040" y="5029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7640" y="5029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22400" y="6080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8520" y="615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4720" y="6080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9440" y="35053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51560" y="17524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18148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0120" y="495288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Keep turning this 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(keep 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endCxn id="334" idx="0"/>
          </p:cNvCxnSpPr>
          <p:nvPr/>
        </p:nvCxnSpPr>
        <p:spPr>
          <a:xfrm flipH="1">
            <a:off x="5646240" y="4253040"/>
            <a:ext cx="142632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7041240" y="4495680"/>
            <a:ext cx="131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urnRat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= MaxTurnR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26480" y="49528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ABORT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Choose a maneuv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to prevent bleed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endCxn id="337" idx="0"/>
          </p:cNvCxnSpPr>
          <p:nvPr/>
        </p:nvCxnSpPr>
        <p:spPr>
          <a:xfrm>
            <a:off x="7072200" y="4253040"/>
            <a:ext cx="59760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2705040" y="5410080"/>
            <a:ext cx="138168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O_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6560" y="3809880"/>
            <a:ext cx="1015920" cy="215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28880" y="4114800"/>
            <a:ext cx="1401480" cy="215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A_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7840" y="4876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296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56386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4160" y="426708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37480" y="5878440"/>
            <a:ext cx="310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ompatib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e verifier  poli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e ordre de priorite que couche K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recognizing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0040" y="2209680"/>
            <a:ext cx="176580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LOW TURNING ROOM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2"/>
            <a:endCxn id="350" idx="0"/>
          </p:cNvCxnSpPr>
          <p:nvPr/>
        </p:nvCxnSpPr>
        <p:spPr>
          <a:xfrm flipH="1">
            <a:off x="2626560" y="2424240"/>
            <a:ext cx="244692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8" idx="2"/>
            <a:endCxn id="352" idx="0"/>
          </p:cNvCxnSpPr>
          <p:nvPr/>
        </p:nvCxnSpPr>
        <p:spPr>
          <a:xfrm>
            <a:off x="5073480" y="2424240"/>
            <a:ext cx="28202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6545160" y="27432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A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3840" y="274320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A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HIGH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4760" y="3200400"/>
            <a:ext cx="144396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0" idx="2"/>
            <a:endCxn id="356" idx="0"/>
          </p:cNvCxnSpPr>
          <p:nvPr/>
        </p:nvCxnSpPr>
        <p:spPr>
          <a:xfrm>
            <a:off x="2626920" y="3414240"/>
            <a:ext cx="19116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0" idx="2"/>
            <a:endCxn id="358" idx="0"/>
          </p:cNvCxnSpPr>
          <p:nvPr/>
        </p:nvCxnSpPr>
        <p:spPr>
          <a:xfrm flipH="1">
            <a:off x="1261800" y="3414240"/>
            <a:ext cx="136584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401080" y="281952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3080" y="3200400"/>
            <a:ext cx="130860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ASPECT AN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48" idx="2"/>
            <a:endCxn id="360" idx="0"/>
          </p:cNvCxnSpPr>
          <p:nvPr/>
        </p:nvCxnSpPr>
        <p:spPr>
          <a:xfrm>
            <a:off x="5073480" y="2424240"/>
            <a:ext cx="114552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60" idx="2"/>
            <a:endCxn id="363" idx="0"/>
          </p:cNvCxnSpPr>
          <p:nvPr/>
        </p:nvCxnSpPr>
        <p:spPr>
          <a:xfrm flipH="1">
            <a:off x="5833440" y="3414240"/>
            <a:ext cx="38484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2"/>
            <a:endCxn id="365" idx="0"/>
          </p:cNvCxnSpPr>
          <p:nvPr/>
        </p:nvCxnSpPr>
        <p:spPr>
          <a:xfrm flipH="1">
            <a:off x="4319280" y="3414240"/>
            <a:ext cx="189936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0" idx="2"/>
            <a:endCxn id="367" idx="0"/>
          </p:cNvCxnSpPr>
          <p:nvPr/>
        </p:nvCxnSpPr>
        <p:spPr>
          <a:xfrm>
            <a:off x="6218280" y="3414240"/>
            <a:ext cx="124848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3811320" y="5029200"/>
            <a:ext cx="101592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OOD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56280" y="5029200"/>
            <a:ext cx="135576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O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4200" y="5029200"/>
            <a:ext cx="1375560" cy="21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EDIUM_AA 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42670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8640" y="426708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760" y="4191120"/>
            <a:ext cx="8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_A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45 degre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AO TO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0520" y="419112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&lt; LOW_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1240" y="4114800"/>
            <a:ext cx="8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_AO &lt;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(20 degre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09000" y="3200400"/>
            <a:ext cx="1368000" cy="215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AD POSITION : 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82040" y="5029200"/>
            <a:ext cx="1368000" cy="215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AD POSITION : 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5029200"/>
            <a:ext cx="1368000" cy="215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AD POSITION : AB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7720" y="2133720"/>
            <a:ext cx="67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Increase 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42760" y="5105520"/>
            <a:ext cx="108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= Speed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/>
          <p:nvPr/>
        </p:nvCxnSpPr>
        <p:spPr>
          <a:xfrm flipH="1">
            <a:off x="2209320" y="3352320"/>
            <a:ext cx="49464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1065960" y="213372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Keep 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7280" y="3352680"/>
            <a:ext cx="111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 = speed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– Speed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 Speed 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6" idx="2"/>
            <a:endCxn id="377" idx="0"/>
          </p:cNvCxnSpPr>
          <p:nvPr/>
        </p:nvCxnSpPr>
        <p:spPr>
          <a:xfrm>
            <a:off x="1343160" y="2347560"/>
            <a:ext cx="13356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891880" y="2743200"/>
            <a:ext cx="8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Speed &lt; 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3" idx="2"/>
          </p:cNvCxnSpPr>
          <p:nvPr/>
        </p:nvCxnSpPr>
        <p:spPr>
          <a:xfrm flipH="1">
            <a:off x="2818800" y="2347920"/>
            <a:ext cx="132948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748160" y="4419720"/>
            <a:ext cx="133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&lt;MAX_G(MySpeed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/>
          <p:nvPr/>
        </p:nvCxnSpPr>
        <p:spPr>
          <a:xfrm>
            <a:off x="2819160" y="3428640"/>
            <a:ext cx="7261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051000" y="50292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+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4120" y="2895480"/>
            <a:ext cx="110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0 &lt; MySpeed &lt; 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3" idx="2"/>
          </p:cNvCxnSpPr>
          <p:nvPr/>
        </p:nvCxnSpPr>
        <p:spPr>
          <a:xfrm>
            <a:off x="4147920" y="2347920"/>
            <a:ext cx="4244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endCxn id="387" idx="0"/>
          </p:cNvCxnSpPr>
          <p:nvPr/>
        </p:nvCxnSpPr>
        <p:spPr>
          <a:xfrm flipH="1">
            <a:off x="4568040" y="3276720"/>
            <a:ext cx="277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4645800" y="434340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&gt;=7.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41720" y="495288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endCxn id="390" idx="0"/>
          </p:cNvCxnSpPr>
          <p:nvPr/>
        </p:nvCxnSpPr>
        <p:spPr>
          <a:xfrm>
            <a:off x="4564080" y="3276720"/>
            <a:ext cx="77688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4036680" y="4114800"/>
            <a:ext cx="68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&lt;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9800" y="54864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= speed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97000" y="2743200"/>
            <a:ext cx="8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Speed &gt; 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73" idx="2"/>
          </p:cNvCxnSpPr>
          <p:nvPr/>
        </p:nvCxnSpPr>
        <p:spPr>
          <a:xfrm>
            <a:off x="4148280" y="2347920"/>
            <a:ext cx="15674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6556680" y="43434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-- speed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5880" y="3733920"/>
            <a:ext cx="141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&gt;= MAX_G(MySpeed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8480" y="36576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&gt;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endCxn id="394" idx="0"/>
          </p:cNvCxnSpPr>
          <p:nvPr/>
        </p:nvCxnSpPr>
        <p:spPr>
          <a:xfrm>
            <a:off x="5790960" y="3276360"/>
            <a:ext cx="12229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5488560" y="434340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G++ Speed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endCxn id="398" idx="0"/>
          </p:cNvCxnSpPr>
          <p:nvPr/>
        </p:nvCxnSpPr>
        <p:spPr>
          <a:xfrm>
            <a:off x="5638680" y="3276360"/>
            <a:ext cx="4737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5484600" y="388620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yG =&lt; 7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 Keep 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30760" y="2286000"/>
            <a:ext cx="74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stement entre ‘n’ pts et precision des resultats (po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4520" y="3160800"/>
            <a:ext cx="5523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t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ure rat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ake closure rate  &gt;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acceler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ake closure rate &lt;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deceler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ake closure rate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keep sp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r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s enem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increase TR -&gt;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++ speed 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speed ++ G=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decrease TR, keep T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Enemy + Epsil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Ease turn to LOW TUR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suit :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contraintes sur n-1 points de trajecto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ngle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98560" y="56800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73120" y="590868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ire = caracteristiques associ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ints, G, vitesse, ang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08200" y="3276720"/>
            <a:ext cx="105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== speed 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-- Speed 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G– Speed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8240" y="20574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Decrease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7" idx="2"/>
            <a:endCxn id="406" idx="0"/>
          </p:cNvCxnSpPr>
          <p:nvPr/>
        </p:nvCxnSpPr>
        <p:spPr>
          <a:xfrm flipH="1">
            <a:off x="4035240" y="2332080"/>
            <a:ext cx="18792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 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02400" y="190512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Closure R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5960" y="1828800"/>
            <a:ext cx="56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Turn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0800" y="3429000"/>
            <a:ext cx="90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policy (G, Sp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2096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3800" y="2743200"/>
            <a:ext cx="78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compatibl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380988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7000" y="55627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j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447560" y="205740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760" y="33526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Times New Roman"/>
              </a:rPr>
              <a:t>Pursu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86000" y="358128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85440" y="37418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6400" y="3662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58120" y="57913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819520"/>
            <a:ext cx="15238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mediate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4720" y="3657600"/>
            <a:ext cx="98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+1’, vi+1’, tri+1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57668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del (updating positions) || physical model (emp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99160" y="1905120"/>
            <a:ext cx="749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f, Vitess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crease 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 &gt; 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0 &lt; G1&lt; 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0 &lt; v2 &lt;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1600200"/>
            <a:ext cx="15238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56240" y="190512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should be compati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1828800"/>
            <a:ext cx="914400" cy="2819520"/>
          </a:xfrm>
          <a:custGeom>
            <a:avLst/>
            <a:gdLst/>
            <a:ahLst/>
            <a:rect l="l" t="t" r="r" b="b"/>
            <a:pathLst>
              <a:path w="576" h="1248">
                <a:moveTo>
                  <a:pt x="576" y="0"/>
                </a:moveTo>
                <a:lnTo>
                  <a:pt x="576" y="1248"/>
                </a:lnTo>
                <a:lnTo>
                  <a:pt x="0" y="1248"/>
                </a:lnTo>
                <a:lnTo>
                  <a:pt x="0" y="480"/>
                </a:lnTo>
                <a:lnTo>
                  <a:pt x="57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43040" y="320040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AO &lt;= 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666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 = g/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(t) = Goef * t^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(t) = Voef* 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4114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= v^2/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62000" y="3886200"/>
            <a:ext cx="4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n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3733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i+1, yi+1, zi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49528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i, yi, 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97160" y="1219320"/>
            <a:ext cx="28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DEXATION = PAR RAPPORT AUX TOURS DE BOU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91120" y="5878440"/>
            <a:ext cx="1476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AI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= 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3:49:05Z</dcterms:created>
  <dc:creator>andriam</dc:creator>
  <dc:description/>
  <dc:language>en-US</dc:language>
  <cp:lastModifiedBy>lefeuvre</cp:lastModifiedBy>
  <dcterms:modified xsi:type="dcterms:W3CDTF">2003-07-01T08:07:18Z</dcterms:modified>
  <cp:revision>172</cp:revision>
  <dc:subject/>
  <dc:title>PowerPoint Presentation</dc:title>
</cp:coreProperties>
</file>