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DC6-0311-40B7-A823-435C3643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447-BCBF-4E85-A015-848594C1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048-6238-464B-8B18-63259F65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F29-313D-48DD-9B9E-D761B519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DF5-DBDD-46D7-9415-91FB358C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7D1-7168-41CE-BE67-9320B9A0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408-527B-4FE2-9D9C-B153CA2E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7F8-7AF2-4DB2-A7B8-D9E3BDAA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766-7F40-4C01-A95A-6EC7B0E7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F6A-98CF-4B28-8B5A-5CC1DBBC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FC9-C1DC-46A3-B663-9B9F10F2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C63-A903-46D8-B93B-A07F7706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99FF-54BB-4B42-835B-8FF59D420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133720"/>
            <a:ext cx="533376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only speed dependant =&gt; no height consid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Energy &amp; EnemyEnergy : comparison, bleeding, grow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isBleedingEnergy(speed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: Answer the question : Has he been losing energy for a long time 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to prevent the AI to avoid all the situations that bleed energy, whereas it is sometime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danger: take into account the previous clues to say if the situation is dange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 what parameter, between G and Speed should be protected, concerning the energy 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541008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DO : specify these functions, and then propose a class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– both ener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6765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energi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pare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1337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leeding or growing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6" idx="2"/>
            <a:endCxn id="48" idx="0"/>
          </p:cNvCxnSpPr>
          <p:nvPr/>
        </p:nvCxnSpPr>
        <p:spPr>
          <a:xfrm flipH="1">
            <a:off x="1028160" y="2408040"/>
            <a:ext cx="1105560" cy="185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6" idx="2"/>
            <a:endCxn id="50" idx="0"/>
          </p:cNvCxnSpPr>
          <p:nvPr/>
        </p:nvCxnSpPr>
        <p:spPr>
          <a:xfrm>
            <a:off x="2133720" y="2408040"/>
            <a:ext cx="1257840" cy="19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85800" y="32004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ed &lt;= 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352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ed &gt; 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4267080"/>
            <a:ext cx="17528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: G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+ 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/270, 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.14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343400"/>
            <a:ext cx="1143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: 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9528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low the border : energy is growing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bove the border : energy is bl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752480"/>
            <a:ext cx="33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ption 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 Mach = 440 knots, 0.68 Mach = 330 kn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2590920"/>
            <a:ext cx="3048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rowing’ and ‘Energy is bleeding’ should more precise =&gt; how mu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(G,V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ulting 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352680"/>
            <a:ext cx="25146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V+ β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&gt; no ga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&gt; -2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&gt; -400,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&gt; -6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&gt; -8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&gt; -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3505320"/>
            <a:ext cx="175248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ic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limit = 440 for eve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very 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&lt;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-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7652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is to know, how long the aircraft has been bleeding energy. If this situation is new, it will prevent the AI to interpret this as a dan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7524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&gt; 0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increas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&lt; 0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 decreas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= 0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nse of variation ha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590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Te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1" idx="2"/>
            <a:endCxn id="63" idx="0"/>
          </p:cNvCxnSpPr>
          <p:nvPr/>
        </p:nvCxnSpPr>
        <p:spPr>
          <a:xfrm flipH="1">
            <a:off x="2171160" y="2865240"/>
            <a:ext cx="1981800" cy="11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1" idx="2"/>
            <a:endCxn id="65" idx="0"/>
          </p:cNvCxnSpPr>
          <p:nvPr/>
        </p:nvCxnSpPr>
        <p:spPr>
          <a:xfrm>
            <a:off x="4152600" y="2865240"/>
            <a:ext cx="1220040" cy="11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66688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If bl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200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If g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0006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Update history(blee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3" idx="2"/>
            <a:endCxn id="69" idx="0"/>
          </p:cNvCxnSpPr>
          <p:nvPr/>
        </p:nvCxnSpPr>
        <p:spPr>
          <a:xfrm flipH="1">
            <a:off x="799920" y="4275000"/>
            <a:ext cx="1372320" cy="109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3" idx="2"/>
            <a:endCxn id="71" idx="0"/>
          </p:cNvCxnSpPr>
          <p:nvPr/>
        </p:nvCxnSpPr>
        <p:spPr>
          <a:xfrm>
            <a:off x="2171880" y="4275000"/>
            <a:ext cx="457920" cy="109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838080" y="4686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If history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686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If history &lt;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3722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History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537228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History -=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40006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Update history(gain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5" idx="2"/>
            <a:endCxn id="75" idx="0"/>
          </p:cNvCxnSpPr>
          <p:nvPr/>
        </p:nvCxnSpPr>
        <p:spPr>
          <a:xfrm flipH="1">
            <a:off x="4000320" y="4275000"/>
            <a:ext cx="1372320" cy="109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77" idx="0"/>
          </p:cNvCxnSpPr>
          <p:nvPr/>
        </p:nvCxnSpPr>
        <p:spPr>
          <a:xfrm>
            <a:off x="5372280" y="4275000"/>
            <a:ext cx="457920" cy="109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4038480" y="4686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If history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4686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If history &gt;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53722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History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537228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History +=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441972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Test</a:t>
            </a:r>
            <a:br>
              <a:rPr sz="1200"/>
            </a:b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– Energy D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810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E = My Energy – Enemy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666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2"/>
            <a:endCxn id="85" idx="0"/>
          </p:cNvCxnSpPr>
          <p:nvPr/>
        </p:nvCxnSpPr>
        <p:spPr>
          <a:xfrm flipH="1">
            <a:off x="2171520" y="2941200"/>
            <a:ext cx="2210400" cy="10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3" idx="2"/>
            <a:endCxn id="87" idx="0"/>
          </p:cNvCxnSpPr>
          <p:nvPr/>
        </p:nvCxnSpPr>
        <p:spPr>
          <a:xfrm>
            <a:off x="4381200" y="2941560"/>
            <a:ext cx="1677240" cy="94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124080" y="32385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E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2385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E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9765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5" idx="2"/>
            <a:endCxn id="91" idx="0"/>
          </p:cNvCxnSpPr>
          <p:nvPr/>
        </p:nvCxnSpPr>
        <p:spPr>
          <a:xfrm flipH="1">
            <a:off x="990000" y="4251240"/>
            <a:ext cx="1181880" cy="15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5" idx="2"/>
            <a:endCxn id="93" idx="0"/>
          </p:cNvCxnSpPr>
          <p:nvPr/>
        </p:nvCxnSpPr>
        <p:spPr>
          <a:xfrm>
            <a:off x="2171520" y="4251240"/>
            <a:ext cx="952920" cy="15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304920" y="468648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yE.isGrowing(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!MyE.isGrowing() AND !EE.isGrowing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791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da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4869000"/>
            <a:ext cx="16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!MyE.isGrowing() AND EE.isGrowing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5791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38862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dis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87" idx="2"/>
            <a:endCxn id="97" idx="0"/>
          </p:cNvCxnSpPr>
          <p:nvPr/>
        </p:nvCxnSpPr>
        <p:spPr>
          <a:xfrm flipH="1">
            <a:off x="4799880" y="4343400"/>
            <a:ext cx="125820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7" idx="2"/>
            <a:endCxn id="99" idx="0"/>
          </p:cNvCxnSpPr>
          <p:nvPr/>
        </p:nvCxnSpPr>
        <p:spPr>
          <a:xfrm>
            <a:off x="6058080" y="4343400"/>
            <a:ext cx="118152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4419720" y="4869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yE.isGrowing() AND !EE.isGrowing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57913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da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68648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!MyE.isGrowing(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E.isGrowing(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E.isGrowing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5791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1828800"/>
            <a:ext cx="312408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is not taken into account, useles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e have access to how Enemy energy is increasing or decreasing. If yes, maybe it’s better to use it than the fact that it is growing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– To be sa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82880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an energy danger, G or V or both should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175248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is to calculate the distance between the current point (G,V) to the border (no gain or waste of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_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6" idx="2"/>
            <a:endCxn id="108" idx="0"/>
          </p:cNvCxnSpPr>
          <p:nvPr/>
        </p:nvCxnSpPr>
        <p:spPr>
          <a:xfrm flipH="1">
            <a:off x="1104480" y="2636640"/>
            <a:ext cx="95328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6" idx="2"/>
            <a:endCxn id="110" idx="0"/>
          </p:cNvCxnSpPr>
          <p:nvPr/>
        </p:nvCxnSpPr>
        <p:spPr>
          <a:xfrm>
            <a:off x="2057400" y="2637000"/>
            <a:ext cx="915120" cy="117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143000" y="29718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V &gt; 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733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_distance = (G – 7) / (Gmax –G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3809880"/>
            <a:ext cx="1981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_distance = (G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+ 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/ (Gmax –G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971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V &lt;= 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243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_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2"/>
            <a:endCxn id="115" idx="0"/>
          </p:cNvCxnSpPr>
          <p:nvPr/>
        </p:nvCxnSpPr>
        <p:spPr>
          <a:xfrm flipH="1">
            <a:off x="4609800" y="2712600"/>
            <a:ext cx="95328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2"/>
            <a:endCxn id="117" idx="0"/>
          </p:cNvCxnSpPr>
          <p:nvPr/>
        </p:nvCxnSpPr>
        <p:spPr>
          <a:xfrm>
            <a:off x="5562360" y="2712600"/>
            <a:ext cx="1028880" cy="11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4648320" y="30481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G &gt;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8098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_distance =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3886200"/>
            <a:ext cx="2209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_distance = (V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 - 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/ (Vmax –V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G &lt;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50976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_distance * V_distance &gt;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105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_distance * V_distance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4572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668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G_distance &lt; V_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5668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G_distance &gt; V_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2"/>
            <a:endCxn id="120" idx="0"/>
          </p:cNvCxnSpPr>
          <p:nvPr/>
        </p:nvCxnSpPr>
        <p:spPr>
          <a:xfrm flipH="1">
            <a:off x="2285640" y="4846320"/>
            <a:ext cx="18676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0" y="619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619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0" idx="2"/>
            <a:endCxn id="126" idx="0"/>
          </p:cNvCxnSpPr>
          <p:nvPr/>
        </p:nvCxnSpPr>
        <p:spPr>
          <a:xfrm flipH="1">
            <a:off x="342360" y="5371920"/>
            <a:ext cx="1943640" cy="81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0" idx="2"/>
            <a:endCxn id="127" idx="0"/>
          </p:cNvCxnSpPr>
          <p:nvPr/>
        </p:nvCxnSpPr>
        <p:spPr>
          <a:xfrm>
            <a:off x="2286000" y="5371920"/>
            <a:ext cx="876960" cy="81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4114800" y="56768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G_distance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56768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V_distance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619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619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1" idx="2"/>
            <a:endCxn id="132" idx="0"/>
          </p:cNvCxnSpPr>
          <p:nvPr/>
        </p:nvCxnSpPr>
        <p:spPr>
          <a:xfrm flipH="1">
            <a:off x="4533480" y="5379840"/>
            <a:ext cx="572400" cy="81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1" idx="2"/>
            <a:endCxn id="133" idx="0"/>
          </p:cNvCxnSpPr>
          <p:nvPr/>
        </p:nvCxnSpPr>
        <p:spPr>
          <a:xfrm>
            <a:off x="5105160" y="5379840"/>
            <a:ext cx="1562760" cy="81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2" idx="2"/>
            <a:endCxn id="121" idx="0"/>
          </p:cNvCxnSpPr>
          <p:nvPr/>
        </p:nvCxnSpPr>
        <p:spPr>
          <a:xfrm>
            <a:off x="4152960" y="4846320"/>
            <a:ext cx="953280" cy="25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2" idx="2"/>
            <a:endCxn id="138" idx="0"/>
          </p:cNvCxnSpPr>
          <p:nvPr/>
        </p:nvCxnSpPr>
        <p:spPr>
          <a:xfrm>
            <a:off x="4152600" y="4846320"/>
            <a:ext cx="3391560" cy="25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6705720" y="51055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_distance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619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8" idx="2"/>
            <a:endCxn id="139" idx="0"/>
          </p:cNvCxnSpPr>
          <p:nvPr/>
        </p:nvCxnSpPr>
        <p:spPr>
          <a:xfrm>
            <a:off x="7543800" y="5379840"/>
            <a:ext cx="496080" cy="81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495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20" y="4191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Energy Recogn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feuvre</cp:lastModifiedBy>
  <dcterms:modified xsi:type="dcterms:W3CDTF">2003-05-16T09:01:22Z</dcterms:modified>
  <cp:revision>25</cp:revision>
  <dc:subject/>
  <dc:title>PowerPoint Presentation</dc:title>
</cp:coreProperties>
</file>