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39D-B4B8-4CAA-A909-1CA53DAF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B47-D744-429B-8915-9D03800F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390-3AEC-488B-BCE0-0696B796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6AF-44EB-44A8-8557-22A4BA1B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21C-D938-42C7-95A7-2B0AA120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E6C-E117-4C66-BA53-93D37FD2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42A-4617-49D9-97C4-4B5B0BAA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EE7-8ECA-4AFA-8109-A487610F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B2B-4A23-4388-B587-EA58EFBF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92F-FC4D-405E-B0FC-579034C5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0DB-7758-4209-909B-02516248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49D-39EC-44EE-9C06-37410BF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03AE-0073-4FD4-9374-96E9BBAC8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1904760" y="1218960"/>
            <a:ext cx="685800" cy="1066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5880" y="4419720"/>
            <a:ext cx="685800" cy="10666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1219320"/>
            <a:ext cx="685800" cy="1066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685800" cy="10666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41720" y="9907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0" y="388620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42200" y="4114800"/>
            <a:ext cx="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32600" y="838080"/>
            <a:ext cx="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feuvre</cp:lastModifiedBy>
  <dcterms:modified xsi:type="dcterms:W3CDTF">2003-06-30T10:19:51Z</dcterms:modified>
  <cp:revision>2</cp:revision>
  <dc:subject/>
  <dc:title>PowerPoint Presentation</dc:title>
</cp:coreProperties>
</file>