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1B56-E95D-4288-A1E1-06CDF1E0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186-2B0F-48BD-833C-DC23D5FC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B85-9939-4B92-BA95-3419857E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F6B7-AB61-4F65-B00F-5BA4A572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ED76-9E7C-4987-BE40-0A9F240F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74B-6D1D-4125-98D1-6ED8D7C1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40F1-D177-4EE7-85A9-7218E786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05A-35D7-45A4-AA08-6194C588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D5C5-D405-4C16-9C9F-5BA29903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AE1E-98D3-4548-BA24-C03E8AA9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B6D-FEE5-4EEB-B59A-379A7600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A9C-04E4-445A-9926-DA1938C8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6BBF-6717-43C0-8517-2D6BE0027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828800"/>
            <a:ext cx="175248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les (AO = xAA, x &lt;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0666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7621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les fina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685800"/>
            <a:ext cx="1447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les initia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371240" y="11430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1828800"/>
            <a:ext cx="1828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les(AO = xAA, x &gt;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74320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O, 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1905120"/>
            <a:ext cx="175284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esse(Vitesse +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11430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838080"/>
            <a:ext cx="12189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esse fi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762120"/>
            <a:ext cx="1447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esse init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866920" y="12193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1905120"/>
            <a:ext cx="1828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esse (Vitesse -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25909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e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4800600"/>
            <a:ext cx="175284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365760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my Turn Rate ini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752120" y="41148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54864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057040" y="41148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373392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4876920"/>
            <a:ext cx="121932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556272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6248520"/>
            <a:ext cx="12193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inte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24080" y="152280"/>
            <a:ext cx="2362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roi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3124080"/>
            <a:ext cx="76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2971800"/>
            <a:ext cx="144792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09680" y="4952520"/>
            <a:ext cx="4191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3048120"/>
            <a:ext cx="2895480" cy="17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s generiqu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value 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d v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e 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: maneuver d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 = (α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α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 : α(t) = Δ * t + α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uare : α(t) = a * t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Δ – 3a) * t + α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(t) = V(t) * TR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O(t) = k * AA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feuvre</cp:lastModifiedBy>
  <dcterms:modified xsi:type="dcterms:W3CDTF">2003-05-22T15:18:28Z</dcterms:modified>
  <cp:revision>6</cp:revision>
  <dc:subject/>
  <dc:title>PowerPoint Presentation</dc:title>
</cp:coreProperties>
</file>