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823-EB31-4D5B-BF91-A253B419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0D6-6177-4267-9AE9-A3F8CD81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0C9-C335-4C6B-9C2F-14BE27F1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EC2-86F0-4812-AE4C-87C62D00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7D3-AB39-42BF-BBE8-39C851C9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52A-7692-4CA1-BD1E-378E54F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388-C17F-438A-9FE6-9EEEA6C7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934-6C05-45A0-B51A-36A644F2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5C1-69D9-4B7F-9CA3-6BB2C45E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2DD-E979-4AB8-88B7-A8554BA3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8A0-4715-4598-97BA-DF9480C4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E48-E6FD-46BE-BB52-1A4658D7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2BB7-A231-427A-8946-06C349A4E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752480"/>
            <a:ext cx="7238880" cy="221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24160"/>
            <a:ext cx="2286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tedData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2324160"/>
            <a:ext cx="2286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Action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4495680"/>
            <a:ext cx="7238880" cy="68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imula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609480"/>
            <a:ext cx="7238880" cy="68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-How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743200" y="335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727360" y="1294920"/>
            <a:ext cx="0" cy="103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7010280" y="1294920"/>
            <a:ext cx="0" cy="103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010280" y="3373560"/>
            <a:ext cx="0" cy="11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9000" y="25146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FormattingData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371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ro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1371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ed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4114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ic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4038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ic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2895480"/>
            <a:ext cx="182880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38360" y="443880"/>
            <a:ext cx="2738160" cy="61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situatio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pee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TurnRat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18320" y="2059920"/>
            <a:ext cx="1585800" cy="61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Poin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2720" y="1638000"/>
            <a:ext cx="1753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les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38680" y="3966840"/>
            <a:ext cx="1944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urnRate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75840" y="2747520"/>
            <a:ext cx="167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33720" y="5109840"/>
            <a:ext cx="1771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8" idx="2"/>
            <a:endCxn id="180" idx="0"/>
          </p:cNvCxnSpPr>
          <p:nvPr/>
        </p:nvCxnSpPr>
        <p:spPr>
          <a:xfrm>
            <a:off x="3908160" y="1079280"/>
            <a:ext cx="1188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0" idx="2"/>
            <a:endCxn id="182" idx="0"/>
          </p:cNvCxnSpPr>
          <p:nvPr/>
        </p:nvCxnSpPr>
        <p:spPr>
          <a:xfrm flipH="1">
            <a:off x="3912840" y="1979280"/>
            <a:ext cx="720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2" idx="2"/>
            <a:endCxn id="181" idx="0"/>
          </p:cNvCxnSpPr>
          <p:nvPr/>
        </p:nvCxnSpPr>
        <p:spPr>
          <a:xfrm flipH="1">
            <a:off x="3911400" y="3089160"/>
            <a:ext cx="2160" cy="87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1" idx="2"/>
            <a:endCxn id="183" idx="0"/>
          </p:cNvCxnSpPr>
          <p:nvPr/>
        </p:nvCxnSpPr>
        <p:spPr>
          <a:xfrm>
            <a:off x="3911760" y="4308480"/>
            <a:ext cx="8640" cy="79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1176840" y="3202920"/>
            <a:ext cx="1611720" cy="61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Poin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pee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9200" y="4421880"/>
            <a:ext cx="2576880" cy="61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Poin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pee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TurnRat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86160" y="5946120"/>
            <a:ext cx="2863440" cy="61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Poin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pee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TurnRat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79" idx="3"/>
            <a:endCxn id="182" idx="0"/>
          </p:cNvCxnSpPr>
          <p:nvPr/>
        </p:nvCxnSpPr>
        <p:spPr>
          <a:xfrm>
            <a:off x="2946240" y="2366640"/>
            <a:ext cx="967680" cy="37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8" idx="3"/>
            <a:endCxn id="181" idx="0"/>
          </p:cNvCxnSpPr>
          <p:nvPr/>
        </p:nvCxnSpPr>
        <p:spPr>
          <a:xfrm>
            <a:off x="2841120" y="3509640"/>
            <a:ext cx="1071000" cy="45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9" idx="3"/>
            <a:endCxn id="183" idx="0"/>
          </p:cNvCxnSpPr>
          <p:nvPr/>
        </p:nvCxnSpPr>
        <p:spPr>
          <a:xfrm>
            <a:off x="2989440" y="4728960"/>
            <a:ext cx="930960" cy="37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3" idx="2"/>
            <a:endCxn id="190" idx="0"/>
          </p:cNvCxnSpPr>
          <p:nvPr/>
        </p:nvCxnSpPr>
        <p:spPr>
          <a:xfrm flipH="1">
            <a:off x="3917160" y="5451480"/>
            <a:ext cx="252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0" idx="3"/>
            <a:endCxn id="178" idx="0"/>
          </p:cNvCxnSpPr>
          <p:nvPr/>
        </p:nvCxnSpPr>
        <p:spPr>
          <a:xfrm flipH="1" flipV="1">
            <a:off x="3907800" y="421920"/>
            <a:ext cx="1508760" cy="5831280"/>
          </a:xfrm>
          <a:prstGeom prst="bentConnector4">
            <a:avLst>
              <a:gd name="adj1" fmla="val -13890"/>
              <a:gd name="adj2" fmla="val 1035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638680" y="2666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omes the new current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55480" y="457920"/>
            <a:ext cx="302904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les priority &gt; Speed prior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 priority &gt; Turn Rate 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urn Rate priority &gt; G 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3586320"/>
            <a:ext cx="15238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the point to the 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endCxn id="198" idx="1"/>
          </p:cNvCxnSpPr>
          <p:nvPr/>
        </p:nvCxnSpPr>
        <p:spPr>
          <a:xfrm>
            <a:off x="5628960" y="3871800"/>
            <a:ext cx="16866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9160" y="2176200"/>
            <a:ext cx="700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54800" y="2176200"/>
            <a:ext cx="654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61160" y="2176200"/>
            <a:ext cx="801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28320" y="3107880"/>
            <a:ext cx="210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ing &amp; initia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2"/>
            <a:endCxn id="204" idx="0"/>
          </p:cNvCxnSpPr>
          <p:nvPr/>
        </p:nvCxnSpPr>
        <p:spPr>
          <a:xfrm>
            <a:off x="2719080" y="2517480"/>
            <a:ext cx="136080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2" idx="2"/>
            <a:endCxn id="204" idx="0"/>
          </p:cNvCxnSpPr>
          <p:nvPr/>
        </p:nvCxnSpPr>
        <p:spPr>
          <a:xfrm flipH="1">
            <a:off x="4079160" y="2517480"/>
            <a:ext cx="396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3" idx="2"/>
            <a:endCxn id="204" idx="0"/>
          </p:cNvCxnSpPr>
          <p:nvPr/>
        </p:nvCxnSpPr>
        <p:spPr>
          <a:xfrm flipH="1">
            <a:off x="4079160" y="2517480"/>
            <a:ext cx="128340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907000" y="4195440"/>
            <a:ext cx="2366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ready-to-use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4" idx="2"/>
            <a:endCxn id="208" idx="0"/>
          </p:cNvCxnSpPr>
          <p:nvPr/>
        </p:nvCxnSpPr>
        <p:spPr>
          <a:xfrm>
            <a:off x="4079520" y="3449520"/>
            <a:ext cx="1188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1483920"/>
            <a:ext cx="2465280" cy="116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rajectory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1" idx="2"/>
            <a:endCxn id="213" idx="0"/>
          </p:cNvCxnSpPr>
          <p:nvPr/>
        </p:nvCxnSpPr>
        <p:spPr>
          <a:xfrm>
            <a:off x="4281480" y="2603520"/>
            <a:ext cx="216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3196440" y="4057200"/>
            <a:ext cx="2171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 next trajectory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99960" y="5317560"/>
            <a:ext cx="2364480" cy="1000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Data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3" idx="2"/>
            <a:endCxn id="214" idx="0"/>
          </p:cNvCxnSpPr>
          <p:nvPr/>
        </p:nvCxnSpPr>
        <p:spPr>
          <a:xfrm>
            <a:off x="4282560" y="4398840"/>
            <a:ext cx="108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4" idx="4"/>
            <a:endCxn id="211" idx="0"/>
          </p:cNvCxnSpPr>
          <p:nvPr/>
        </p:nvCxnSpPr>
        <p:spPr>
          <a:xfrm flipV="1" rot="16200000">
            <a:off x="1893240" y="3910680"/>
            <a:ext cx="4777560" cy="2160"/>
          </a:xfrm>
          <a:prstGeom prst="bentConnector5">
            <a:avLst>
              <a:gd name="adj1" fmla="val -4785"/>
              <a:gd name="adj2" fmla="val 92200000"/>
              <a:gd name="adj3" fmla="val 1047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6484320" y="1895040"/>
            <a:ext cx="1370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3"/>
            <a:endCxn id="217" idx="1"/>
          </p:cNvCxnSpPr>
          <p:nvPr/>
        </p:nvCxnSpPr>
        <p:spPr>
          <a:xfrm>
            <a:off x="5513040" y="2063520"/>
            <a:ext cx="96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5410080" y="1752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8520" y="26668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23720" y="990360"/>
            <a:ext cx="3124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back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98640" y="2138040"/>
            <a:ext cx="225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alculate the 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66240" y="3509640"/>
            <a:ext cx="1845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dback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3" idx="3"/>
            <a:endCxn id="225" idx="1"/>
          </p:cNvCxnSpPr>
          <p:nvPr/>
        </p:nvCxnSpPr>
        <p:spPr>
          <a:xfrm>
            <a:off x="5519880" y="3677760"/>
            <a:ext cx="111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3" idx="1"/>
            <a:endCxn id="227" idx="2"/>
          </p:cNvCxnSpPr>
          <p:nvPr/>
        </p:nvCxnSpPr>
        <p:spPr>
          <a:xfrm rot="10800000">
            <a:off x="2580480" y="2631240"/>
            <a:ext cx="1077120" cy="1046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3" idx="0"/>
            <a:endCxn id="222" idx="1"/>
          </p:cNvCxnSpPr>
          <p:nvPr/>
        </p:nvCxnSpPr>
        <p:spPr>
          <a:xfrm flipH="1" flipV="1" rot="5400000">
            <a:off x="4438080" y="2457000"/>
            <a:ext cx="1199520" cy="89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5867280" y="3429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8195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 dif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3048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g dif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12680" y="2290320"/>
            <a:ext cx="1337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36600" y="3509640"/>
            <a:ext cx="1508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nex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45680" y="4438080"/>
            <a:ext cx="140616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0800" y="4438080"/>
            <a:ext cx="102204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2" idx="0"/>
            <a:endCxn id="223" idx="2"/>
          </p:cNvCxnSpPr>
          <p:nvPr/>
        </p:nvCxnSpPr>
        <p:spPr>
          <a:xfrm flipH="1" flipV="1" rot="5400000">
            <a:off x="3944520" y="3755520"/>
            <a:ext cx="550080" cy="740520"/>
          </a:xfrm>
          <a:prstGeom prst="bentConnector3">
            <a:avLst>
              <a:gd name="adj1" fmla="val 481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0"/>
            <a:endCxn id="223" idx="2"/>
          </p:cNvCxnSpPr>
          <p:nvPr/>
        </p:nvCxnSpPr>
        <p:spPr>
          <a:xfrm flipV="1" rot="16200000">
            <a:off x="4800960" y="3638880"/>
            <a:ext cx="550080" cy="973800"/>
          </a:xfrm>
          <a:prstGeom prst="bentConnector3">
            <a:avLst>
              <a:gd name="adj1" fmla="val 481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25000" y="248400"/>
            <a:ext cx="324108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ed Data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, AA, rang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, Turn rate, G (for both aircra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66040" y="1949400"/>
            <a:ext cx="1630080" cy="95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Event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83280" y="1528200"/>
            <a:ext cx="2324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 quantitativ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74880" y="4480920"/>
            <a:ext cx="174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 Recogn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35280" y="2899800"/>
            <a:ext cx="1823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ition Recogn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7" idx="2"/>
            <a:endCxn id="239" idx="0"/>
          </p:cNvCxnSpPr>
          <p:nvPr/>
        </p:nvCxnSpPr>
        <p:spPr>
          <a:xfrm>
            <a:off x="4546080" y="1111320"/>
            <a:ext cx="108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9" idx="2"/>
            <a:endCxn id="241" idx="0"/>
          </p:cNvCxnSpPr>
          <p:nvPr/>
        </p:nvCxnSpPr>
        <p:spPr>
          <a:xfrm>
            <a:off x="4546080" y="1870200"/>
            <a:ext cx="2520" cy="10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1" idx="2"/>
            <a:endCxn id="240" idx="0"/>
          </p:cNvCxnSpPr>
          <p:nvPr/>
        </p:nvCxnSpPr>
        <p:spPr>
          <a:xfrm flipH="1">
            <a:off x="4545720" y="3241800"/>
            <a:ext cx="2520" cy="123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8" idx="3"/>
            <a:endCxn id="241" idx="0"/>
          </p:cNvCxnSpPr>
          <p:nvPr/>
        </p:nvCxnSpPr>
        <p:spPr>
          <a:xfrm>
            <a:off x="2838240" y="2425320"/>
            <a:ext cx="1710360" cy="470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7" idx="3"/>
            <a:endCxn id="240" idx="0"/>
          </p:cNvCxnSpPr>
          <p:nvPr/>
        </p:nvCxnSpPr>
        <p:spPr>
          <a:xfrm>
            <a:off x="2997000" y="3920760"/>
            <a:ext cx="1549800" cy="55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1257480" y="2414160"/>
            <a:ext cx="144720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65680" y="3387240"/>
            <a:ext cx="1789920" cy="106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Event: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ition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62520" y="3776400"/>
            <a:ext cx="144720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3280" y="5312160"/>
            <a:ext cx="1789920" cy="131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Event: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ition recogniz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78560" y="5714640"/>
            <a:ext cx="144720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0" idx="2"/>
            <a:endCxn id="250" idx="0"/>
          </p:cNvCxnSpPr>
          <p:nvPr/>
        </p:nvCxnSpPr>
        <p:spPr>
          <a:xfrm>
            <a:off x="4546080" y="4822920"/>
            <a:ext cx="252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134520" y="461520"/>
            <a:ext cx="270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ing data and simul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33760" y="2322000"/>
            <a:ext cx="1902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dback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01080" y="1375920"/>
            <a:ext cx="1770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 th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4960" y="3190320"/>
            <a:ext cx="1960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gnizing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79040" y="6100200"/>
            <a:ext cx="2012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ng 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3360" y="5185800"/>
            <a:ext cx="925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37280" y="4195440"/>
            <a:ext cx="209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ing bas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3" idx="2"/>
            <a:endCxn id="255" idx="0"/>
          </p:cNvCxnSpPr>
          <p:nvPr/>
        </p:nvCxnSpPr>
        <p:spPr>
          <a:xfrm>
            <a:off x="4485960" y="802800"/>
            <a:ext cx="108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5" idx="2"/>
            <a:endCxn id="254" idx="0"/>
          </p:cNvCxnSpPr>
          <p:nvPr/>
        </p:nvCxnSpPr>
        <p:spPr>
          <a:xfrm>
            <a:off x="4485960" y="1717200"/>
            <a:ext cx="1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4" idx="2"/>
            <a:endCxn id="256" idx="0"/>
          </p:cNvCxnSpPr>
          <p:nvPr/>
        </p:nvCxnSpPr>
        <p:spPr>
          <a:xfrm>
            <a:off x="4485960" y="2664000"/>
            <a:ext cx="108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6" idx="2"/>
            <a:endCxn id="259" idx="0"/>
          </p:cNvCxnSpPr>
          <p:nvPr/>
        </p:nvCxnSpPr>
        <p:spPr>
          <a:xfrm>
            <a:off x="4485960" y="3532320"/>
            <a:ext cx="1080" cy="6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9" idx="2"/>
            <a:endCxn id="258" idx="0"/>
          </p:cNvCxnSpPr>
          <p:nvPr/>
        </p:nvCxnSpPr>
        <p:spPr>
          <a:xfrm>
            <a:off x="4485960" y="4537080"/>
            <a:ext cx="10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8" idx="2"/>
            <a:endCxn id="257" idx="0"/>
          </p:cNvCxnSpPr>
          <p:nvPr/>
        </p:nvCxnSpPr>
        <p:spPr>
          <a:xfrm>
            <a:off x="4485960" y="5527800"/>
            <a:ext cx="108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57" idx="2"/>
            <a:endCxn id="253" idx="0"/>
          </p:cNvCxnSpPr>
          <p:nvPr/>
        </p:nvCxnSpPr>
        <p:spPr>
          <a:xfrm flipH="1" flipV="1" rot="5400000">
            <a:off x="1494360" y="3448440"/>
            <a:ext cx="5985720" cy="2160"/>
          </a:xfrm>
          <a:prstGeom prst="bentConnector5">
            <a:avLst>
              <a:gd name="adj1" fmla="val -3819"/>
              <a:gd name="adj2" fmla="val 100200000"/>
              <a:gd name="adj3" fmla="val 1038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371600" y="15228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05740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96252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586728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8000" y="304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057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-how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962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ing Data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59817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imulator Bas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8380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838080"/>
            <a:ext cx="486000" cy="1219320"/>
          </a:xfrm>
          <a:prstGeom prst="upArrow">
            <a:avLst>
              <a:gd name="adj1" fmla="val 50000"/>
              <a:gd name="adj2" fmla="val 62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1143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eu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274320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30481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4648320"/>
            <a:ext cx="485640" cy="1218960"/>
          </a:xfrm>
          <a:prstGeom prst="downArrow">
            <a:avLst>
              <a:gd name="adj1" fmla="val 50000"/>
              <a:gd name="adj2" fmla="val 627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4952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2743200"/>
            <a:ext cx="486000" cy="1219320"/>
          </a:xfrm>
          <a:prstGeom prst="upArrow">
            <a:avLst>
              <a:gd name="adj1" fmla="val 50000"/>
              <a:gd name="adj2" fmla="val 62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9880" y="4648320"/>
            <a:ext cx="486000" cy="1218960"/>
          </a:xfrm>
          <a:prstGeom prst="upArrow">
            <a:avLst>
              <a:gd name="adj1" fmla="val 50000"/>
              <a:gd name="adj2" fmla="val 627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5105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Simulat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1295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3200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873040" y="2210040"/>
            <a:ext cx="1369440" cy="110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560" y="2210040"/>
            <a:ext cx="1458000" cy="110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ro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5080" y="230760"/>
            <a:ext cx="1822320" cy="73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Situ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7960" y="25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7" idx="3"/>
            <a:endCxn id="59" idx="0"/>
          </p:cNvCxnSpPr>
          <p:nvPr/>
        </p:nvCxnSpPr>
        <p:spPr>
          <a:xfrm>
            <a:off x="2155320" y="2765160"/>
            <a:ext cx="15930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8" idx="2"/>
            <a:endCxn id="59" idx="1"/>
          </p:cNvCxnSpPr>
          <p:nvPr/>
        </p:nvCxnSpPr>
        <p:spPr>
          <a:xfrm flipH="1">
            <a:off x="4114440" y="971640"/>
            <a:ext cx="2160" cy="15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9" idx="2"/>
            <a:endCxn id="56" idx="1"/>
          </p:cNvCxnSpPr>
          <p:nvPr/>
        </p:nvCxnSpPr>
        <p:spPr>
          <a:xfrm flipV="1">
            <a:off x="4723920" y="2764800"/>
            <a:ext cx="11437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1371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F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50680" y="1446840"/>
            <a:ext cx="2529360" cy="144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icData: For both aircraf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, turn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81920" y="1387440"/>
            <a:ext cx="2739600" cy="15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edDa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itional relative attribute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pect angle, Angle off,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both aircraft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, Turn rate,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4" idx="3"/>
            <a:endCxn id="65" idx="1"/>
          </p:cNvCxnSpPr>
          <p:nvPr/>
        </p:nvCxnSpPr>
        <p:spPr>
          <a:xfrm flipV="1">
            <a:off x="3392280" y="2169360"/>
            <a:ext cx="1880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761760"/>
            <a:ext cx="236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F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rot="19888200">
            <a:off x="2133720" y="2209680"/>
            <a:ext cx="38088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8006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NGLE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A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7512800">
            <a:off x="2815920" y="3130200"/>
            <a:ext cx="390600" cy="25704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3429000"/>
            <a:ext cx="137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SPEC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8988800">
            <a:off x="1371600" y="1371240"/>
            <a:ext cx="304920" cy="15228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38088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FormattedDataFactory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371600" y="30492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66294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6324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286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7445000">
            <a:off x="5776920" y="4886280"/>
            <a:ext cx="380880" cy="609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296720" y="685800"/>
            <a:ext cx="2757240" cy="495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143000" y="3352680"/>
            <a:ext cx="5410080" cy="204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8988800">
            <a:off x="1349280" y="3641400"/>
            <a:ext cx="457200" cy="15228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328480" y="2542680"/>
            <a:ext cx="3691080" cy="26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8988800">
            <a:off x="3581280" y="4495680"/>
            <a:ext cx="457200" cy="152640"/>
          </a:xfrm>
          <a:custGeom>
            <a:avLst/>
            <a:gdLst/>
            <a:ahLst/>
            <a:rect l="l" t="t" r="r" b="b"/>
            <a:pathLst>
              <a:path w="192" h="150">
                <a:moveTo>
                  <a:pt x="0" y="0"/>
                </a:moveTo>
                <a:cubicBezTo>
                  <a:pt x="5" y="17"/>
                  <a:pt x="14" y="74"/>
                  <a:pt x="30" y="96"/>
                </a:cubicBezTo>
                <a:cubicBezTo>
                  <a:pt x="46" y="118"/>
                  <a:pt x="69" y="123"/>
                  <a:pt x="96" y="132"/>
                </a:cubicBezTo>
                <a:cubicBezTo>
                  <a:pt x="123" y="141"/>
                  <a:pt x="172" y="146"/>
                  <a:pt x="192" y="1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8800" y="38862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HEADING ATT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65880" y="1600200"/>
            <a:ext cx="17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HEADING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H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5181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371600" y="51814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5909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37160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6248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952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6248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4382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 rot="7515000">
            <a:off x="4112280" y="1449000"/>
            <a:ext cx="423720" cy="4533840"/>
          </a:xfrm>
          <a:custGeom>
            <a:avLst/>
            <a:gdLst>
              <a:gd name="textAreaLeft" fmla="*/ 270720 w 423720"/>
              <a:gd name="textAreaRight" fmla="*/ 424080 w 423720"/>
              <a:gd name="textAreaTop" fmla="*/ 118080 h 4533840"/>
              <a:gd name="textAreaBottom" fmla="*/ 4415760 h 453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8520" y="320040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68360" y="1755000"/>
            <a:ext cx="340416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Data from the model Layer (Basic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ata to calculate (Formatted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9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ender’s airc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7242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acker’s airc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4191120"/>
            <a:ext cx="68580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33920" y="5105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Model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752480"/>
            <a:ext cx="7238880" cy="68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Data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14600" y="24379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2438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276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ic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276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ic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5240" y="4424040"/>
            <a:ext cx="2990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game world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24280" y="397656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10" idx="3"/>
            <a:endCxn id="108" idx="0"/>
          </p:cNvCxnSpPr>
          <p:nvPr/>
        </p:nvCxnSpPr>
        <p:spPr>
          <a:xfrm>
            <a:off x="2219400" y="4213080"/>
            <a:ext cx="1605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12" idx="2"/>
            <a:endCxn id="108" idx="1"/>
          </p:cNvCxnSpPr>
          <p:nvPr/>
        </p:nvCxnSpPr>
        <p:spPr>
          <a:xfrm>
            <a:off x="4183200" y="2833200"/>
            <a:ext cx="86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8" idx="2"/>
          </p:cNvCxnSpPr>
          <p:nvPr/>
        </p:nvCxnSpPr>
        <p:spPr>
          <a:xfrm flipV="1">
            <a:off x="4800240" y="4212720"/>
            <a:ext cx="11437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843840" y="3657600"/>
            <a:ext cx="1369440" cy="110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urn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87160" y="5643720"/>
            <a:ext cx="1785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 elapsed sin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t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0"/>
            <a:endCxn id="108" idx="3"/>
          </p:cNvCxnSpPr>
          <p:nvPr/>
        </p:nvCxnSpPr>
        <p:spPr>
          <a:xfrm flipV="1">
            <a:off x="4179600" y="4461840"/>
            <a:ext cx="11880" cy="11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5958360" y="3291840"/>
            <a:ext cx="2988000" cy="16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characteristics (a BasicData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both aircraf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X, ne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Speed, newTurn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H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3080" y="1142280"/>
            <a:ext cx="3179880" cy="16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characteristics (a BasicData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both aircraf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, Turn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680080" y="1375920"/>
            <a:ext cx="192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jectory Calc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60880" y="3128400"/>
            <a:ext cx="1360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t 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6920" y="3128400"/>
            <a:ext cx="1845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dback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8480" y="1375920"/>
            <a:ext cx="142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7720" y="5229720"/>
            <a:ext cx="2971800" cy="821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 data &amp; Model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H="1">
            <a:off x="6636600" y="442800"/>
            <a:ext cx="1188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7" idx="2"/>
            <a:endCxn id="118" idx="0"/>
          </p:cNvCxnSpPr>
          <p:nvPr/>
        </p:nvCxnSpPr>
        <p:spPr>
          <a:xfrm>
            <a:off x="6640560" y="1717200"/>
            <a:ext cx="2160" cy="140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8" idx="2"/>
            <a:endCxn id="121" idx="0"/>
          </p:cNvCxnSpPr>
          <p:nvPr/>
        </p:nvCxnSpPr>
        <p:spPr>
          <a:xfrm>
            <a:off x="6641640" y="3470040"/>
            <a:ext cx="2520" cy="17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1" idx="2"/>
            <a:endCxn id="126" idx="3"/>
          </p:cNvCxnSpPr>
          <p:nvPr/>
        </p:nvCxnSpPr>
        <p:spPr>
          <a:xfrm flipH="1">
            <a:off x="4477680" y="5640120"/>
            <a:ext cx="6800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6" idx="0"/>
            <a:endCxn id="119" idx="2"/>
          </p:cNvCxnSpPr>
          <p:nvPr/>
        </p:nvCxnSpPr>
        <p:spPr>
          <a:xfrm flipH="1" flipV="1">
            <a:off x="3369600" y="3470040"/>
            <a:ext cx="5400" cy="16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6" idx="1"/>
            <a:endCxn id="120" idx="1"/>
          </p:cNvCxnSpPr>
          <p:nvPr/>
        </p:nvCxnSpPr>
        <p:spPr>
          <a:xfrm rot="10800000">
            <a:off x="1599480" y="1544760"/>
            <a:ext cx="672120" cy="4100760"/>
          </a:xfrm>
          <a:prstGeom prst="bentConnector3">
            <a:avLst>
              <a:gd name="adj1" fmla="val 1340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9" idx="3"/>
            <a:endCxn id="118" idx="1"/>
          </p:cNvCxnSpPr>
          <p:nvPr/>
        </p:nvCxnSpPr>
        <p:spPr>
          <a:xfrm>
            <a:off x="4300560" y="3296880"/>
            <a:ext cx="165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1"/>
            <a:endCxn id="120" idx="2"/>
          </p:cNvCxnSpPr>
          <p:nvPr/>
        </p:nvCxnSpPr>
        <p:spPr>
          <a:xfrm rot="10800000">
            <a:off x="2321640" y="1716840"/>
            <a:ext cx="116640" cy="1580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0" idx="0"/>
          </p:cNvCxnSpPr>
          <p:nvPr/>
        </p:nvCxnSpPr>
        <p:spPr>
          <a:xfrm flipV="1">
            <a:off x="2322000" y="447480"/>
            <a:ext cx="2520" cy="92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9" idx="0"/>
            <a:endCxn id="117" idx="1"/>
          </p:cNvCxnSpPr>
          <p:nvPr/>
        </p:nvCxnSpPr>
        <p:spPr>
          <a:xfrm flipH="1" flipV="1" rot="5400000">
            <a:off x="3729600" y="1184400"/>
            <a:ext cx="1580040" cy="229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297180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5334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048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6002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adju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0574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8120" y="3733560"/>
            <a:ext cx="3581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Know-How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049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euver from AI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380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to AI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267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ro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71600" y="4822200"/>
            <a:ext cx="2206800" cy="1647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rajectory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31240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Know-How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52280"/>
            <a:ext cx="8686440" cy="6476760"/>
            <a:chOff x="304920" y="152280"/>
            <a:chExt cx="8686440" cy="6476760"/>
          </a:xfrm>
        </p:grpSpPr>
        <p:sp>
          <p:nvSpPr>
            <p:cNvPr id="144" name=""/>
            <p:cNvSpPr/>
            <p:nvPr/>
          </p:nvSpPr>
          <p:spPr>
            <a:xfrm>
              <a:off x="5950440" y="2469600"/>
              <a:ext cx="19209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jectory Calc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52480" y="4113000"/>
              <a:ext cx="13604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 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30840" y="4113000"/>
              <a:ext cx="18450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eedback 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61960" y="2469600"/>
              <a:ext cx="14259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vent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152280"/>
              <a:ext cx="8686440" cy="820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920" y="5808240"/>
              <a:ext cx="8686440" cy="820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matting Data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920" y="1703160"/>
              <a:ext cx="8686440" cy="346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440" y="1794240"/>
              <a:ext cx="8321040" cy="15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440" y="3527280"/>
              <a:ext cx="8321040" cy="155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4960" y="243288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AI Re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7840" y="40748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Model Re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133360" y="973080"/>
              <a:ext cx="0" cy="145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979680" y="973080"/>
              <a:ext cx="0" cy="145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33360" y="450180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979680" y="4502160"/>
              <a:ext cx="0" cy="12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8920" y="2615040"/>
              <a:ext cx="4082400" cy="1459440"/>
            </a:xfrm>
            <a:custGeom>
              <a:avLst/>
              <a:gdLst/>
              <a:ahLst/>
              <a:rect l="l" t="t" r="r" b="b"/>
              <a:pathLst>
                <a:path w="2143" h="768">
                  <a:moveTo>
                    <a:pt x="319" y="768"/>
                  </a:moveTo>
                  <a:cubicBezTo>
                    <a:pt x="317" y="698"/>
                    <a:pt x="0" y="473"/>
                    <a:pt x="304" y="345"/>
                  </a:cubicBezTo>
                  <a:cubicBezTo>
                    <a:pt x="608" y="217"/>
                    <a:pt x="1760" y="72"/>
                    <a:pt x="214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39000" y="2797920"/>
              <a:ext cx="594360" cy="1276920"/>
            </a:xfrm>
            <a:custGeom>
              <a:avLst/>
              <a:gdLst/>
              <a:ahLst/>
              <a:rect l="l" t="t" r="r" b="b"/>
              <a:pathLst>
                <a:path w="312" h="672">
                  <a:moveTo>
                    <a:pt x="312" y="672"/>
                  </a:moveTo>
                  <a:cubicBezTo>
                    <a:pt x="180" y="536"/>
                    <a:pt x="48" y="400"/>
                    <a:pt x="24" y="288"/>
                  </a:cubicBezTo>
                  <a:cubicBezTo>
                    <a:pt x="0" y="176"/>
                    <a:pt x="84" y="88"/>
                    <a:pt x="168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64840" y="4257000"/>
              <a:ext cx="261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79680" y="2843640"/>
              <a:ext cx="0" cy="123120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013160" y="11430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e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5520" y="11430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8400" y="533412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ed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3880" y="533412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ro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Calculate traj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905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euver: a set of results and 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7120" y="2671200"/>
            <a:ext cx="2143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the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endCxn id="169" idx="0"/>
          </p:cNvCxnSpPr>
          <p:nvPr/>
        </p:nvCxnSpPr>
        <p:spPr>
          <a:xfrm>
            <a:off x="4124160" y="1887120"/>
            <a:ext cx="5760" cy="78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3084840" y="3600000"/>
            <a:ext cx="2073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the 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9" idx="2"/>
            <a:endCxn id="171" idx="0"/>
          </p:cNvCxnSpPr>
          <p:nvPr/>
        </p:nvCxnSpPr>
        <p:spPr>
          <a:xfrm flipH="1">
            <a:off x="4122360" y="3013200"/>
            <a:ext cx="7200" cy="5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164760" y="4652640"/>
            <a:ext cx="1930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 the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1" idx="2"/>
            <a:endCxn id="173" idx="0"/>
          </p:cNvCxnSpPr>
          <p:nvPr/>
        </p:nvCxnSpPr>
        <p:spPr>
          <a:xfrm>
            <a:off x="4122720" y="3941280"/>
            <a:ext cx="8640" cy="70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2"/>
          </p:cNvCxnSpPr>
          <p:nvPr/>
        </p:nvCxnSpPr>
        <p:spPr>
          <a:xfrm flipH="1">
            <a:off x="4128840" y="4993920"/>
            <a:ext cx="2160" cy="77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191120" y="5105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jectory: a set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02:46:54Z</dcterms:created>
  <dc:creator>lefeuvre</dc:creator>
  <dc:description/>
  <dc:language>en-US</dc:language>
  <cp:lastModifiedBy>lefeuvre</cp:lastModifiedBy>
  <dcterms:modified xsi:type="dcterms:W3CDTF">2003-07-02T08:22:47Z</dcterms:modified>
  <cp:revision>48</cp:revision>
  <dc:subject/>
  <dc:title>PowerPoint Presentation</dc:title>
</cp:coreProperties>
</file>