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0B2-8582-449E-9368-C9646C1A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DA1-3AE1-4FFE-82B4-084A827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EBC-4920-4840-AD9E-83CC95DD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B34-3966-4482-994E-CF920FB5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5FC-39BC-4107-ACFF-D184F9E1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034-F264-42DC-9AA1-8146E81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456-BDD8-4CD4-ABD8-E70FB2E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940-D0C6-4E74-BD86-92166F0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6DE-CD30-4EA1-84A3-1BE8F8D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3C1-6CC1-405E-8854-F78ABF5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09D-2DCD-4C71-8A76-D85FABC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640-7197-4981-B7EF-1397F97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626-CBD8-46BC-A186-B74007A6C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00920" y="380988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tur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19960" y="228600"/>
            <a:ext cx="145944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ING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3920" y="2666880"/>
            <a:ext cx="14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5" idx="0"/>
          </p:cNvCxnSpPr>
          <p:nvPr/>
        </p:nvCxnSpPr>
        <p:spPr>
          <a:xfrm flipH="1">
            <a:off x="3847320" y="444240"/>
            <a:ext cx="702720" cy="153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2" idx="2"/>
            <a:endCxn id="47" idx="0"/>
          </p:cNvCxnSpPr>
          <p:nvPr/>
        </p:nvCxnSpPr>
        <p:spPr>
          <a:xfrm>
            <a:off x="4549680" y="444240"/>
            <a:ext cx="3580560" cy="17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170680" y="10666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_ROOM_LIMIT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16520" y="2209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1320" y="1447920"/>
            <a:ext cx="24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OSE_RANGE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TURNING_ROOM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3080" y="1981080"/>
            <a:ext cx="178848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 THE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5" idx="2"/>
            <a:endCxn id="41" idx="0"/>
          </p:cNvCxnSpPr>
          <p:nvPr/>
        </p:nvCxnSpPr>
        <p:spPr>
          <a:xfrm>
            <a:off x="3847320" y="2196720"/>
            <a:ext cx="383400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346200" y="3290760"/>
            <a:ext cx="168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&lt;aspect angle&lt;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20880" y="38862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2"/>
            <a:endCxn id="52" idx="0"/>
          </p:cNvCxnSpPr>
          <p:nvPr/>
        </p:nvCxnSpPr>
        <p:spPr>
          <a:xfrm>
            <a:off x="3847320" y="2196720"/>
            <a:ext cx="495720" cy="16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816920" y="289548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15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56" idx="0"/>
          </p:cNvCxnSpPr>
          <p:nvPr/>
        </p:nvCxnSpPr>
        <p:spPr>
          <a:xfrm flipH="1">
            <a:off x="1484640" y="2196720"/>
            <a:ext cx="2363040" cy="153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830520" y="373392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640" y="243828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2" idx="2"/>
            <a:endCxn id="57" idx="0"/>
          </p:cNvCxnSpPr>
          <p:nvPr/>
        </p:nvCxnSpPr>
        <p:spPr>
          <a:xfrm flipH="1">
            <a:off x="1176840" y="444240"/>
            <a:ext cx="3373200" cy="19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368720" y="167652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CLOSE_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15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Pur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4343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91240" y="4495680"/>
            <a:ext cx="139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2"/>
          </p:cNvCxnSpPr>
          <p:nvPr/>
        </p:nvCxnSpPr>
        <p:spPr>
          <a:xfrm flipH="1">
            <a:off x="953640" y="3949560"/>
            <a:ext cx="531360" cy="86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51880" y="4205160"/>
            <a:ext cx="114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gle  Of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6" idx="2"/>
          </p:cNvCxnSpPr>
          <p:nvPr/>
        </p:nvCxnSpPr>
        <p:spPr>
          <a:xfrm>
            <a:off x="1484640" y="3949560"/>
            <a:ext cx="61920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90920" y="41911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6" idx="2"/>
            <a:endCxn id="68" idx="0"/>
          </p:cNvCxnSpPr>
          <p:nvPr/>
        </p:nvCxnSpPr>
        <p:spPr>
          <a:xfrm>
            <a:off x="1484640" y="3949560"/>
            <a:ext cx="199872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965320" y="480060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84760" y="46339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45760" y="4876920"/>
            <a:ext cx="13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52" idx="2"/>
            <a:endCxn id="72" idx="0"/>
          </p:cNvCxnSpPr>
          <p:nvPr/>
        </p:nvCxnSpPr>
        <p:spPr>
          <a:xfrm>
            <a:off x="4342680" y="4101840"/>
            <a:ext cx="7668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989880" y="46483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52" idx="2"/>
            <a:endCxn id="75" idx="0"/>
          </p:cNvCxnSpPr>
          <p:nvPr/>
        </p:nvCxnSpPr>
        <p:spPr>
          <a:xfrm>
            <a:off x="4342680" y="4101840"/>
            <a:ext cx="1872360" cy="12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629400" y="4724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52" idx="2"/>
            <a:endCxn id="78" idx="0"/>
          </p:cNvCxnSpPr>
          <p:nvPr/>
        </p:nvCxnSpPr>
        <p:spPr>
          <a:xfrm>
            <a:off x="4342680" y="4101840"/>
            <a:ext cx="3636360" cy="115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461000" y="525780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240" y="4876920"/>
            <a:ext cx="101592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9680" y="548640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9" idx="2"/>
            <a:endCxn id="82" idx="0"/>
          </p:cNvCxnSpPr>
          <p:nvPr/>
        </p:nvCxnSpPr>
        <p:spPr>
          <a:xfrm flipH="1">
            <a:off x="359640" y="5092560"/>
            <a:ext cx="34092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7360" y="647712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9" idx="2"/>
            <a:endCxn id="83" idx="0"/>
          </p:cNvCxnSpPr>
          <p:nvPr/>
        </p:nvCxnSpPr>
        <p:spPr>
          <a:xfrm>
            <a:off x="700200" y="5092560"/>
            <a:ext cx="466200" cy="13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1598760" y="647712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9640" y="59436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9" idx="2"/>
            <a:endCxn id="85" idx="0"/>
          </p:cNvCxnSpPr>
          <p:nvPr/>
        </p:nvCxnSpPr>
        <p:spPr>
          <a:xfrm>
            <a:off x="700200" y="5092560"/>
            <a:ext cx="1239120" cy="13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-2520" y="6400800"/>
            <a:ext cx="7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9800" y="5791320"/>
            <a:ext cx="9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0120" y="4890960"/>
            <a:ext cx="11516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8480" y="56386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9" idx="2"/>
            <a:endCxn id="92" idx="0"/>
          </p:cNvCxnSpPr>
          <p:nvPr/>
        </p:nvCxnSpPr>
        <p:spPr>
          <a:xfrm>
            <a:off x="2255760" y="5106600"/>
            <a:ext cx="300960" cy="121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311640" y="594360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0000" y="632448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9" idx="2"/>
            <a:endCxn id="94" idx="0"/>
          </p:cNvCxnSpPr>
          <p:nvPr/>
        </p:nvCxnSpPr>
        <p:spPr>
          <a:xfrm>
            <a:off x="2255760" y="5106600"/>
            <a:ext cx="1041120" cy="121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72348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8760" y="5881680"/>
            <a:ext cx="93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9" idx="2"/>
            <a:endCxn id="96" idx="0"/>
          </p:cNvCxnSpPr>
          <p:nvPr/>
        </p:nvCxnSpPr>
        <p:spPr>
          <a:xfrm>
            <a:off x="2255760" y="5106600"/>
            <a:ext cx="1817280" cy="129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2207160" y="632448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2480" y="541008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60199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75" idx="2"/>
            <a:endCxn id="101" idx="0"/>
          </p:cNvCxnSpPr>
          <p:nvPr/>
        </p:nvCxnSpPr>
        <p:spPr>
          <a:xfrm flipH="1">
            <a:off x="5070960" y="5549760"/>
            <a:ext cx="114408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693480" y="6095880"/>
            <a:ext cx="95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080" y="647712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75" idx="2"/>
            <a:endCxn id="103" idx="0"/>
          </p:cNvCxnSpPr>
          <p:nvPr/>
        </p:nvCxnSpPr>
        <p:spPr>
          <a:xfrm>
            <a:off x="6214680" y="5549760"/>
            <a:ext cx="2062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54128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94360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75" idx="2"/>
            <a:endCxn id="105" idx="0"/>
          </p:cNvCxnSpPr>
          <p:nvPr/>
        </p:nvCxnSpPr>
        <p:spPr>
          <a:xfrm>
            <a:off x="6214680" y="5549760"/>
            <a:ext cx="167616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72176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9040" y="533412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0"/>
            <a:ext cx="2620800" cy="1219320"/>
            <a:chOff x="152280" y="0"/>
            <a:chExt cx="2620800" cy="1219320"/>
          </a:xfrm>
        </p:grpSpPr>
        <p:sp>
          <p:nvSpPr>
            <p:cNvPr id="109" name=""/>
            <p:cNvSpPr/>
            <p:nvPr/>
          </p:nvSpPr>
          <p:spPr>
            <a:xfrm>
              <a:off x="15228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6400" y="2827440"/>
            <a:ext cx="394200" cy="2156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2360" y="3284640"/>
            <a:ext cx="340920" cy="2156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8840" y="-152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360" y="129528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NRING_ROOM_LIMIT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m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2720" y="457200"/>
            <a:ext cx="12672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2"/>
            <a:endCxn id="117" idx="0"/>
          </p:cNvCxnSpPr>
          <p:nvPr/>
        </p:nvCxnSpPr>
        <p:spPr>
          <a:xfrm flipH="1">
            <a:off x="2453760" y="671400"/>
            <a:ext cx="194400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096440" y="119700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TUNRING_ROOM_LI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5" idx="2"/>
            <a:endCxn id="120" idx="0"/>
          </p:cNvCxnSpPr>
          <p:nvPr/>
        </p:nvCxnSpPr>
        <p:spPr>
          <a:xfrm>
            <a:off x="4397040" y="671400"/>
            <a:ext cx="1005480" cy="145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518720" y="2125800"/>
            <a:ext cx="17658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2"/>
            <a:endCxn id="122" idx="0"/>
          </p:cNvCxnSpPr>
          <p:nvPr/>
        </p:nvCxnSpPr>
        <p:spPr>
          <a:xfrm>
            <a:off x="5402160" y="2339640"/>
            <a:ext cx="126288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8201880" y="3254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tur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0" idx="2"/>
            <a:endCxn id="123" idx="0"/>
          </p:cNvCxnSpPr>
          <p:nvPr/>
        </p:nvCxnSpPr>
        <p:spPr>
          <a:xfrm>
            <a:off x="5401800" y="2340000"/>
            <a:ext cx="31726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868800" y="2797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7120" y="288756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1800" y="34974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16600" y="3954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04160" y="3940200"/>
            <a:ext cx="90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AO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2" idx="2"/>
            <a:endCxn id="130" idx="0"/>
          </p:cNvCxnSpPr>
          <p:nvPr/>
        </p:nvCxnSpPr>
        <p:spPr>
          <a:xfrm flipH="1">
            <a:off x="6519600" y="3711240"/>
            <a:ext cx="1447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985080" y="396252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_LIMIT 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NGLE OFF 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200" y="4495680"/>
            <a:ext cx="11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2" idx="2"/>
            <a:endCxn id="132" idx="0"/>
          </p:cNvCxnSpPr>
          <p:nvPr/>
        </p:nvCxnSpPr>
        <p:spPr>
          <a:xfrm>
            <a:off x="6663960" y="3711600"/>
            <a:ext cx="170100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456800" y="281160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&lt;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42200" y="342108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0" idx="2"/>
            <a:endCxn id="135" idx="0"/>
          </p:cNvCxnSpPr>
          <p:nvPr/>
        </p:nvCxnSpPr>
        <p:spPr>
          <a:xfrm flipH="1">
            <a:off x="4396680" y="2339640"/>
            <a:ext cx="10054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49760" y="624852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5280" y="39862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82200" y="38862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 &lt;AO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5" idx="2"/>
            <a:endCxn id="141" idx="0"/>
          </p:cNvCxnSpPr>
          <p:nvPr/>
        </p:nvCxnSpPr>
        <p:spPr>
          <a:xfrm flipH="1">
            <a:off x="1576080" y="3634920"/>
            <a:ext cx="282168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914280" y="411480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_LIMIT&lt;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2"/>
            <a:endCxn id="144" idx="0"/>
          </p:cNvCxnSpPr>
          <p:nvPr/>
        </p:nvCxnSpPr>
        <p:spPr>
          <a:xfrm flipH="1">
            <a:off x="4080960" y="3635280"/>
            <a:ext cx="31680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3505680" y="4572000"/>
            <a:ext cx="11516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34320" y="1577880"/>
            <a:ext cx="18403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YOND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90520" y="31780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 speed as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24163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8280" y="2187720"/>
            <a:ext cx="13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MEDIUM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17" idx="2"/>
            <a:endCxn id="149" idx="0"/>
          </p:cNvCxnSpPr>
          <p:nvPr/>
        </p:nvCxnSpPr>
        <p:spPr>
          <a:xfrm flipH="1">
            <a:off x="1461600" y="1792080"/>
            <a:ext cx="99288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1806840" y="27208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LOW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8280" y="3178080"/>
            <a:ext cx="11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 to get clo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17" idx="2"/>
            <a:endCxn id="151" idx="0"/>
          </p:cNvCxnSpPr>
          <p:nvPr/>
        </p:nvCxnSpPr>
        <p:spPr>
          <a:xfrm flipH="1">
            <a:off x="2293200" y="1792080"/>
            <a:ext cx="16092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621520" y="2340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HIGH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17" idx="2"/>
            <a:endCxn id="145" idx="0"/>
          </p:cNvCxnSpPr>
          <p:nvPr/>
        </p:nvCxnSpPr>
        <p:spPr>
          <a:xfrm>
            <a:off x="2454120" y="1792080"/>
            <a:ext cx="107712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1111320" y="27208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120" y="4343400"/>
            <a:ext cx="101592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53341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1" idx="2"/>
            <a:endCxn id="137" idx="0"/>
          </p:cNvCxnSpPr>
          <p:nvPr/>
        </p:nvCxnSpPr>
        <p:spPr>
          <a:xfrm flipH="1">
            <a:off x="460080" y="4557240"/>
            <a:ext cx="111672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254240" y="556272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5360" y="61722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1" idx="2"/>
            <a:endCxn id="158" idx="0"/>
          </p:cNvCxnSpPr>
          <p:nvPr/>
        </p:nvCxnSpPr>
        <p:spPr>
          <a:xfrm>
            <a:off x="1576440" y="4557240"/>
            <a:ext cx="4680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2435400" y="60199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51814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1" idx="2"/>
            <a:endCxn id="160" idx="0"/>
          </p:cNvCxnSpPr>
          <p:nvPr/>
        </p:nvCxnSpPr>
        <p:spPr>
          <a:xfrm>
            <a:off x="1576080" y="4557600"/>
            <a:ext cx="115956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197880" y="624852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486400"/>
            <a:ext cx="87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44" idx="2"/>
            <a:endCxn id="163" idx="0"/>
          </p:cNvCxnSpPr>
          <p:nvPr/>
        </p:nvCxnSpPr>
        <p:spPr>
          <a:xfrm flipH="1">
            <a:off x="3507840" y="4786200"/>
            <a:ext cx="57384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379760" y="5715000"/>
            <a:ext cx="11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39440" y="632448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4" idx="2"/>
            <a:endCxn id="167" idx="0"/>
          </p:cNvCxnSpPr>
          <p:nvPr/>
        </p:nvCxnSpPr>
        <p:spPr>
          <a:xfrm>
            <a:off x="4081320" y="4785840"/>
            <a:ext cx="66564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5299200" y="60958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maneveur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vent overshoo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410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44" idx="2"/>
            <a:endCxn id="169" idx="0"/>
          </p:cNvCxnSpPr>
          <p:nvPr/>
        </p:nvCxnSpPr>
        <p:spPr>
          <a:xfrm>
            <a:off x="4080960" y="4786200"/>
            <a:ext cx="1747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5943960" y="4419720"/>
            <a:ext cx="115164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6880" y="63244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11880" y="58672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30" idx="2"/>
            <a:endCxn id="172" idx="0"/>
          </p:cNvCxnSpPr>
          <p:nvPr/>
        </p:nvCxnSpPr>
        <p:spPr>
          <a:xfrm>
            <a:off x="6519600" y="4633920"/>
            <a:ext cx="41796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969240" y="556272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3520" y="624852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30" idx="2"/>
            <a:endCxn id="176" idx="0"/>
          </p:cNvCxnSpPr>
          <p:nvPr/>
        </p:nvCxnSpPr>
        <p:spPr>
          <a:xfrm>
            <a:off x="6519960" y="4633560"/>
            <a:ext cx="135108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8226720" y="5791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2578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30" idx="2"/>
            <a:endCxn id="178" idx="0"/>
          </p:cNvCxnSpPr>
          <p:nvPr/>
        </p:nvCxnSpPr>
        <p:spPr>
          <a:xfrm>
            <a:off x="6519960" y="4633560"/>
            <a:ext cx="200736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1" name=""/>
          <p:cNvGrpSpPr/>
          <p:nvPr/>
        </p:nvGrpSpPr>
        <p:grpSpPr>
          <a:xfrm>
            <a:off x="0" y="0"/>
            <a:ext cx="2620800" cy="1219320"/>
            <a:chOff x="0" y="0"/>
            <a:chExt cx="2620800" cy="1219320"/>
          </a:xfrm>
        </p:grpSpPr>
        <p:sp>
          <p:nvSpPr>
            <p:cNvPr id="182" name=""/>
            <p:cNvSpPr/>
            <p:nvPr/>
          </p:nvSpPr>
          <p:spPr>
            <a:xfrm>
              <a:off x="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41840" y="12873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TUNR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 of the enem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9480" y="2049480"/>
            <a:ext cx="18144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YOND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56600" y="228600"/>
            <a:ext cx="8910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URN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/>
          <p:nvPr/>
        </p:nvCxnSpPr>
        <p:spPr>
          <a:xfrm flipH="1">
            <a:off x="1606320" y="380520"/>
            <a:ext cx="2596320" cy="16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416480" y="1066680"/>
            <a:ext cx="13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TUNR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 from the enem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9600" y="4191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ok for turn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6" idx="2"/>
            <a:endCxn id="191" idx="0"/>
          </p:cNvCxnSpPr>
          <p:nvPr/>
        </p:nvCxnSpPr>
        <p:spPr>
          <a:xfrm>
            <a:off x="4202280" y="442440"/>
            <a:ext cx="186264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180760" y="2133720"/>
            <a:ext cx="176580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2"/>
            <a:endCxn id="193" idx="0"/>
          </p:cNvCxnSpPr>
          <p:nvPr/>
        </p:nvCxnSpPr>
        <p:spPr>
          <a:xfrm flipH="1">
            <a:off x="3582720" y="2347560"/>
            <a:ext cx="24818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8075880" y="3124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 tur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>
            <a:off x="6063840" y="2347920"/>
            <a:ext cx="24123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7162920" y="266688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1400" y="251460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0200" y="3048120"/>
            <a:ext cx="144396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7800" y="4114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3" idx="2"/>
            <a:endCxn id="189" idx="0"/>
          </p:cNvCxnSpPr>
          <p:nvPr/>
        </p:nvCxnSpPr>
        <p:spPr>
          <a:xfrm>
            <a:off x="3582720" y="3262320"/>
            <a:ext cx="27036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3" idx="2"/>
            <a:endCxn id="201" idx="0"/>
          </p:cNvCxnSpPr>
          <p:nvPr/>
        </p:nvCxnSpPr>
        <p:spPr>
          <a:xfrm flipH="1">
            <a:off x="2118960" y="3261960"/>
            <a:ext cx="146448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018840" y="274320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04280" y="3192480"/>
            <a:ext cx="130860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1" idx="2"/>
            <a:endCxn id="203" idx="0"/>
          </p:cNvCxnSpPr>
          <p:nvPr/>
        </p:nvCxnSpPr>
        <p:spPr>
          <a:xfrm>
            <a:off x="6064200" y="2347920"/>
            <a:ext cx="39600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2"/>
            <a:endCxn id="206" idx="0"/>
          </p:cNvCxnSpPr>
          <p:nvPr/>
        </p:nvCxnSpPr>
        <p:spPr>
          <a:xfrm flipH="1">
            <a:off x="6081120" y="3406680"/>
            <a:ext cx="378360" cy="18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3" idx="2"/>
            <a:endCxn id="208" idx="0"/>
          </p:cNvCxnSpPr>
          <p:nvPr/>
        </p:nvCxnSpPr>
        <p:spPr>
          <a:xfrm flipH="1">
            <a:off x="4647600" y="3406680"/>
            <a:ext cx="1811880" cy="186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7538760" y="50292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ok for turn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3" idx="2"/>
            <a:endCxn id="209" idx="0"/>
          </p:cNvCxnSpPr>
          <p:nvPr/>
        </p:nvCxnSpPr>
        <p:spPr>
          <a:xfrm>
            <a:off x="6459480" y="3406320"/>
            <a:ext cx="163584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518840" y="321480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92280" y="31305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185" idx="2"/>
            <a:endCxn id="211" idx="0"/>
          </p:cNvCxnSpPr>
          <p:nvPr/>
        </p:nvCxnSpPr>
        <p:spPr>
          <a:xfrm>
            <a:off x="1606320" y="2263680"/>
            <a:ext cx="430920" cy="9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-5400" y="321480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85" idx="2"/>
            <a:endCxn id="214" idx="0"/>
          </p:cNvCxnSpPr>
          <p:nvPr/>
        </p:nvCxnSpPr>
        <p:spPr>
          <a:xfrm flipH="1">
            <a:off x="540720" y="2263680"/>
            <a:ext cx="1065960" cy="9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85" idx="2"/>
            <a:endCxn id="217" idx="0"/>
          </p:cNvCxnSpPr>
          <p:nvPr/>
        </p:nvCxnSpPr>
        <p:spPr>
          <a:xfrm flipH="1">
            <a:off x="1036080" y="2263680"/>
            <a:ext cx="570600" cy="18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685800" y="4114800"/>
            <a:ext cx="70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0000" y="5272200"/>
            <a:ext cx="10159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2920" y="5943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8" idx="2"/>
            <a:endCxn id="220" idx="0"/>
          </p:cNvCxnSpPr>
          <p:nvPr/>
        </p:nvCxnSpPr>
        <p:spPr>
          <a:xfrm flipH="1">
            <a:off x="1156680" y="5486400"/>
            <a:ext cx="3491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2433240" y="647712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08" idx="2"/>
            <a:endCxn id="221" idx="0"/>
          </p:cNvCxnSpPr>
          <p:nvPr/>
        </p:nvCxnSpPr>
        <p:spPr>
          <a:xfrm flipH="1">
            <a:off x="2950920" y="5486400"/>
            <a:ext cx="16977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93400" y="632448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the same turn rate as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7400" y="59436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41960" y="6332400"/>
            <a:ext cx="77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66200" y="64008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int beh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08" idx="2"/>
            <a:endCxn id="225" idx="0"/>
          </p:cNvCxnSpPr>
          <p:nvPr/>
        </p:nvCxnSpPr>
        <p:spPr>
          <a:xfrm flipH="1">
            <a:off x="4419000" y="548640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505840" y="525780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76080" y="6521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Rate hig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06" idx="2"/>
            <a:endCxn id="227" idx="0"/>
          </p:cNvCxnSpPr>
          <p:nvPr/>
        </p:nvCxnSpPr>
        <p:spPr>
          <a:xfrm flipH="1">
            <a:off x="5722200" y="5471640"/>
            <a:ext cx="359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06" idx="2"/>
            <a:endCxn id="230" idx="0"/>
          </p:cNvCxnSpPr>
          <p:nvPr/>
        </p:nvCxnSpPr>
        <p:spPr>
          <a:xfrm>
            <a:off x="6081840" y="5472000"/>
            <a:ext cx="832320" cy="10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7678800" y="6324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06" idx="2"/>
            <a:endCxn id="231" idx="0"/>
          </p:cNvCxnSpPr>
          <p:nvPr/>
        </p:nvCxnSpPr>
        <p:spPr>
          <a:xfrm>
            <a:off x="6081840" y="5472000"/>
            <a:ext cx="22406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395760" y="647712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3320" y="4267080"/>
            <a:ext cx="115164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648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541008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880" y="518148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01" idx="2"/>
            <a:endCxn id="235" idx="0"/>
          </p:cNvCxnSpPr>
          <p:nvPr/>
        </p:nvCxnSpPr>
        <p:spPr>
          <a:xfrm flipH="1">
            <a:off x="693360" y="4481640"/>
            <a:ext cx="142632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2117520" y="4724280"/>
            <a:ext cx="125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73600" y="5181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01" idx="2"/>
            <a:endCxn id="238" idx="0"/>
          </p:cNvCxnSpPr>
          <p:nvPr/>
        </p:nvCxnSpPr>
        <p:spPr>
          <a:xfrm>
            <a:off x="2119320" y="4481640"/>
            <a:ext cx="59760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1972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Turn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8080" y="3322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4280" y="44956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0920" y="46483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640" y="419112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1560" y="275760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4400" y="26812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160" y="342900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67800" y="358920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56720" y="351324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79000" y="586728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4200" y="5791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8680" y="59436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2200" y="54864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2620800" cy="1219320"/>
            <a:chOff x="0" y="0"/>
            <a:chExt cx="2620800" cy="121932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9:46:51Z</dcterms:created>
  <dc:creator>andriam</dc:creator>
  <dc:description/>
  <dc:language>en-US</dc:language>
  <cp:lastModifiedBy>andriam</cp:lastModifiedBy>
  <dcterms:modified xsi:type="dcterms:W3CDTF">2003-05-19T09:47:21Z</dcterms:modified>
  <cp:revision>1</cp:revision>
  <dc:subject/>
  <dc:title>OUTPUT:Pursuit</dc:title>
</cp:coreProperties>
</file>