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BA9-8695-44E8-95F2-0489DBC7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EF8-4C05-4193-A5AF-16BC78FE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1AF-C9BC-432A-B1AC-979FB31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B00-D99C-44C8-AB44-B870C5CA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13A-5DAB-4432-8C9C-816A870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B55-CD4E-4A9F-BB9C-2DD979BC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DA0-8F4A-4ECA-B60C-F6A66A9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964-9B10-4573-8ABD-D232793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307-D31F-46AC-8DDD-DF30E2ED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7F1-6BE5-41D8-830B-BDB9E1E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348-3369-4637-A3EE-E8DDDB8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D67-34D0-466A-97AE-A17FAEE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8552-6805-4428-949A-FAE0BA15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152280"/>
            <a:ext cx="3276720" cy="6629400"/>
          </a:xfrm>
          <a:custGeom>
            <a:avLst/>
            <a:gdLst/>
            <a:ahLst/>
            <a:rect l="l" t="t" r="r" b="b"/>
            <a:pathLst>
              <a:path w="2064" h="4176">
                <a:moveTo>
                  <a:pt x="480" y="192"/>
                </a:moveTo>
                <a:lnTo>
                  <a:pt x="144" y="912"/>
                </a:lnTo>
                <a:lnTo>
                  <a:pt x="0" y="1344"/>
                </a:lnTo>
                <a:lnTo>
                  <a:pt x="96" y="1680"/>
                </a:lnTo>
                <a:lnTo>
                  <a:pt x="240" y="2160"/>
                </a:lnTo>
                <a:lnTo>
                  <a:pt x="288" y="2544"/>
                </a:lnTo>
                <a:lnTo>
                  <a:pt x="480" y="2736"/>
                </a:lnTo>
                <a:lnTo>
                  <a:pt x="816" y="2976"/>
                </a:lnTo>
                <a:lnTo>
                  <a:pt x="1152" y="3120"/>
                </a:lnTo>
                <a:lnTo>
                  <a:pt x="1392" y="3264"/>
                </a:lnTo>
                <a:lnTo>
                  <a:pt x="1536" y="3360"/>
                </a:lnTo>
                <a:lnTo>
                  <a:pt x="1584" y="3504"/>
                </a:lnTo>
                <a:lnTo>
                  <a:pt x="1584" y="3648"/>
                </a:lnTo>
                <a:lnTo>
                  <a:pt x="1488" y="3888"/>
                </a:lnTo>
                <a:lnTo>
                  <a:pt x="1488" y="4128"/>
                </a:lnTo>
                <a:lnTo>
                  <a:pt x="1632" y="4176"/>
                </a:lnTo>
                <a:lnTo>
                  <a:pt x="1728" y="4176"/>
                </a:lnTo>
                <a:lnTo>
                  <a:pt x="1968" y="4176"/>
                </a:lnTo>
                <a:lnTo>
                  <a:pt x="2064" y="4080"/>
                </a:lnTo>
                <a:lnTo>
                  <a:pt x="1968" y="3936"/>
                </a:lnTo>
                <a:lnTo>
                  <a:pt x="1920" y="3792"/>
                </a:lnTo>
                <a:lnTo>
                  <a:pt x="1920" y="3600"/>
                </a:lnTo>
                <a:lnTo>
                  <a:pt x="1824" y="3360"/>
                </a:lnTo>
                <a:lnTo>
                  <a:pt x="1776" y="3216"/>
                </a:lnTo>
                <a:lnTo>
                  <a:pt x="1728" y="3120"/>
                </a:lnTo>
                <a:lnTo>
                  <a:pt x="1584" y="3024"/>
                </a:lnTo>
                <a:lnTo>
                  <a:pt x="1440" y="2928"/>
                </a:lnTo>
                <a:lnTo>
                  <a:pt x="1296" y="2880"/>
                </a:lnTo>
                <a:lnTo>
                  <a:pt x="1200" y="2784"/>
                </a:lnTo>
                <a:lnTo>
                  <a:pt x="1104" y="2688"/>
                </a:lnTo>
                <a:lnTo>
                  <a:pt x="1008" y="2640"/>
                </a:lnTo>
                <a:lnTo>
                  <a:pt x="960" y="2592"/>
                </a:lnTo>
                <a:lnTo>
                  <a:pt x="816" y="2496"/>
                </a:lnTo>
                <a:lnTo>
                  <a:pt x="720" y="2448"/>
                </a:lnTo>
                <a:lnTo>
                  <a:pt x="624" y="2256"/>
                </a:lnTo>
                <a:lnTo>
                  <a:pt x="528" y="2064"/>
                </a:lnTo>
                <a:lnTo>
                  <a:pt x="432" y="1728"/>
                </a:lnTo>
                <a:lnTo>
                  <a:pt x="336" y="1488"/>
                </a:lnTo>
                <a:lnTo>
                  <a:pt x="288" y="1248"/>
                </a:lnTo>
                <a:lnTo>
                  <a:pt x="384" y="1008"/>
                </a:lnTo>
                <a:lnTo>
                  <a:pt x="480" y="816"/>
                </a:lnTo>
                <a:lnTo>
                  <a:pt x="576" y="624"/>
                </a:lnTo>
                <a:lnTo>
                  <a:pt x="624" y="480"/>
                </a:lnTo>
                <a:lnTo>
                  <a:pt x="672" y="288"/>
                </a:lnTo>
                <a:lnTo>
                  <a:pt x="672" y="192"/>
                </a:lnTo>
                <a:lnTo>
                  <a:pt x="721" y="35"/>
                </a:lnTo>
                <a:lnTo>
                  <a:pt x="576" y="0"/>
                </a:lnTo>
                <a:lnTo>
                  <a:pt x="480" y="144"/>
                </a:lnTo>
                <a:lnTo>
                  <a:pt x="487" y="189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00920" y="380988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tur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om limit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19960" y="228600"/>
            <a:ext cx="145944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IDE TURNING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68400" y="2643120"/>
            <a:ext cx="175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GH_AA &lt;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30 degre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ASPECT ANGLE TOO H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3" idx="2"/>
            <a:endCxn id="46" idx="0"/>
          </p:cNvCxnSpPr>
          <p:nvPr/>
        </p:nvCxnSpPr>
        <p:spPr>
          <a:xfrm flipH="1">
            <a:off x="3847320" y="444240"/>
            <a:ext cx="702720" cy="153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>
            <a:off x="4549680" y="444240"/>
            <a:ext cx="3580200" cy="17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92840" y="1042920"/>
            <a:ext cx="201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ING_ROOM_LIMIT&lt;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6440" y="2185920"/>
            <a:ext cx="122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ve close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25200" y="1424160"/>
            <a:ext cx="30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_RANGE&lt;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TURNING_ROOM_L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53080" y="1981080"/>
            <a:ext cx="178848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 THE 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2"/>
            <a:endCxn id="42" idx="0"/>
          </p:cNvCxnSpPr>
          <p:nvPr/>
        </p:nvCxnSpPr>
        <p:spPr>
          <a:xfrm>
            <a:off x="3847320" y="2196720"/>
            <a:ext cx="383400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3164760" y="3267000"/>
            <a:ext cx="20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W_AA&lt;aspect angle&lt;HIGH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20880" y="38862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2"/>
            <a:endCxn id="53" idx="0"/>
          </p:cNvCxnSpPr>
          <p:nvPr/>
        </p:nvCxnSpPr>
        <p:spPr>
          <a:xfrm>
            <a:off x="3847320" y="2196720"/>
            <a:ext cx="495720" cy="168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695240" y="287172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LOW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15 degre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6" idx="2"/>
            <a:endCxn id="57" idx="0"/>
          </p:cNvCxnSpPr>
          <p:nvPr/>
        </p:nvCxnSpPr>
        <p:spPr>
          <a:xfrm flipH="1">
            <a:off x="1484640" y="2196720"/>
            <a:ext cx="2363040" cy="153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830520" y="373392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" y="241452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2"/>
            <a:endCxn id="58" idx="0"/>
          </p:cNvCxnSpPr>
          <p:nvPr/>
        </p:nvCxnSpPr>
        <p:spPr>
          <a:xfrm flipH="1">
            <a:off x="1176840" y="444240"/>
            <a:ext cx="3373200" cy="19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240560" y="1652760"/>
            <a:ext cx="151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CLOSE_R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1500 f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Pur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4343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91240" y="4495680"/>
            <a:ext cx="139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7" idx="2"/>
          </p:cNvCxnSpPr>
          <p:nvPr/>
        </p:nvCxnSpPr>
        <p:spPr>
          <a:xfrm flipH="1">
            <a:off x="953640" y="3949560"/>
            <a:ext cx="531360" cy="86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37400" y="4181400"/>
            <a:ext cx="137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le  Of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20 degree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7" idx="2"/>
          </p:cNvCxnSpPr>
          <p:nvPr/>
        </p:nvCxnSpPr>
        <p:spPr>
          <a:xfrm>
            <a:off x="1484640" y="3949560"/>
            <a:ext cx="61920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590920" y="4191120"/>
            <a:ext cx="990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GH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45 degre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7" idx="2"/>
            <a:endCxn id="69" idx="0"/>
          </p:cNvCxnSpPr>
          <p:nvPr/>
        </p:nvCxnSpPr>
        <p:spPr>
          <a:xfrm>
            <a:off x="1484640" y="3949560"/>
            <a:ext cx="1998720" cy="82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864520" y="4776840"/>
            <a:ext cx="123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4760" y="46339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97080" y="4853160"/>
            <a:ext cx="168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3" idx="2"/>
            <a:endCxn id="73" idx="0"/>
          </p:cNvCxnSpPr>
          <p:nvPr/>
        </p:nvCxnSpPr>
        <p:spPr>
          <a:xfrm>
            <a:off x="4342680" y="4101840"/>
            <a:ext cx="76320" cy="12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908520" y="4624560"/>
            <a:ext cx="102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3" idx="2"/>
            <a:endCxn id="76" idx="0"/>
          </p:cNvCxnSpPr>
          <p:nvPr/>
        </p:nvCxnSpPr>
        <p:spPr>
          <a:xfrm>
            <a:off x="4342680" y="4101840"/>
            <a:ext cx="1872360" cy="12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6629400" y="47242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GH_AO&l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3" idx="2"/>
            <a:endCxn id="79" idx="0"/>
          </p:cNvCxnSpPr>
          <p:nvPr/>
        </p:nvCxnSpPr>
        <p:spPr>
          <a:xfrm>
            <a:off x="4342680" y="4101840"/>
            <a:ext cx="363636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360200" y="5234040"/>
            <a:ext cx="123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1880" y="4876920"/>
            <a:ext cx="101592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0" y="546264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0" idx="2"/>
            <a:endCxn id="83" idx="0"/>
          </p:cNvCxnSpPr>
          <p:nvPr/>
        </p:nvCxnSpPr>
        <p:spPr>
          <a:xfrm flipH="1">
            <a:off x="359280" y="5092560"/>
            <a:ext cx="340920" cy="12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780840" y="645336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0" idx="2"/>
            <a:endCxn id="84" idx="0"/>
          </p:cNvCxnSpPr>
          <p:nvPr/>
        </p:nvCxnSpPr>
        <p:spPr>
          <a:xfrm>
            <a:off x="699840" y="5092560"/>
            <a:ext cx="466560" cy="13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539360" y="64533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79640" y="594360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0" idx="2"/>
            <a:endCxn id="86" idx="0"/>
          </p:cNvCxnSpPr>
          <p:nvPr/>
        </p:nvCxnSpPr>
        <p:spPr>
          <a:xfrm>
            <a:off x="699840" y="5092560"/>
            <a:ext cx="1239480" cy="13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-66960" y="637704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d 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9800" y="5791320"/>
            <a:ext cx="90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9760" y="4890960"/>
            <a:ext cx="115164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87480" y="561492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0" idx="2"/>
            <a:endCxn id="93" idx="0"/>
          </p:cNvCxnSpPr>
          <p:nvPr/>
        </p:nvCxnSpPr>
        <p:spPr>
          <a:xfrm>
            <a:off x="2255400" y="5106600"/>
            <a:ext cx="301680" cy="11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3233520" y="5919840"/>
            <a:ext cx="101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4200" y="63007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2"/>
            <a:endCxn id="95" idx="0"/>
          </p:cNvCxnSpPr>
          <p:nvPr/>
        </p:nvCxnSpPr>
        <p:spPr>
          <a:xfrm>
            <a:off x="2255400" y="5106600"/>
            <a:ext cx="1041120" cy="11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3662280" y="637704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8760" y="588168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0" idx="2"/>
            <a:endCxn id="97" idx="0"/>
          </p:cNvCxnSpPr>
          <p:nvPr/>
        </p:nvCxnSpPr>
        <p:spPr>
          <a:xfrm>
            <a:off x="2255400" y="5106600"/>
            <a:ext cx="181764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146320" y="630072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6680" y="53863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06640" y="599616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76" idx="2"/>
            <a:endCxn id="102" idx="0"/>
          </p:cNvCxnSpPr>
          <p:nvPr/>
        </p:nvCxnSpPr>
        <p:spPr>
          <a:xfrm flipH="1">
            <a:off x="5071320" y="5549760"/>
            <a:ext cx="1143720" cy="82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603120" y="6072120"/>
            <a:ext cx="11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=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8280" y="645336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76" idx="2"/>
            <a:endCxn id="104" idx="0"/>
          </p:cNvCxnSpPr>
          <p:nvPr/>
        </p:nvCxnSpPr>
        <p:spPr>
          <a:xfrm>
            <a:off x="6214680" y="5549760"/>
            <a:ext cx="205920" cy="90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480080" y="637704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5943600"/>
            <a:ext cx="83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76" idx="2"/>
            <a:endCxn id="106" idx="0"/>
          </p:cNvCxnSpPr>
          <p:nvPr/>
        </p:nvCxnSpPr>
        <p:spPr>
          <a:xfrm>
            <a:off x="6214680" y="5549760"/>
            <a:ext cx="1676160" cy="82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660920" y="637704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9040" y="5334120"/>
            <a:ext cx="115164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0:06:59Z</dcterms:created>
  <dc:creator>andriam</dc:creator>
  <dc:description/>
  <dc:language>en-US</dc:language>
  <cp:lastModifiedBy>andriam</cp:lastModifiedBy>
  <dcterms:modified xsi:type="dcterms:W3CDTF">2003-05-19T10:11:15Z</dcterms:modified>
  <cp:revision>3</cp:revision>
  <dc:subject/>
  <dc:title>PowerPoint Presentation</dc:title>
</cp:coreProperties>
</file>