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70E6-9681-4D99-8F48-A6330B03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801B-75C5-4DFB-92A7-24B7D05C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9118-ADA3-4FE7-9D2E-15F4513E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9D2C-AB5F-4617-B19A-1A7DB5FC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76B-12D9-426B-9DB7-80CC68BB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FA86-1558-4296-A464-5BB5AA4A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73C-814C-4196-B1F8-70199570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8A54-265A-4D2C-A800-67E1DB73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C96E-3B4E-4C14-97D5-C0846892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CEFF-FE67-4806-BC1F-CCA196D1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07B-0444-4F79-B8F3-A307C624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183D-1EB5-4050-B61B-700AFB2E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DBC8-2B91-45A7-834C-A935A2998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371600" y="152280"/>
            <a:ext cx="7315200" cy="4496040"/>
            <a:chOff x="1371600" y="152280"/>
            <a:chExt cx="7315200" cy="4496040"/>
          </a:xfrm>
        </p:grpSpPr>
        <p:sp>
          <p:nvSpPr>
            <p:cNvPr id="42" name=""/>
            <p:cNvSpPr/>
            <p:nvPr/>
          </p:nvSpPr>
          <p:spPr>
            <a:xfrm>
              <a:off x="1371600" y="152280"/>
              <a:ext cx="7315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371600" y="2057400"/>
              <a:ext cx="7315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3962520"/>
              <a:ext cx="7315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924360" y="407664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S Basic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2211480"/>
              <a:ext cx="25146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vent Fact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10080" y="2211480"/>
              <a:ext cx="3124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sic Action Fact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43600" y="838080"/>
              <a:ext cx="485640" cy="1219320"/>
            </a:xfrm>
            <a:prstGeom prst="downArrow">
              <a:avLst>
                <a:gd name="adj1" fmla="val 50000"/>
                <a:gd name="adj2" fmla="val 6276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9880" y="838080"/>
              <a:ext cx="486000" cy="1219320"/>
            </a:xfrm>
            <a:prstGeom prst="upArrow">
              <a:avLst>
                <a:gd name="adj1" fmla="val 50000"/>
                <a:gd name="adj2" fmla="val 6272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24480" y="11430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neuv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943600" y="2743200"/>
              <a:ext cx="485640" cy="1219320"/>
            </a:xfrm>
            <a:prstGeom prst="downArrow">
              <a:avLst>
                <a:gd name="adj1" fmla="val 50000"/>
                <a:gd name="adj2" fmla="val 6276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24480" y="30481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sic a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09880" y="2743200"/>
              <a:ext cx="486000" cy="1219320"/>
            </a:xfrm>
            <a:prstGeom prst="upArrow">
              <a:avLst>
                <a:gd name="adj1" fmla="val 50000"/>
                <a:gd name="adj2" fmla="val 6272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47920" y="320040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sic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12952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v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48040" y="571680"/>
            <a:ext cx="160020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040" y="2781360"/>
            <a:ext cx="236232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Action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6" idx="2"/>
            <a:endCxn id="57" idx="0"/>
          </p:cNvCxnSpPr>
          <p:nvPr/>
        </p:nvCxnSpPr>
        <p:spPr>
          <a:xfrm flipV="1" rot="10800000">
            <a:off x="1599480" y="990360"/>
            <a:ext cx="2248560" cy="1791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43480" y="5295960"/>
            <a:ext cx="22096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S 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7" idx="4"/>
            <a:endCxn id="59" idx="2"/>
          </p:cNvCxnSpPr>
          <p:nvPr/>
        </p:nvCxnSpPr>
        <p:spPr>
          <a:xfrm flipH="1" rot="16200000">
            <a:off x="1581120" y="3714120"/>
            <a:ext cx="1981800" cy="1944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667560" y="2781360"/>
            <a:ext cx="190512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59" idx="6"/>
            <a:endCxn id="61" idx="4"/>
          </p:cNvCxnSpPr>
          <p:nvPr/>
        </p:nvCxnSpPr>
        <p:spPr>
          <a:xfrm flipV="1">
            <a:off x="5753160" y="3695040"/>
            <a:ext cx="1867680" cy="1981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61" idx="0"/>
            <a:endCxn id="56" idx="6"/>
          </p:cNvCxnSpPr>
          <p:nvPr/>
        </p:nvCxnSpPr>
        <p:spPr>
          <a:xfrm flipV="1" rot="16200000">
            <a:off x="5638320" y="799560"/>
            <a:ext cx="1791360" cy="2172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1409760" y="1181160"/>
            <a:ext cx="23623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neuv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targetSpeed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targetAspectAngle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targetAngleOff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targetTurnRate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52560" y="4152960"/>
            <a:ext cx="1981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asicAc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acceleration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turnRate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05440" y="4000680"/>
            <a:ext cx="304812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asicDat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myX, myY, myZ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mySpeed, myTurnRate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myHeading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enemyX, enemyY, enemyZ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enemySpeed, enemyTurnRate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enemyHeading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29480" y="876240"/>
            <a:ext cx="205740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ven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angleOff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aspectAngle;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range;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enemySpeed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mySpeed;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enemyTurnRate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myTurnRate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myG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3:49:27Z</dcterms:created>
  <dc:creator>lefeuvre</dc:creator>
  <dc:description/>
  <dc:language>en-US</dc:language>
  <cp:lastModifiedBy>lefeuvre</cp:lastModifiedBy>
  <dcterms:modified xsi:type="dcterms:W3CDTF">2003-05-12T09:54:28Z</dcterms:modified>
  <cp:revision>16</cp:revision>
  <dc:subject/>
  <dc:title>PowerPoint Presentation</dc:title>
</cp:coreProperties>
</file>