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5C8-9947-4587-857F-296E8558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873-9963-4002-ACD2-F914879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B97-4B60-47E0-92E5-ED5A6AF0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D13-D123-46AD-A4BD-E8096B5D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0CB-A667-4151-8A23-B639917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F2A-CED1-4FD0-B0C5-140FA32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74F-CD28-4926-ACE8-628248C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AB4-C8B4-4336-BDBF-02F10D4F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F06-7B1F-4AE3-A0CA-71E78CF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F54-52CE-4A3E-88E0-31BD961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761-EC71-4E52-90BF-62C634A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A3D-2571-4776-B02A-698CFA6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109-FE2F-4F0D-A65C-08072CF3A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5867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304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59817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838080"/>
            <a:ext cx="485640" cy="1447920"/>
          </a:xfrm>
          <a:prstGeom prst="downArrow">
            <a:avLst>
              <a:gd name="adj1" fmla="val 50000"/>
              <a:gd name="adj2" fmla="val 74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838080"/>
            <a:ext cx="486000" cy="1447920"/>
          </a:xfrm>
          <a:prstGeom prst="up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eu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267080"/>
            <a:ext cx="485640" cy="1600200"/>
          </a:xfrm>
          <a:prstGeom prst="downArrow">
            <a:avLst>
              <a:gd name="adj1" fmla="val 50000"/>
              <a:gd name="adj2" fmla="val 823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9528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91120"/>
            <a:ext cx="486000" cy="1676160"/>
          </a:xfrm>
          <a:prstGeom prst="upArrow">
            <a:avLst>
              <a:gd name="adj1" fmla="val 50000"/>
              <a:gd name="adj2" fmla="val 86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1295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2286000"/>
            <a:ext cx="7315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03:44Z</dcterms:created>
  <dc:creator>andriam</dc:creator>
  <dc:description/>
  <dc:language>en-US</dc:language>
  <cp:lastModifiedBy>andriam</cp:lastModifiedBy>
  <dcterms:modified xsi:type="dcterms:W3CDTF">2003-05-12T22:20:57Z</dcterms:modified>
  <cp:revision>6</cp:revision>
  <dc:subject/>
  <dc:title>PowerPoint Presentation</dc:title>
</cp:coreProperties>
</file>