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30F-7144-4617-BE4E-CAE9FE5E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1E5-53C4-464E-9E34-F73313F7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741-40A9-48AE-963E-993868B1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E15-97EA-4DCA-8C0D-F6E72CAA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FE0-0D48-41E8-A817-3EECE38E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A3A-A95C-4B7E-A120-21820FD8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4A3-E273-4FE3-83D3-AFFF36A3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1AD-49B9-444C-BAE1-B8964582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021-8B70-4950-B6BB-D7A3BA68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2A8-F9F7-44B7-A218-D6FBBE48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C2A-61D6-4929-BE76-0F93143F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A14-4871-4483-B995-EE6C2ED9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0782-C2C9-44AB-A370-DA23BA45C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0199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295280" y="8380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4876920"/>
            <a:ext cx="15228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1981080"/>
            <a:ext cx="152280" cy="15264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3040" y="45720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(t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16002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(t1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61120" y="59850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0040" y="4572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1981080"/>
            <a:ext cx="152280" cy="15264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640" y="15238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(t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3" idx="7"/>
            <a:endCxn id="49" idx="3"/>
          </p:cNvCxnSpPr>
          <p:nvPr/>
        </p:nvCxnSpPr>
        <p:spPr>
          <a:xfrm flipV="1">
            <a:off x="2873160" y="2111400"/>
            <a:ext cx="1797840" cy="2788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2" name=""/>
          <p:cNvCxnSpPr>
            <a:stCxn id="53" idx="0"/>
            <a:endCxn id="44" idx="2"/>
          </p:cNvCxnSpPr>
          <p:nvPr/>
        </p:nvCxnSpPr>
        <p:spPr>
          <a:xfrm flipV="1">
            <a:off x="2819520" y="2057400"/>
            <a:ext cx="4115160" cy="2895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4" name=""/>
          <p:cNvSpPr/>
          <p:nvPr/>
        </p:nvSpPr>
        <p:spPr>
          <a:xfrm>
            <a:off x="2819520" y="5029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295280" y="4952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295280" y="205740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1337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76160" y="5985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21337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6019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05720" y="6095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819520" y="3657600"/>
            <a:ext cx="838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819520" y="4419360"/>
            <a:ext cx="7617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21:35:50Z</dcterms:created>
  <dc:creator>andriam</dc:creator>
  <dc:description/>
  <dc:language>en-US</dc:language>
  <cp:lastModifiedBy>andriam</cp:lastModifiedBy>
  <dcterms:modified xsi:type="dcterms:W3CDTF">2003-05-12T22:24:23Z</dcterms:modified>
  <cp:revision>4</cp:revision>
  <dc:subject/>
  <dc:title>PowerPoint Presentation</dc:title>
</cp:coreProperties>
</file>