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E961-E242-4A6A-BA82-FA8D3553D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97D3-A6E1-4527-871B-1C774B21F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1AFD-6249-425F-A164-9EB4C9259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70A2-C12C-40A8-8695-86749C73D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D65F-6171-48C4-800E-391D5864C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8198-BCBA-4259-9476-8201338A8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EB24-B6BF-4A57-823D-47D48FC28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197D-3487-4DB2-87C6-EC0BC3768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A598-7E5A-40B5-BA6D-CD6A96590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7E67-BB3C-4BC1-82C1-C16219EB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174B-064D-4706-8D71-E50749D6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9123-4053-4465-BE7E-C42319E7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FB48B-F56B-4755-BB61-E01D6BDFC3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91120" y="4419720"/>
            <a:ext cx="1218960" cy="1447560"/>
          </a:xfrm>
          <a:custGeom>
            <a:avLst/>
            <a:gdLst>
              <a:gd name="textAreaLeft" fmla="*/ 0 w 1218960"/>
              <a:gd name="textAreaRight" fmla="*/ 1219320 w 121896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15042" y="6841"/>
                </a:moveTo>
                <a:arcTo wR="-5803" hR="-5803" stAng="-2581447" swAng="-19018553"/>
                <a:lnTo>
                  <a:pt x="0" y="10800"/>
                </a:lnTo>
                <a:arcTo wR="10800" hR="10800" stAng="10800000" swAng="19018553"/>
                <a:lnTo>
                  <a:pt x="931" y="20011"/>
                </a:lnTo>
                <a:lnTo>
                  <a:pt x="1184" y="12664"/>
                </a:lnTo>
                <a:lnTo>
                  <a:pt x="8532" y="12917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91120" y="2666880"/>
            <a:ext cx="1218960" cy="1447920"/>
          </a:xfrm>
          <a:custGeom>
            <a:avLst/>
            <a:gdLst>
              <a:gd name="textAreaLeft" fmla="*/ 0 w 1218960"/>
              <a:gd name="textAreaRight" fmla="*/ 1219320 w 121896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15042" y="6841"/>
                </a:moveTo>
                <a:arcTo wR="-5803" hR="-5803" stAng="-2581447" swAng="-19018553"/>
                <a:lnTo>
                  <a:pt x="0" y="10800"/>
                </a:lnTo>
                <a:arcTo wR="10800" hR="10800" stAng="10800000" swAng="19018553"/>
                <a:lnTo>
                  <a:pt x="931" y="20011"/>
                </a:lnTo>
                <a:lnTo>
                  <a:pt x="1184" y="12664"/>
                </a:lnTo>
                <a:lnTo>
                  <a:pt x="8532" y="12917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962520" y="762120"/>
            <a:ext cx="1371600" cy="160020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21600" h="21600">
                <a:moveTo>
                  <a:pt x="15042" y="6841"/>
                </a:moveTo>
                <a:arcTo wR="-5803" hR="-5803" stAng="-2581447" swAng="-19018553"/>
                <a:lnTo>
                  <a:pt x="0" y="10800"/>
                </a:lnTo>
                <a:arcTo wR="10800" hR="10800" stAng="10800000" swAng="19018553"/>
                <a:lnTo>
                  <a:pt x="931" y="20011"/>
                </a:lnTo>
                <a:lnTo>
                  <a:pt x="1184" y="12664"/>
                </a:lnTo>
                <a:lnTo>
                  <a:pt x="8532" y="12917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809880" y="1066680"/>
            <a:ext cx="1905120" cy="1143000"/>
            <a:chOff x="3809880" y="1066680"/>
            <a:chExt cx="1905120" cy="1143000"/>
          </a:xfrm>
        </p:grpSpPr>
        <p:sp>
          <p:nvSpPr>
            <p:cNvPr id="45" name=""/>
            <p:cNvSpPr/>
            <p:nvPr/>
          </p:nvSpPr>
          <p:spPr>
            <a:xfrm flipH="1">
              <a:off x="4419360" y="1066680"/>
              <a:ext cx="457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876560" y="1066680"/>
              <a:ext cx="381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419360" y="129528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4038480" y="1295280"/>
              <a:ext cx="3808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038480" y="159984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3809880" y="159948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5105160" y="129528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105160" y="1523880"/>
              <a:ext cx="2286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4876560" y="1523880"/>
              <a:ext cx="2286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33760" y="1828440"/>
              <a:ext cx="381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5104800" y="1828440"/>
              <a:ext cx="2286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257800" y="1295280"/>
              <a:ext cx="380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848520" y="1371600"/>
            <a:ext cx="136944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lfa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asicManeu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92480" y="2286000"/>
            <a:ext cx="14608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asicManeuver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73280" y="4114800"/>
            <a:ext cx="15523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asicManeuver’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09880" y="2743200"/>
            <a:ext cx="1905120" cy="1143000"/>
            <a:chOff x="3809880" y="2743200"/>
            <a:chExt cx="1905120" cy="1143000"/>
          </a:xfrm>
        </p:grpSpPr>
        <p:sp>
          <p:nvSpPr>
            <p:cNvPr id="61" name=""/>
            <p:cNvSpPr/>
            <p:nvPr/>
          </p:nvSpPr>
          <p:spPr>
            <a:xfrm flipH="1">
              <a:off x="4419360" y="2743200"/>
              <a:ext cx="457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876560" y="2743200"/>
              <a:ext cx="381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419360" y="297180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4038480" y="2971800"/>
              <a:ext cx="3808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038480" y="32763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3809880" y="32760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5105160" y="29718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160" y="3200400"/>
              <a:ext cx="2286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4876560" y="3200400"/>
              <a:ext cx="2286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333760" y="3504960"/>
              <a:ext cx="381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5104800" y="3504960"/>
              <a:ext cx="2286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257800" y="2971800"/>
              <a:ext cx="380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3809880" y="4495680"/>
            <a:ext cx="1905120" cy="1143000"/>
            <a:chOff x="3809880" y="4495680"/>
            <a:chExt cx="1905120" cy="1143000"/>
          </a:xfrm>
        </p:grpSpPr>
        <p:sp>
          <p:nvSpPr>
            <p:cNvPr id="74" name=""/>
            <p:cNvSpPr/>
            <p:nvPr/>
          </p:nvSpPr>
          <p:spPr>
            <a:xfrm flipH="1">
              <a:off x="4419360" y="4495680"/>
              <a:ext cx="457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76560" y="4495680"/>
              <a:ext cx="381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419360" y="472428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038480" y="4724280"/>
              <a:ext cx="3808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038480" y="502884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3809880" y="502848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5105160" y="472428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105160" y="4952880"/>
              <a:ext cx="2286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4876560" y="4952880"/>
              <a:ext cx="2286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333760" y="5257440"/>
              <a:ext cx="381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5104800" y="5257440"/>
              <a:ext cx="2286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257800" y="4724280"/>
              <a:ext cx="380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6" name=""/>
          <p:cNvCxnSpPr>
            <a:stCxn id="58" idx="0"/>
            <a:endCxn id="57" idx="3"/>
          </p:cNvCxnSpPr>
          <p:nvPr/>
        </p:nvCxnSpPr>
        <p:spPr>
          <a:xfrm flipV="1" rot="16200000">
            <a:off x="4528080" y="-709200"/>
            <a:ext cx="685440" cy="530532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87" name=""/>
          <p:cNvCxnSpPr>
            <a:stCxn id="58" idx="2"/>
            <a:endCxn id="59" idx="0"/>
          </p:cNvCxnSpPr>
          <p:nvPr/>
        </p:nvCxnSpPr>
        <p:spPr>
          <a:xfrm rot="5400000">
            <a:off x="3759840" y="352080"/>
            <a:ext cx="1552680" cy="5973840"/>
          </a:xfrm>
          <a:prstGeom prst="bentConnector3">
            <a:avLst>
              <a:gd name="adj1" fmla="val 5002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6716880" y="5105520"/>
            <a:ext cx="15523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asicManeuver’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" name=""/>
          <p:cNvCxnSpPr>
            <a:stCxn id="59" idx="2"/>
            <a:endCxn id="88" idx="1"/>
          </p:cNvCxnSpPr>
          <p:nvPr/>
        </p:nvCxnSpPr>
        <p:spPr>
          <a:xfrm flipH="1" rot="16200000">
            <a:off x="3706920" y="2233800"/>
            <a:ext cx="852840" cy="5167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1051560" y="600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720" y="45212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13:18:53Z</dcterms:created>
  <dc:creator>andriam</dc:creator>
  <dc:description/>
  <dc:language>en-US</dc:language>
  <cp:lastModifiedBy>andriam</cp:lastModifiedBy>
  <dcterms:modified xsi:type="dcterms:W3CDTF">2003-05-08T13:30:07Z</dcterms:modified>
  <cp:revision>8</cp:revision>
  <dc:subject/>
  <dc:title>PowerPoint Presentation</dc:title>
</cp:coreProperties>
</file>