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7C6C-BC27-4D59-B3B4-8E3705162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CB34-D72F-4252-AA90-2ED2E5D5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58DB-1067-47F1-84E6-DF4FB9676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8C77-7406-477B-B5D3-E0F5A7F6B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6D6D-205E-408C-BF2E-525EE8C0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CEA6-7628-4694-9DA6-259804DF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8176-F4DC-4B46-8B72-DEFD2DC8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584A-E960-4D58-98A5-BE257306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E148-7AE9-4139-A23A-50292F63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6BC2-40F5-42C2-A176-BCB54CDE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601B-5319-475F-8026-653E34DC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32E8-A025-459C-A0B1-3D39D544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124B-000A-40B3-8CA9-C6451D204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1371600"/>
            <a:ext cx="5257800" cy="4952880"/>
          </a:xfrm>
          <a:custGeom>
            <a:avLst/>
            <a:gdLst/>
            <a:ahLst/>
            <a:rect l="l" t="t" r="r" b="b"/>
            <a:pathLst>
              <a:path w="3312" h="3120">
                <a:moveTo>
                  <a:pt x="432" y="0"/>
                </a:moveTo>
                <a:lnTo>
                  <a:pt x="3312" y="2544"/>
                </a:lnTo>
                <a:lnTo>
                  <a:pt x="2976" y="2832"/>
                </a:lnTo>
                <a:lnTo>
                  <a:pt x="2664" y="2970"/>
                </a:lnTo>
                <a:lnTo>
                  <a:pt x="2352" y="3072"/>
                </a:lnTo>
                <a:lnTo>
                  <a:pt x="1680" y="3120"/>
                </a:lnTo>
                <a:lnTo>
                  <a:pt x="1104" y="2928"/>
                </a:lnTo>
                <a:lnTo>
                  <a:pt x="810" y="2778"/>
                </a:lnTo>
                <a:lnTo>
                  <a:pt x="528" y="2544"/>
                </a:lnTo>
                <a:lnTo>
                  <a:pt x="240" y="2160"/>
                </a:lnTo>
                <a:lnTo>
                  <a:pt x="96" y="1776"/>
                </a:lnTo>
                <a:lnTo>
                  <a:pt x="0" y="1296"/>
                </a:lnTo>
                <a:lnTo>
                  <a:pt x="48" y="816"/>
                </a:lnTo>
                <a:lnTo>
                  <a:pt x="240" y="336"/>
                </a:lnTo>
                <a:lnTo>
                  <a:pt x="48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rot="21245400">
            <a:off x="2209680" y="304560"/>
            <a:ext cx="6172200" cy="6019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1373040"/>
            <a:ext cx="4605480" cy="407844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386160" y="984240"/>
            <a:ext cx="3819600" cy="475776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2315400">
            <a:off x="5028840" y="3200400"/>
            <a:ext cx="380880" cy="6094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234200">
            <a:off x="3885840" y="5743080"/>
            <a:ext cx="380880" cy="6098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362320"/>
            <a:ext cx="1057320" cy="866520"/>
          </a:xfrm>
          <a:custGeom>
            <a:avLst/>
            <a:gdLst/>
            <a:ahLst/>
            <a:rect l="l" t="t" r="r" b="b"/>
            <a:pathLst>
              <a:path w="666" h="546">
                <a:moveTo>
                  <a:pt x="0" y="546"/>
                </a:moveTo>
                <a:cubicBezTo>
                  <a:pt x="51" y="495"/>
                  <a:pt x="195" y="331"/>
                  <a:pt x="306" y="240"/>
                </a:cubicBezTo>
                <a:cubicBezTo>
                  <a:pt x="417" y="149"/>
                  <a:pt x="591" y="50"/>
                  <a:pt x="66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886200" y="4190760"/>
            <a:ext cx="762120" cy="25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114800" y="3504960"/>
            <a:ext cx="1066680" cy="25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50640" y="5029200"/>
            <a:ext cx="106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GLE 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4952880"/>
            <a:ext cx="285840" cy="190800"/>
          </a:xfrm>
          <a:custGeom>
            <a:avLst/>
            <a:gdLst/>
            <a:ahLst/>
            <a:rect l="l" t="t" r="r" b="b"/>
            <a:pathLst>
              <a:path w="192" h="150">
                <a:moveTo>
                  <a:pt x="0" y="0"/>
                </a:moveTo>
                <a:cubicBezTo>
                  <a:pt x="5" y="17"/>
                  <a:pt x="14" y="74"/>
                  <a:pt x="30" y="96"/>
                </a:cubicBezTo>
                <a:cubicBezTo>
                  <a:pt x="46" y="118"/>
                  <a:pt x="69" y="123"/>
                  <a:pt x="96" y="132"/>
                </a:cubicBezTo>
                <a:cubicBezTo>
                  <a:pt x="123" y="141"/>
                  <a:pt x="172" y="146"/>
                  <a:pt x="192" y="15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53760" y="3581280"/>
            <a:ext cx="137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PECT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00600" y="3962520"/>
            <a:ext cx="228600" cy="152280"/>
          </a:xfrm>
          <a:custGeom>
            <a:avLst/>
            <a:gdLst/>
            <a:ahLst/>
            <a:rect l="l" t="t" r="r" b="b"/>
            <a:pathLst>
              <a:path w="192" h="150">
                <a:moveTo>
                  <a:pt x="0" y="0"/>
                </a:moveTo>
                <a:cubicBezTo>
                  <a:pt x="5" y="17"/>
                  <a:pt x="14" y="74"/>
                  <a:pt x="30" y="96"/>
                </a:cubicBezTo>
                <a:cubicBezTo>
                  <a:pt x="46" y="118"/>
                  <a:pt x="69" y="123"/>
                  <a:pt x="96" y="132"/>
                </a:cubicBezTo>
                <a:cubicBezTo>
                  <a:pt x="123" y="141"/>
                  <a:pt x="172" y="146"/>
                  <a:pt x="192" y="15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1371600"/>
            <a:ext cx="5257800" cy="4952880"/>
          </a:xfrm>
          <a:custGeom>
            <a:avLst/>
            <a:gdLst/>
            <a:ahLst/>
            <a:rect l="l" t="t" r="r" b="b"/>
            <a:pathLst>
              <a:path w="3312" h="3120">
                <a:moveTo>
                  <a:pt x="432" y="0"/>
                </a:moveTo>
                <a:lnTo>
                  <a:pt x="3312" y="2544"/>
                </a:lnTo>
                <a:lnTo>
                  <a:pt x="2976" y="2832"/>
                </a:lnTo>
                <a:lnTo>
                  <a:pt x="2664" y="2970"/>
                </a:lnTo>
                <a:lnTo>
                  <a:pt x="2352" y="3072"/>
                </a:lnTo>
                <a:lnTo>
                  <a:pt x="1680" y="3120"/>
                </a:lnTo>
                <a:lnTo>
                  <a:pt x="1104" y="2928"/>
                </a:lnTo>
                <a:lnTo>
                  <a:pt x="810" y="2778"/>
                </a:lnTo>
                <a:lnTo>
                  <a:pt x="528" y="2544"/>
                </a:lnTo>
                <a:lnTo>
                  <a:pt x="240" y="2160"/>
                </a:lnTo>
                <a:lnTo>
                  <a:pt x="96" y="1776"/>
                </a:lnTo>
                <a:lnTo>
                  <a:pt x="0" y="1296"/>
                </a:lnTo>
                <a:lnTo>
                  <a:pt x="48" y="816"/>
                </a:lnTo>
                <a:lnTo>
                  <a:pt x="240" y="336"/>
                </a:lnTo>
                <a:lnTo>
                  <a:pt x="48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1245400">
            <a:off x="2209680" y="304560"/>
            <a:ext cx="6172200" cy="6019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1373040"/>
            <a:ext cx="4605480" cy="407844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386160" y="984240"/>
            <a:ext cx="3819600" cy="475776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2315400">
            <a:off x="5028840" y="3200400"/>
            <a:ext cx="380880" cy="6094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20642400">
            <a:off x="3809880" y="5790960"/>
            <a:ext cx="381240" cy="6094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10080" y="2998800"/>
            <a:ext cx="1143000" cy="277920"/>
          </a:xfrm>
          <a:custGeom>
            <a:avLst/>
            <a:gdLst/>
            <a:ahLst/>
            <a:rect l="l" t="t" r="r" b="b"/>
            <a:pathLst>
              <a:path w="720" h="175">
                <a:moveTo>
                  <a:pt x="0" y="175"/>
                </a:moveTo>
                <a:cubicBezTo>
                  <a:pt x="45" y="150"/>
                  <a:pt x="184" y="50"/>
                  <a:pt x="270" y="25"/>
                </a:cubicBezTo>
                <a:cubicBezTo>
                  <a:pt x="356" y="0"/>
                  <a:pt x="441" y="0"/>
                  <a:pt x="516" y="25"/>
                </a:cubicBezTo>
                <a:cubicBezTo>
                  <a:pt x="591" y="50"/>
                  <a:pt x="678" y="144"/>
                  <a:pt x="720" y="17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543120" y="4114800"/>
            <a:ext cx="609480" cy="2743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114800" y="3504960"/>
            <a:ext cx="1066680" cy="25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93440" y="5943600"/>
            <a:ext cx="106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GLE 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5562720"/>
            <a:ext cx="285840" cy="190440"/>
          </a:xfrm>
          <a:custGeom>
            <a:avLst/>
            <a:gdLst/>
            <a:ahLst/>
            <a:rect l="l" t="t" r="r" b="b"/>
            <a:pathLst>
              <a:path w="192" h="150">
                <a:moveTo>
                  <a:pt x="0" y="0"/>
                </a:moveTo>
                <a:cubicBezTo>
                  <a:pt x="5" y="17"/>
                  <a:pt x="14" y="74"/>
                  <a:pt x="30" y="96"/>
                </a:cubicBezTo>
                <a:cubicBezTo>
                  <a:pt x="46" y="118"/>
                  <a:pt x="69" y="123"/>
                  <a:pt x="96" y="132"/>
                </a:cubicBezTo>
                <a:cubicBezTo>
                  <a:pt x="123" y="141"/>
                  <a:pt x="172" y="146"/>
                  <a:pt x="192" y="15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5360" y="4267080"/>
            <a:ext cx="137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PECT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3962520"/>
            <a:ext cx="228600" cy="152280"/>
          </a:xfrm>
          <a:custGeom>
            <a:avLst/>
            <a:gdLst/>
            <a:ahLst/>
            <a:rect l="l" t="t" r="r" b="b"/>
            <a:pathLst>
              <a:path w="192" h="150">
                <a:moveTo>
                  <a:pt x="0" y="0"/>
                </a:moveTo>
                <a:cubicBezTo>
                  <a:pt x="5" y="17"/>
                  <a:pt x="14" y="74"/>
                  <a:pt x="30" y="96"/>
                </a:cubicBezTo>
                <a:cubicBezTo>
                  <a:pt x="46" y="118"/>
                  <a:pt x="69" y="123"/>
                  <a:pt x="96" y="132"/>
                </a:cubicBezTo>
                <a:cubicBezTo>
                  <a:pt x="123" y="141"/>
                  <a:pt x="172" y="146"/>
                  <a:pt x="192" y="15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09680" y="1371600"/>
            <a:ext cx="5257800" cy="4952880"/>
          </a:xfrm>
          <a:custGeom>
            <a:avLst/>
            <a:gdLst/>
            <a:ahLst/>
            <a:rect l="l" t="t" r="r" b="b"/>
            <a:pathLst>
              <a:path w="3312" h="3120">
                <a:moveTo>
                  <a:pt x="432" y="0"/>
                </a:moveTo>
                <a:lnTo>
                  <a:pt x="3312" y="2544"/>
                </a:lnTo>
                <a:lnTo>
                  <a:pt x="2976" y="2832"/>
                </a:lnTo>
                <a:lnTo>
                  <a:pt x="2664" y="2970"/>
                </a:lnTo>
                <a:lnTo>
                  <a:pt x="2352" y="3072"/>
                </a:lnTo>
                <a:lnTo>
                  <a:pt x="1680" y="3120"/>
                </a:lnTo>
                <a:lnTo>
                  <a:pt x="1104" y="2928"/>
                </a:lnTo>
                <a:lnTo>
                  <a:pt x="810" y="2778"/>
                </a:lnTo>
                <a:lnTo>
                  <a:pt x="528" y="2544"/>
                </a:lnTo>
                <a:lnTo>
                  <a:pt x="240" y="2160"/>
                </a:lnTo>
                <a:lnTo>
                  <a:pt x="96" y="1776"/>
                </a:lnTo>
                <a:lnTo>
                  <a:pt x="0" y="1296"/>
                </a:lnTo>
                <a:lnTo>
                  <a:pt x="48" y="816"/>
                </a:lnTo>
                <a:lnTo>
                  <a:pt x="240" y="336"/>
                </a:lnTo>
                <a:lnTo>
                  <a:pt x="48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21245400">
            <a:off x="2209680" y="304560"/>
            <a:ext cx="6172200" cy="6019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1373040"/>
            <a:ext cx="4605480" cy="407844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673360" y="984240"/>
            <a:ext cx="4532400" cy="564516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2315400">
            <a:off x="5028840" y="3200400"/>
            <a:ext cx="380880" cy="6094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3930600">
            <a:off x="3885840" y="5743440"/>
            <a:ext cx="380880" cy="6094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2362320"/>
            <a:ext cx="1057320" cy="866520"/>
          </a:xfrm>
          <a:custGeom>
            <a:avLst/>
            <a:gdLst/>
            <a:ahLst/>
            <a:rect l="l" t="t" r="r" b="b"/>
            <a:pathLst>
              <a:path w="666" h="546">
                <a:moveTo>
                  <a:pt x="0" y="546"/>
                </a:moveTo>
                <a:cubicBezTo>
                  <a:pt x="51" y="495"/>
                  <a:pt x="195" y="331"/>
                  <a:pt x="306" y="240"/>
                </a:cubicBezTo>
                <a:cubicBezTo>
                  <a:pt x="417" y="149"/>
                  <a:pt x="591" y="50"/>
                  <a:pt x="66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37000" y="5653080"/>
            <a:ext cx="3752280" cy="107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114800" y="3504960"/>
            <a:ext cx="1066680" cy="25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50440" y="6019920"/>
            <a:ext cx="106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GLE 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53760" y="3581280"/>
            <a:ext cx="137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PECT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00600" y="3962520"/>
            <a:ext cx="228600" cy="152280"/>
          </a:xfrm>
          <a:custGeom>
            <a:avLst/>
            <a:gdLst/>
            <a:ahLst/>
            <a:rect l="l" t="t" r="r" b="b"/>
            <a:pathLst>
              <a:path w="192" h="150">
                <a:moveTo>
                  <a:pt x="0" y="0"/>
                </a:moveTo>
                <a:cubicBezTo>
                  <a:pt x="5" y="17"/>
                  <a:pt x="14" y="74"/>
                  <a:pt x="30" y="96"/>
                </a:cubicBezTo>
                <a:cubicBezTo>
                  <a:pt x="46" y="118"/>
                  <a:pt x="69" y="123"/>
                  <a:pt x="96" y="132"/>
                </a:cubicBezTo>
                <a:cubicBezTo>
                  <a:pt x="123" y="141"/>
                  <a:pt x="172" y="146"/>
                  <a:pt x="192" y="15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08120" y="5867280"/>
            <a:ext cx="749520" cy="762120"/>
          </a:xfrm>
          <a:custGeom>
            <a:avLst/>
            <a:gdLst/>
            <a:ahLst/>
            <a:rect l="l" t="t" r="r" b="b"/>
            <a:pathLst>
              <a:path w="472" h="480">
                <a:moveTo>
                  <a:pt x="472" y="270"/>
                </a:moveTo>
                <a:cubicBezTo>
                  <a:pt x="468" y="285"/>
                  <a:pt x="459" y="333"/>
                  <a:pt x="445" y="360"/>
                </a:cubicBezTo>
                <a:cubicBezTo>
                  <a:pt x="431" y="387"/>
                  <a:pt x="421" y="412"/>
                  <a:pt x="388" y="432"/>
                </a:cubicBezTo>
                <a:cubicBezTo>
                  <a:pt x="355" y="452"/>
                  <a:pt x="292" y="480"/>
                  <a:pt x="244" y="480"/>
                </a:cubicBezTo>
                <a:cubicBezTo>
                  <a:pt x="196" y="480"/>
                  <a:pt x="134" y="451"/>
                  <a:pt x="100" y="432"/>
                </a:cubicBezTo>
                <a:cubicBezTo>
                  <a:pt x="66" y="413"/>
                  <a:pt x="56" y="388"/>
                  <a:pt x="40" y="364"/>
                </a:cubicBezTo>
                <a:cubicBezTo>
                  <a:pt x="24" y="340"/>
                  <a:pt x="8" y="319"/>
                  <a:pt x="4" y="288"/>
                </a:cubicBezTo>
                <a:cubicBezTo>
                  <a:pt x="0" y="257"/>
                  <a:pt x="6" y="212"/>
                  <a:pt x="14" y="180"/>
                </a:cubicBezTo>
                <a:cubicBezTo>
                  <a:pt x="22" y="148"/>
                  <a:pt x="38" y="118"/>
                  <a:pt x="52" y="96"/>
                </a:cubicBezTo>
                <a:cubicBezTo>
                  <a:pt x="66" y="74"/>
                  <a:pt x="68" y="64"/>
                  <a:pt x="100" y="48"/>
                </a:cubicBezTo>
                <a:cubicBezTo>
                  <a:pt x="132" y="32"/>
                  <a:pt x="196" y="0"/>
                  <a:pt x="244" y="0"/>
                </a:cubicBezTo>
                <a:cubicBezTo>
                  <a:pt x="292" y="0"/>
                  <a:pt x="358" y="35"/>
                  <a:pt x="388" y="48"/>
                </a:cubicBezTo>
                <a:cubicBezTo>
                  <a:pt x="418" y="61"/>
                  <a:pt x="417" y="72"/>
                  <a:pt x="424" y="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895480" y="1373040"/>
            <a:ext cx="4605480" cy="407844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09680" y="1371600"/>
            <a:ext cx="5257800" cy="4952880"/>
          </a:xfrm>
          <a:custGeom>
            <a:avLst/>
            <a:gdLst/>
            <a:ahLst/>
            <a:rect l="l" t="t" r="r" b="b"/>
            <a:pathLst>
              <a:path w="3312" h="3120">
                <a:moveTo>
                  <a:pt x="432" y="0"/>
                </a:moveTo>
                <a:lnTo>
                  <a:pt x="3312" y="2544"/>
                </a:lnTo>
                <a:lnTo>
                  <a:pt x="2976" y="2832"/>
                </a:lnTo>
                <a:lnTo>
                  <a:pt x="2664" y="2970"/>
                </a:lnTo>
                <a:lnTo>
                  <a:pt x="2352" y="3072"/>
                </a:lnTo>
                <a:lnTo>
                  <a:pt x="1680" y="3120"/>
                </a:lnTo>
                <a:lnTo>
                  <a:pt x="1104" y="2928"/>
                </a:lnTo>
                <a:lnTo>
                  <a:pt x="810" y="2778"/>
                </a:lnTo>
                <a:lnTo>
                  <a:pt x="528" y="2544"/>
                </a:lnTo>
                <a:lnTo>
                  <a:pt x="240" y="2160"/>
                </a:lnTo>
                <a:lnTo>
                  <a:pt x="96" y="1776"/>
                </a:lnTo>
                <a:lnTo>
                  <a:pt x="0" y="1296"/>
                </a:lnTo>
                <a:lnTo>
                  <a:pt x="48" y="816"/>
                </a:lnTo>
                <a:lnTo>
                  <a:pt x="240" y="336"/>
                </a:lnTo>
                <a:lnTo>
                  <a:pt x="48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21245400">
            <a:off x="2209680" y="304560"/>
            <a:ext cx="6172200" cy="6019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257800" y="1218960"/>
            <a:ext cx="1752480" cy="563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57800" y="3657600"/>
            <a:ext cx="228600" cy="2362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25720" y="5105520"/>
            <a:ext cx="73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89040" y="2158920"/>
            <a:ext cx="106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GLE 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96200" y="1866960"/>
            <a:ext cx="285480" cy="190440"/>
          </a:xfrm>
          <a:custGeom>
            <a:avLst/>
            <a:gdLst/>
            <a:ahLst/>
            <a:rect l="l" t="t" r="r" b="b"/>
            <a:pathLst>
              <a:path w="192" h="150">
                <a:moveTo>
                  <a:pt x="0" y="0"/>
                </a:moveTo>
                <a:cubicBezTo>
                  <a:pt x="5" y="17"/>
                  <a:pt x="14" y="74"/>
                  <a:pt x="30" y="96"/>
                </a:cubicBezTo>
                <a:cubicBezTo>
                  <a:pt x="46" y="118"/>
                  <a:pt x="69" y="123"/>
                  <a:pt x="96" y="132"/>
                </a:cubicBezTo>
                <a:cubicBezTo>
                  <a:pt x="123" y="141"/>
                  <a:pt x="172" y="146"/>
                  <a:pt x="192" y="15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06400" y="4267080"/>
            <a:ext cx="137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PECT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3962520"/>
            <a:ext cx="533520" cy="304560"/>
          </a:xfrm>
          <a:custGeom>
            <a:avLst/>
            <a:gdLst/>
            <a:ahLst/>
            <a:rect l="l" t="t" r="r" b="b"/>
            <a:pathLst>
              <a:path w="192" h="150">
                <a:moveTo>
                  <a:pt x="0" y="0"/>
                </a:moveTo>
                <a:cubicBezTo>
                  <a:pt x="5" y="17"/>
                  <a:pt x="14" y="74"/>
                  <a:pt x="30" y="96"/>
                </a:cubicBezTo>
                <a:cubicBezTo>
                  <a:pt x="46" y="118"/>
                  <a:pt x="69" y="123"/>
                  <a:pt x="96" y="132"/>
                </a:cubicBezTo>
                <a:cubicBezTo>
                  <a:pt x="123" y="141"/>
                  <a:pt x="172" y="146"/>
                  <a:pt x="192" y="15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386160" y="984240"/>
            <a:ext cx="3819600" cy="475776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464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ack geo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28600" y="5410080"/>
            <a:ext cx="2620800" cy="1219320"/>
            <a:chOff x="228600" y="5410080"/>
            <a:chExt cx="2620800" cy="1219320"/>
          </a:xfrm>
        </p:grpSpPr>
        <p:sp>
          <p:nvSpPr>
            <p:cNvPr id="96" name=""/>
            <p:cNvSpPr/>
            <p:nvPr/>
          </p:nvSpPr>
          <p:spPr>
            <a:xfrm>
              <a:off x="228600" y="5410080"/>
              <a:ext cx="26208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POSITION (relativ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HEADING  (relativ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SPE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evision on enemy’s trajec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6095880"/>
              <a:ext cx="762120" cy="533520"/>
            </a:xfrm>
            <a:prstGeom prst="flowChartSummingJunct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 rot="1234200">
            <a:off x="5257440" y="5943240"/>
            <a:ext cx="380880" cy="6094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2235000">
            <a:off x="5152680" y="3009600"/>
            <a:ext cx="380880" cy="609480"/>
          </a:xfrm>
          <a:prstGeom prst="triangle">
            <a:avLst>
              <a:gd name="adj" fmla="val 5022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87840" y="6400800"/>
            <a:ext cx="101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T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1680" y="274320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E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12:01:10Z</dcterms:created>
  <dc:creator>lefeuvre</dc:creator>
  <dc:description/>
  <dc:language>en-US</dc:language>
  <cp:lastModifiedBy>lefeuvre</cp:lastModifiedBy>
  <dcterms:modified xsi:type="dcterms:W3CDTF">2003-05-08T09:39:15Z</dcterms:modified>
  <cp:revision>3</cp:revision>
  <dc:subject/>
  <dc:title>Example 1</dc:title>
</cp:coreProperties>
</file>