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7F3-F102-416C-9586-378EC23C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3F7-8D1E-4A07-A28F-160B127B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F69-4A2E-42C8-AE5E-B8ABBFE2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90F-9B99-4A3D-968E-A169F4DB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359-324E-48A2-8116-15E26B32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77C-85B9-4AFE-A1DF-2F0E1C1B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A8B-7143-4477-BC8E-3CE5B2D8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162-6EAF-41F3-A242-45978829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DC7-F1F1-40A3-9A43-568AEF70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B5D-C8CE-4E03-A76B-DC2CC1F9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C87-946B-4809-8B2D-CAEEFD6B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FEE-2CCD-4686-A2C2-672A1767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6E0-9B87-4612-9E8E-B7512FF94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43828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791320"/>
            <a:ext cx="146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u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1752480"/>
            <a:ext cx="5257800" cy="4953240"/>
          </a:xfrm>
          <a:custGeom>
            <a:avLst/>
            <a:gdLst/>
            <a:ahLst/>
            <a:rect l="l" t="t" r="r" b="b"/>
            <a:pathLst>
              <a:path w="3312" h="3120">
                <a:moveTo>
                  <a:pt x="432" y="0"/>
                </a:moveTo>
                <a:lnTo>
                  <a:pt x="3312" y="2544"/>
                </a:lnTo>
                <a:lnTo>
                  <a:pt x="2976" y="2832"/>
                </a:lnTo>
                <a:lnTo>
                  <a:pt x="2664" y="2970"/>
                </a:lnTo>
                <a:lnTo>
                  <a:pt x="2352" y="3072"/>
                </a:lnTo>
                <a:lnTo>
                  <a:pt x="1680" y="3120"/>
                </a:lnTo>
                <a:lnTo>
                  <a:pt x="1104" y="2928"/>
                </a:lnTo>
                <a:lnTo>
                  <a:pt x="810" y="2778"/>
                </a:lnTo>
                <a:lnTo>
                  <a:pt x="528" y="2544"/>
                </a:lnTo>
                <a:lnTo>
                  <a:pt x="240" y="2160"/>
                </a:lnTo>
                <a:lnTo>
                  <a:pt x="96" y="1776"/>
                </a:lnTo>
                <a:lnTo>
                  <a:pt x="0" y="1296"/>
                </a:lnTo>
                <a:lnTo>
                  <a:pt x="48" y="816"/>
                </a:lnTo>
                <a:lnTo>
                  <a:pt x="240" y="336"/>
                </a:lnTo>
                <a:lnTo>
                  <a:pt x="48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1245400">
            <a:off x="2209680" y="685440"/>
            <a:ext cx="6172200" cy="601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1754280"/>
            <a:ext cx="4605480" cy="4078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386160" y="0"/>
            <a:ext cx="4919760" cy="61228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315400">
            <a:off x="5029200" y="3581280"/>
            <a:ext cx="380880" cy="609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571400">
            <a:off x="4571640" y="6324120"/>
            <a:ext cx="380880" cy="609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5486400"/>
            <a:ext cx="1057320" cy="866880"/>
          </a:xfrm>
          <a:custGeom>
            <a:avLst/>
            <a:gdLst/>
            <a:ahLst/>
            <a:rect l="l" t="t" r="r" b="b"/>
            <a:pathLst>
              <a:path w="666" h="546">
                <a:moveTo>
                  <a:pt x="0" y="546"/>
                </a:moveTo>
                <a:cubicBezTo>
                  <a:pt x="51" y="495"/>
                  <a:pt x="195" y="331"/>
                  <a:pt x="306" y="240"/>
                </a:cubicBezTo>
                <a:cubicBezTo>
                  <a:pt x="417" y="149"/>
                  <a:pt x="591" y="50"/>
                  <a:pt x="6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143000" cy="277920"/>
          </a:xfrm>
          <a:custGeom>
            <a:avLst/>
            <a:gdLst/>
            <a:ahLst/>
            <a:rect l="l" t="t" r="r" b="b"/>
            <a:pathLst>
              <a:path w="720" h="175">
                <a:moveTo>
                  <a:pt x="0" y="175"/>
                </a:moveTo>
                <a:cubicBezTo>
                  <a:pt x="45" y="150"/>
                  <a:pt x="184" y="50"/>
                  <a:pt x="270" y="25"/>
                </a:cubicBezTo>
                <a:cubicBezTo>
                  <a:pt x="356" y="0"/>
                  <a:pt x="441" y="0"/>
                  <a:pt x="516" y="25"/>
                </a:cubicBezTo>
                <a:cubicBezTo>
                  <a:pt x="591" y="50"/>
                  <a:pt x="678" y="144"/>
                  <a:pt x="720" y="1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876920" y="3885840"/>
            <a:ext cx="30456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5440" y="205740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828800"/>
            <a:ext cx="285840" cy="19044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30080" y="4572000"/>
            <a:ext cx="137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343400"/>
            <a:ext cx="304920" cy="15228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876920" y="380880"/>
            <a:ext cx="3124080" cy="594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09480"/>
            <a:ext cx="259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urnRa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 Max turn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urnRa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 Enemy Turn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gt;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_AA&lt;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 HIGH_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8:10:06Z</dcterms:created>
  <dc:creator>lefeuvre</dc:creator>
  <dc:description/>
  <dc:language>en-US</dc:language>
  <cp:lastModifiedBy>lefeuvre</cp:lastModifiedBy>
  <dcterms:modified xsi:type="dcterms:W3CDTF">2003-05-20T08:10:33Z</dcterms:modified>
  <cp:revision>1</cp:revision>
  <dc:subject/>
  <dc:title>PowerPoint Presentation</dc:title>
</cp:coreProperties>
</file>