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9D5-B5F4-4976-8FD9-150EC2E0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322-9FDA-4E6F-9C35-4AF8892F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238-EB66-4C53-AA60-E91F9281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4CD-5D89-4448-96B6-1EDFB1A4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B17-27F4-426C-A864-3B3A03B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DBF-3BC5-4A19-9435-C3144BB6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C1B-76CC-4C77-B6AF-7EA520F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3C7-D96A-4532-8E37-23147D45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AD3-3051-43BC-BC4A-9F9AAD07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5C6-A6E5-4BFF-8E38-31ED702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E15-AF2F-4170-8E13-2C3D3994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254-45ED-4EF9-AF50-97D176B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81F-8479-4815-8953-DBBAC20B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0199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295280" y="8380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876920"/>
            <a:ext cx="15228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61120" y="5985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040" y="4572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1981080"/>
            <a:ext cx="15264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480" y="15238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3" idx="7"/>
            <a:endCxn id="46" idx="3"/>
          </p:cNvCxnSpPr>
          <p:nvPr/>
        </p:nvCxnSpPr>
        <p:spPr>
          <a:xfrm flipV="1">
            <a:off x="2873160" y="2111400"/>
            <a:ext cx="3474000" cy="278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9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952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295280" y="2057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6160" y="598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2133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360" y="396252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t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057400"/>
            <a:ext cx="3581280" cy="2895480"/>
          </a:xfrm>
          <a:custGeom>
            <a:avLst/>
            <a:gdLst/>
            <a:ahLst/>
            <a:rect l="l" t="t" r="r" b="b"/>
            <a:pathLst>
              <a:path w="2256" h="1824">
                <a:moveTo>
                  <a:pt x="0" y="1824"/>
                </a:moveTo>
                <a:lnTo>
                  <a:pt x="165" y="1168"/>
                </a:lnTo>
                <a:cubicBezTo>
                  <a:pt x="237" y="1041"/>
                  <a:pt x="319" y="1007"/>
                  <a:pt x="431" y="1061"/>
                </a:cubicBezTo>
                <a:cubicBezTo>
                  <a:pt x="543" y="1115"/>
                  <a:pt x="701" y="1476"/>
                  <a:pt x="838" y="1495"/>
                </a:cubicBezTo>
                <a:cubicBezTo>
                  <a:pt x="975" y="1514"/>
                  <a:pt x="1152" y="1355"/>
                  <a:pt x="1255" y="1176"/>
                </a:cubicBezTo>
                <a:cubicBezTo>
                  <a:pt x="1358" y="997"/>
                  <a:pt x="1291" y="619"/>
                  <a:pt x="1458" y="423"/>
                </a:cubicBezTo>
                <a:cubicBezTo>
                  <a:pt x="1625" y="227"/>
                  <a:pt x="2090" y="88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19520" y="4191120"/>
            <a:ext cx="91440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35:50Z</dcterms:created>
  <dc:creator>andriam</dc:creator>
  <dc:description/>
  <dc:language>en-US</dc:language>
  <cp:lastModifiedBy>andriam</cp:lastModifiedBy>
  <dcterms:modified xsi:type="dcterms:W3CDTF">2003-05-13T00:01:40Z</dcterms:modified>
  <cp:revision>6</cp:revision>
  <dc:subject/>
  <dc:title>PowerPoint Presentation</dc:title>
</cp:coreProperties>
</file>