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8B9-90DE-4F09-8D56-C34FC3DD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F00-C61E-4B47-85BD-2847DDD5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861-6269-45A3-8923-ED5AB808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BED-DB3A-430C-B37B-F9DE3849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3B1-EA85-4B0D-9775-28C23B59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7B3-4057-4FB7-AC1E-3000FB7A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84B-4990-4C2E-A31E-865E98C1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DBF-5D9E-429C-8359-B9B550A7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E1C-06B5-4C1D-806A-FB10F0FA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A2B-91E5-49F0-AC6F-C8594AF2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954-CE72-4602-8852-4D522462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8CA-CECF-467E-8F22-257A7C76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D8BC-C737-4F45-BC75-FD3D389F9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21337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basicData2Event(BasicData):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calculateRange(BasicData):flo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calculateAngleOff(BasicData):flo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calculateAspectAngle(BasicData):flo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calculateMyG(BasicData):flo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533520"/>
            <a:ext cx="2133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static) EventFa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838080"/>
            <a:ext cx="2666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Event current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float maneuver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457200"/>
            <a:ext cx="2666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static) BasicActionFa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76212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BasicData gameWorldCaracter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float virtual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float numberOf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380880"/>
            <a:ext cx="2438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static) FSBasic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403848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c float DEFAU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blic float targetSpe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blic float targetAspectAng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blic float targetAngle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blic float targetTurn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blic boolean hasAbo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3657600"/>
            <a:ext cx="2133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4191120"/>
            <a:ext cx="2209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static float MAX_ACCE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static float MIN_ACCE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static float MAX_TURN_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float accel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float turn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809880"/>
            <a:ext cx="2209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sic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403848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 float myX, myY, my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 float mySpeed, myTurn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 float myHeading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 float enemyX, enemyY, enemy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 float enemySpeed, enemyTurn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 float enemyH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657600"/>
            <a:ext cx="2133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sic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295280"/>
            <a:ext cx="26668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setCurrentEvent(Ev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command2BasicAction(Command):Basic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calculateAcceleration(Command):flo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claculateTurnRate(Command):flo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1371600"/>
            <a:ext cx="24386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getGameWorld():Basic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setGameWorld(float, 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%12 floats to fill the BasicData structure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updateBasicData(BasicAc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updateAttackerState(Basic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updateDefenderState(Basic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8380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8380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8380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8380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57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457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icAction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4572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SBasic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4572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14479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21932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mand2BasicAction(Comman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4" idx="2"/>
          </p:cNvCxnSpPr>
          <p:nvPr/>
        </p:nvCxnSpPr>
        <p:spPr>
          <a:xfrm rot="5400000">
            <a:off x="2216880" y="1455480"/>
            <a:ext cx="2134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1371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sic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4382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20968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pdateBasicData(BasicAc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733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3505320"/>
            <a:ext cx="28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sicData2Event(Basic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30481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8195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GameWorl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2" idx="2"/>
          </p:cNvCxnSpPr>
          <p:nvPr/>
        </p:nvCxnSpPr>
        <p:spPr>
          <a:xfrm rot="5400000">
            <a:off x="3303000" y="3036960"/>
            <a:ext cx="21348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2514600" y="31240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sic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0" idx="2"/>
          </p:cNvCxnSpPr>
          <p:nvPr/>
        </p:nvCxnSpPr>
        <p:spPr>
          <a:xfrm rot="5400000">
            <a:off x="4350600" y="3741480"/>
            <a:ext cx="2134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09880" y="38098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581280" y="434340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114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tCurrentEvent(Ev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85160" y="3700440"/>
            <a:ext cx="55440" cy="679320"/>
          </a:xfrm>
          <a:custGeom>
            <a:avLst/>
            <a:gdLst/>
            <a:ahLst/>
            <a:rect l="l" t="t" r="r" b="b"/>
            <a:pathLst>
              <a:path w="35" h="428">
                <a:moveTo>
                  <a:pt x="10" y="0"/>
                </a:moveTo>
                <a:cubicBezTo>
                  <a:pt x="22" y="26"/>
                  <a:pt x="35" y="52"/>
                  <a:pt x="33" y="73"/>
                </a:cubicBezTo>
                <a:cubicBezTo>
                  <a:pt x="31" y="94"/>
                  <a:pt x="0" y="105"/>
                  <a:pt x="0" y="126"/>
                </a:cubicBezTo>
                <a:cubicBezTo>
                  <a:pt x="0" y="147"/>
                  <a:pt x="33" y="173"/>
                  <a:pt x="33" y="200"/>
                </a:cubicBezTo>
                <a:cubicBezTo>
                  <a:pt x="33" y="227"/>
                  <a:pt x="0" y="261"/>
                  <a:pt x="0" y="287"/>
                </a:cubicBezTo>
                <a:cubicBezTo>
                  <a:pt x="0" y="313"/>
                  <a:pt x="32" y="331"/>
                  <a:pt x="33" y="354"/>
                </a:cubicBezTo>
                <a:cubicBezTo>
                  <a:pt x="34" y="377"/>
                  <a:pt x="20" y="402"/>
                  <a:pt x="7" y="42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0:18:27Z</dcterms:created>
  <dc:creator>lefeuvre</dc:creator>
  <dc:description/>
  <dc:language>en-US</dc:language>
  <cp:lastModifiedBy>lefeuvre</cp:lastModifiedBy>
  <dcterms:modified xsi:type="dcterms:W3CDTF">2003-05-09T09:30:50Z</dcterms:modified>
  <cp:revision>4</cp:revision>
  <dc:subject/>
  <dc:title>PowerPoint Presentation</dc:title>
</cp:coreProperties>
</file>