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DFD-738F-4EA8-B0B9-17F201D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7EE-3913-4619-A1AE-9E57AE17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162-A530-43AF-9740-092A23D2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4D-6187-4B13-83D9-4CB2FBF2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793-F4A5-43A9-9DE4-22B3CE5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028-528C-4575-9045-14758059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4BF-FAC3-4FD6-9D35-1CBE1E6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B77-8F60-4F66-995C-934F27B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CFD-BAA6-4E92-B801-9522663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CD1-40ED-4674-A0E3-686FDD9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F3B-F3C1-4778-8121-9138707E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14B-D4A2-4C85-B542-0DE51B2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D662-983F-4FFB-AD7F-91FEB3609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160" y="87480"/>
            <a:ext cx="9067680" cy="6686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167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pect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28954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gle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9160" y="3429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urn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1480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362320" y="30481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71800" y="34286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9:09:43Z</dcterms:created>
  <dc:creator>andriam</dc:creator>
  <dc:description/>
  <dc:language>en-US</dc:language>
  <cp:lastModifiedBy>andriam</cp:lastModifiedBy>
  <dcterms:modified xsi:type="dcterms:W3CDTF">2003-05-19T09:11:11Z</dcterms:modified>
  <cp:revision>4</cp:revision>
  <dc:subject/>
  <dc:title>PowerPoint Presentation</dc:title>
</cp:coreProperties>
</file>