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B43-C174-4E1C-B9B9-0014AABB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269-02FC-4E74-B394-7CF1F4D0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BB5-D398-4928-AC41-AAF9AB25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AF6-C080-4634-BB91-56F0A5F3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83B-28CE-4454-A8D8-76088D3D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9DF-4F17-4282-911A-0C1C8EA3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C24-9042-4465-90F3-25CC4B39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534-0F33-4BF3-9D6A-959C4B9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D04-AD45-4CE5-86B8-F4B7BEE8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2D2-68AF-4C33-92C9-FE5A4EF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1ED-DCD1-43C2-AD4E-28A3B54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27C-2A1A-4D03-9DEE-52DB65E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4D71-97E6-4794-972F-528EBF013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4760" y="1981080"/>
            <a:ext cx="264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W_AA&lt;aspect angle&lt;HIGH_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Courier New"/>
              </a:rPr>
              <a:t>(15 degree) (30 degr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>
            <a:off x="2270160" y="1340280"/>
            <a:ext cx="577080" cy="163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1252440" y="2971800"/>
            <a:ext cx="2035440" cy="2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 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2720" y="361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35240" y="36576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W_AO &lt;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A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&lt;HIGH_A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4" idx="2"/>
            <a:endCxn id="48" idx="0"/>
          </p:cNvCxnSpPr>
          <p:nvPr/>
        </p:nvCxnSpPr>
        <p:spPr>
          <a:xfrm>
            <a:off x="2270160" y="3248280"/>
            <a:ext cx="27000" cy="116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1511640" y="4416480"/>
            <a:ext cx="1570680" cy="276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8040" y="503244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Closure ra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&lt;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8" idx="2"/>
            <a:endCxn id="51" idx="0"/>
          </p:cNvCxnSpPr>
          <p:nvPr/>
        </p:nvCxnSpPr>
        <p:spPr>
          <a:xfrm>
            <a:off x="2296800" y="4692960"/>
            <a:ext cx="192600" cy="109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016360" y="579132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3520" y="1063800"/>
            <a:ext cx="2466720" cy="276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 THE  TURNING ROOM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56960" y="152280"/>
            <a:ext cx="25581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u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float targetSpeed = DEFAULT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argetAspectAngle = DEFAULT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argetAngleOff = DEFAULT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argetTurnRate = DEFAUL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1000" y="1676520"/>
            <a:ext cx="249732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u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argetSpeed = DEFAULT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float targetAspectAngle = LOW_A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argetAngleOff = DEFAULT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argetTurnRate = DEFAULT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3124080"/>
            <a:ext cx="315612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u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float targetSpeed = DEFAUL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AspectAngle = LOW_AA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float targetAngleOff = LOW_A0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TurnRate = DEFAUL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343400"/>
            <a:ext cx="323064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u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float targetSpeed = INITIAL_SPEED - 20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AspectAngle = LOW_AA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AngleOff = LOW_A0;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TurnRate = DEFAUL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8288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053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8769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8580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8520" y="304920"/>
            <a:ext cx="525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6240" y="1905120"/>
            <a:ext cx="5252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2767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44956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716440"/>
            <a:ext cx="342900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u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float targetSpeed = INITIAL_SPEED - 20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AspectAngle = LOW_AA; </a:t>
            </a:r>
            <a:br>
              <a:rPr sz="800"/>
            </a:b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float targetAngleOff = targetAspectAngle/2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float targetTurnRate = DEFAUL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7913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57913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iam</cp:lastModifiedBy>
  <dcterms:modified xsi:type="dcterms:W3CDTF">2003-05-08T10:31:46Z</dcterms:modified>
  <cp:revision>17</cp:revision>
  <dc:subject/>
  <dc:title>PowerPoint Presentation</dc:title>
</cp:coreProperties>
</file>