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6C8-CBAC-45E0-BFF1-4F0438F7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759-B552-4597-B897-67EEB41D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354-573D-499E-83A8-C91ACFD4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7C4-332C-48B4-9B80-44F4C45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CE3-2C8D-4E0D-98A9-D39F5B1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A8F-1079-4D07-A95C-E883D7D6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369-0280-4D02-87BF-B794AAD9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E93-3E72-44C3-A951-3EE31C0B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E53-A249-4E2C-B53B-9CFA8C5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BAE-FF28-470B-8D33-856DA6C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2D9-5F8E-4BAC-BEB7-E075C098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17D-0AD7-434A-8A4D-1E2EA40F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A476-2432-4FC6-ACF2-AF8EDC78D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160" y="1517760"/>
            <a:ext cx="24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8760" y="1676520"/>
            <a:ext cx="13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elerate / decele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240" y="2835360"/>
            <a:ext cx="117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Nose position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relatio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ho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54160" y="313992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Throttl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flipH="1">
            <a:off x="752400" y="1922760"/>
            <a:ext cx="1065240" cy="9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flipH="1">
            <a:off x="1735920" y="1922760"/>
            <a:ext cx="81720" cy="121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669760" y="2971800"/>
            <a:ext cx="88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2" idx="2"/>
            <a:endCxn id="47" idx="0"/>
          </p:cNvCxnSpPr>
          <p:nvPr/>
        </p:nvCxnSpPr>
        <p:spPr>
          <a:xfrm>
            <a:off x="1817280" y="1922760"/>
            <a:ext cx="1296720" cy="104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981080" y="222552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tude &gt; 10000’)  AND  (Speed: 300-400 KC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1880" y="274320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crease Closure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4400" y="40384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79560" y="312408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speed &gt; My.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0" idx="2"/>
            <a:endCxn id="51" idx="0"/>
          </p:cNvCxnSpPr>
          <p:nvPr/>
        </p:nvCxnSpPr>
        <p:spPr>
          <a:xfrm flipH="1">
            <a:off x="5184000" y="2958840"/>
            <a:ext cx="1202040" cy="10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700320" y="3276720"/>
            <a:ext cx="106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th aircraft Tu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44480" y="40464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0" idx="2"/>
            <a:endCxn id="55" idx="0"/>
          </p:cNvCxnSpPr>
          <p:nvPr/>
        </p:nvCxnSpPr>
        <p:spPr>
          <a:xfrm>
            <a:off x="6385680" y="2958840"/>
            <a:ext cx="1008360" cy="10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783480" y="38088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al Pos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440" y="167652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2"/>
            <a:endCxn id="58" idx="0"/>
          </p:cNvCxnSpPr>
          <p:nvPr/>
        </p:nvCxnSpPr>
        <p:spPr>
          <a:xfrm flipH="1">
            <a:off x="6434640" y="596520"/>
            <a:ext cx="74052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863320" y="9907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 is in the gr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zone of PSR dia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13360" y="2057400"/>
            <a:ext cx="10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dium 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4680" y="14479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 is in the or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zone of PSR dia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endCxn id="61" idx="0"/>
          </p:cNvCxnSpPr>
          <p:nvPr/>
        </p:nvCxnSpPr>
        <p:spPr>
          <a:xfrm>
            <a:off x="7162920" y="609480"/>
            <a:ext cx="1875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311240" y="9907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 is in the gre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zone of PSR dia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4760" y="1828800"/>
            <a:ext cx="93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 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7" idx="2"/>
            <a:endCxn id="65" idx="0"/>
          </p:cNvCxnSpPr>
          <p:nvPr/>
        </p:nvCxnSpPr>
        <p:spPr>
          <a:xfrm>
            <a:off x="7174800" y="596520"/>
            <a:ext cx="1135440" cy="12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7880" y="336852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Aircraft 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42" idx="2"/>
            <a:endCxn id="68" idx="0"/>
          </p:cNvCxnSpPr>
          <p:nvPr/>
        </p:nvCxnSpPr>
        <p:spPr>
          <a:xfrm>
            <a:off x="1817280" y="1922760"/>
            <a:ext cx="689040" cy="144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868840" y="3581280"/>
            <a:ext cx="97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Drag de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peed brak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42" idx="2"/>
            <a:endCxn id="70" idx="0"/>
          </p:cNvCxnSpPr>
          <p:nvPr/>
        </p:nvCxnSpPr>
        <p:spPr>
          <a:xfrm>
            <a:off x="1817280" y="1922760"/>
            <a:ext cx="1541520" cy="165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85200" y="222552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.altitu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Enemy.altitu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781320" y="4419720"/>
            <a:ext cx="106020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Go to Max turn 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70960" y="4952880"/>
            <a:ext cx="54504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G  &lt;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52080" y="5334120"/>
            <a:ext cx="106452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Increase G up to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4" idx="2"/>
            <a:endCxn id="246" idx="0"/>
          </p:cNvCxnSpPr>
          <p:nvPr/>
        </p:nvCxnSpPr>
        <p:spPr>
          <a:xfrm flipH="1">
            <a:off x="7184160" y="4642920"/>
            <a:ext cx="127800" cy="69156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7633440" y="4876920"/>
            <a:ext cx="51912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G&gt;.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40680" y="1371600"/>
            <a:ext cx="180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 to Max Turn Rate / increase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2640" y="1905120"/>
            <a:ext cx="69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5560" y="25146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crease speed  up to 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Increase G to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2"/>
            <a:endCxn id="251" idx="0"/>
          </p:cNvCxnSpPr>
          <p:nvPr/>
        </p:nvCxnSpPr>
        <p:spPr>
          <a:xfrm flipH="1">
            <a:off x="998280" y="1585800"/>
            <a:ext cx="84528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1447200" y="2286000"/>
            <a:ext cx="69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32400" y="289548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rease speed until 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Increase G to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9" idx="2"/>
            <a:endCxn id="254" idx="0"/>
          </p:cNvCxnSpPr>
          <p:nvPr/>
        </p:nvCxnSpPr>
        <p:spPr>
          <a:xfrm flipH="1">
            <a:off x="1539000" y="1585800"/>
            <a:ext cx="30420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1844640" y="251460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0 =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&lt;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0920" y="297180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49" idx="2"/>
            <a:endCxn id="257" idx="0"/>
          </p:cNvCxnSpPr>
          <p:nvPr/>
        </p:nvCxnSpPr>
        <p:spPr>
          <a:xfrm>
            <a:off x="1842840" y="1585800"/>
            <a:ext cx="988200" cy="138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4" idx="2"/>
            <a:endCxn id="260" idx="0"/>
          </p:cNvCxnSpPr>
          <p:nvPr/>
        </p:nvCxnSpPr>
        <p:spPr>
          <a:xfrm>
            <a:off x="7311960" y="4643280"/>
            <a:ext cx="1078200" cy="84384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7850880" y="5486400"/>
            <a:ext cx="107820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Decrease G until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max turn rate / ease turn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4440" y="373392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e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00440" y="4335480"/>
            <a:ext cx="62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&lt;&lt;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37240" y="4716360"/>
            <a:ext cx="4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2" idx="2"/>
            <a:endCxn id="264" idx="0"/>
          </p:cNvCxnSpPr>
          <p:nvPr/>
        </p:nvCxnSpPr>
        <p:spPr>
          <a:xfrm flipH="1">
            <a:off x="1353240" y="3948120"/>
            <a:ext cx="16452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1762560" y="4259160"/>
            <a:ext cx="60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&gt;.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2" idx="2"/>
            <a:endCxn id="268" idx="0"/>
          </p:cNvCxnSpPr>
          <p:nvPr/>
        </p:nvCxnSpPr>
        <p:spPr>
          <a:xfrm>
            <a:off x="1517760" y="3948120"/>
            <a:ext cx="1046880" cy="92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1914120" y="4869000"/>
            <a:ext cx="129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rease speed –100 kn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00" y="5097600"/>
            <a:ext cx="98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0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4" idx="2"/>
            <a:endCxn id="271" idx="0"/>
          </p:cNvCxnSpPr>
          <p:nvPr/>
        </p:nvCxnSpPr>
        <p:spPr>
          <a:xfrm flipH="1">
            <a:off x="775440" y="4930920"/>
            <a:ext cx="57852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113760" y="5783400"/>
            <a:ext cx="132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rease speed – 200 kn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10920" y="5402160"/>
            <a:ext cx="73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33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23800" y="5783400"/>
            <a:ext cx="129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rease speed –100 kn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64" idx="2"/>
            <a:endCxn id="273" idx="0"/>
          </p:cNvCxnSpPr>
          <p:nvPr/>
        </p:nvCxnSpPr>
        <p:spPr>
          <a:xfrm>
            <a:off x="1353960" y="4930920"/>
            <a:ext cx="7200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2730960" y="5859360"/>
            <a:ext cx="68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spe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4" idx="2"/>
            <a:endCxn id="275" idx="0"/>
          </p:cNvCxnSpPr>
          <p:nvPr/>
        </p:nvCxnSpPr>
        <p:spPr>
          <a:xfrm>
            <a:off x="1353960" y="4930560"/>
            <a:ext cx="172008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2351880" y="5478480"/>
            <a:ext cx="74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0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pe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440" y="2743200"/>
            <a:ext cx="91980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Increase turn 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520" y="1295280"/>
            <a:ext cx="95328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Decrease turn 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14880" y="1371600"/>
            <a:ext cx="104184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G to Max Turn 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80" idx="2"/>
            <a:endCxn id="282" idx="0"/>
          </p:cNvCxnSpPr>
          <p:nvPr/>
        </p:nvCxnSpPr>
        <p:spPr>
          <a:xfrm flipH="1">
            <a:off x="6449760" y="1595520"/>
            <a:ext cx="86400" cy="76752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5916960" y="2362320"/>
            <a:ext cx="106452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Increase G up to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920" y="2286000"/>
            <a:ext cx="94284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Decrease G of  1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9" idx="2"/>
            <a:endCxn id="283" idx="0"/>
          </p:cNvCxnSpPr>
          <p:nvPr/>
        </p:nvCxnSpPr>
        <p:spPr>
          <a:xfrm>
            <a:off x="7714800" y="1519200"/>
            <a:ext cx="73800" cy="76752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309440" y="3726000"/>
            <a:ext cx="942840" cy="215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Decrease G of  1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8" idx="2"/>
            <a:endCxn id="285" idx="0"/>
          </p:cNvCxnSpPr>
          <p:nvPr/>
        </p:nvCxnSpPr>
        <p:spPr>
          <a:xfrm flipH="1">
            <a:off x="7781400" y="2967120"/>
            <a:ext cx="223200" cy="75960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3080" y="1219320"/>
            <a:ext cx="2362320" cy="2057400"/>
            <a:chOff x="6553080" y="1219320"/>
            <a:chExt cx="2362320" cy="2057400"/>
          </a:xfrm>
        </p:grpSpPr>
        <p:sp>
          <p:nvSpPr>
            <p:cNvPr id="289" name=""/>
            <p:cNvSpPr/>
            <p:nvPr/>
          </p:nvSpPr>
          <p:spPr>
            <a:xfrm>
              <a:off x="7086600" y="1600560"/>
              <a:ext cx="1218960" cy="12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96080" y="1219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2100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24200" y="1455840"/>
              <a:ext cx="31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15280" y="266724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7160" y="2667240"/>
              <a:ext cx="33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2560" y="152424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248520" y="4800600"/>
            <a:ext cx="1218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28004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328"/>
                </a:moveTo>
                <a:cubicBezTo>
                  <a:pt x="768" y="204"/>
                  <a:pt x="672" y="80"/>
                  <a:pt x="528" y="40"/>
                </a:cubicBezTo>
                <a:cubicBezTo>
                  <a:pt x="384" y="0"/>
                  <a:pt x="192" y="44"/>
                  <a:pt x="0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99960" y="419904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+ hea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37260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5800" y="1752480"/>
            <a:ext cx="2297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 &lt; r1 : pure pur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1 &lt; r &lt; r2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 &lt; 15 : pure pur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&lt; aa&lt; 30: aa = 2 a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 &gt;30 : bad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&gt;r2 : clos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61200" y="3726000"/>
            <a:ext cx="69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4560" y="449568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gt; 2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480" y="5256360"/>
            <a:ext cx="86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lt; 0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1" idx="2"/>
            <a:endCxn id="303" idx="0"/>
          </p:cNvCxnSpPr>
          <p:nvPr/>
        </p:nvCxnSpPr>
        <p:spPr>
          <a:xfrm flipH="1">
            <a:off x="509400" y="3940200"/>
            <a:ext cx="799200" cy="13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838080" y="4952880"/>
            <a:ext cx="6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= 2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760" y="586584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1" idx="2"/>
            <a:endCxn id="306" idx="0"/>
          </p:cNvCxnSpPr>
          <p:nvPr/>
        </p:nvCxnSpPr>
        <p:spPr>
          <a:xfrm flipH="1">
            <a:off x="1058040" y="3939840"/>
            <a:ext cx="250200" cy="19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1368720" y="510552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lt; 2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1" idx="2"/>
          </p:cNvCxnSpPr>
          <p:nvPr/>
        </p:nvCxnSpPr>
        <p:spPr>
          <a:xfrm>
            <a:off x="1307880" y="3939840"/>
            <a:ext cx="673200" cy="19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1606320" y="586584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8080" y="4267080"/>
            <a:ext cx="68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pos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77120" y="503712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gt; 2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1" idx="2"/>
            <a:endCxn id="314" idx="0"/>
          </p:cNvCxnSpPr>
          <p:nvPr/>
        </p:nvCxnSpPr>
        <p:spPr>
          <a:xfrm flipH="1">
            <a:off x="3153960" y="4481280"/>
            <a:ext cx="546480" cy="13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3886200" y="5105520"/>
            <a:ext cx="64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= 2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09600" y="578952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1" idx="2"/>
            <a:endCxn id="316" idx="0"/>
          </p:cNvCxnSpPr>
          <p:nvPr/>
        </p:nvCxnSpPr>
        <p:spPr>
          <a:xfrm>
            <a:off x="3700080" y="4481280"/>
            <a:ext cx="61524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4645440" y="518148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lt; 2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1" idx="2"/>
            <a:endCxn id="320" idx="0"/>
          </p:cNvCxnSpPr>
          <p:nvPr/>
        </p:nvCxnSpPr>
        <p:spPr>
          <a:xfrm>
            <a:off x="3700080" y="4481280"/>
            <a:ext cx="183420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2736360" y="5865840"/>
            <a:ext cx="83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28920" y="578952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4880" y="312408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1" idx="2"/>
            <a:endCxn id="301" idx="0"/>
          </p:cNvCxnSpPr>
          <p:nvPr/>
        </p:nvCxnSpPr>
        <p:spPr>
          <a:xfrm flipH="1">
            <a:off x="1307520" y="3338640"/>
            <a:ext cx="109764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1" idx="2"/>
            <a:endCxn id="311" idx="0"/>
          </p:cNvCxnSpPr>
          <p:nvPr/>
        </p:nvCxnSpPr>
        <p:spPr>
          <a:xfrm>
            <a:off x="2405160" y="3338280"/>
            <a:ext cx="129600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26480" y="3436920"/>
            <a:ext cx="40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50480" y="35812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85080" y="3116160"/>
            <a:ext cx="69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47680" y="388620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gt;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23600" y="464652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l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7" idx="2"/>
            <a:endCxn id="329" idx="0"/>
          </p:cNvCxnSpPr>
          <p:nvPr/>
        </p:nvCxnSpPr>
        <p:spPr>
          <a:xfrm flipH="1">
            <a:off x="2028240" y="3330360"/>
            <a:ext cx="803880" cy="131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362320" y="4343400"/>
            <a:ext cx="64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=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77640" y="525636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27" idx="2"/>
            <a:endCxn id="332" idx="0"/>
          </p:cNvCxnSpPr>
          <p:nvPr/>
        </p:nvCxnSpPr>
        <p:spPr>
          <a:xfrm flipH="1">
            <a:off x="2582640" y="3330360"/>
            <a:ext cx="249840" cy="19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2918880" y="44956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lt;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7" idx="2"/>
          </p:cNvCxnSpPr>
          <p:nvPr/>
        </p:nvCxnSpPr>
        <p:spPr>
          <a:xfrm>
            <a:off x="2832120" y="3330360"/>
            <a:ext cx="673920" cy="19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3130200" y="525636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81960" y="3657600"/>
            <a:ext cx="68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pos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26920" y="442764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gt;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7" idx="2"/>
            <a:endCxn id="340" idx="0"/>
          </p:cNvCxnSpPr>
          <p:nvPr/>
        </p:nvCxnSpPr>
        <p:spPr>
          <a:xfrm flipH="1">
            <a:off x="4677840" y="3871800"/>
            <a:ext cx="546480" cy="138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5410080" y="4495680"/>
            <a:ext cx="64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=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0880" y="5180040"/>
            <a:ext cx="83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=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37" idx="2"/>
            <a:endCxn id="342" idx="0"/>
          </p:cNvCxnSpPr>
          <p:nvPr/>
        </p:nvCxnSpPr>
        <p:spPr>
          <a:xfrm>
            <a:off x="5223960" y="3871800"/>
            <a:ext cx="615240" cy="13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6195600" y="457200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a &lt;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37" idx="2"/>
            <a:endCxn id="346" idx="0"/>
          </p:cNvCxnSpPr>
          <p:nvPr/>
        </p:nvCxnSpPr>
        <p:spPr>
          <a:xfrm>
            <a:off x="5224320" y="3871800"/>
            <a:ext cx="1834560" cy="13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4273200" y="525636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l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0200" y="5180040"/>
            <a:ext cx="83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gt;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75160" y="2514600"/>
            <a:ext cx="7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7" idx="2"/>
            <a:endCxn id="327" idx="0"/>
          </p:cNvCxnSpPr>
          <p:nvPr/>
        </p:nvCxnSpPr>
        <p:spPr>
          <a:xfrm flipH="1">
            <a:off x="2831400" y="2728800"/>
            <a:ext cx="109764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7" idx="2"/>
            <a:endCxn id="337" idx="0"/>
          </p:cNvCxnSpPr>
          <p:nvPr/>
        </p:nvCxnSpPr>
        <p:spPr>
          <a:xfrm>
            <a:off x="3929040" y="2728800"/>
            <a:ext cx="12960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150360" y="2827440"/>
            <a:ext cx="40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74720" y="297180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46880" y="3040200"/>
            <a:ext cx="69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44680" y="380988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 2 aa &lt;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85760" y="457056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3" idx="2"/>
            <a:endCxn id="355" idx="0"/>
          </p:cNvCxnSpPr>
          <p:nvPr/>
        </p:nvCxnSpPr>
        <p:spPr>
          <a:xfrm flipH="1">
            <a:off x="2390040" y="3254400"/>
            <a:ext cx="803880" cy="13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2724120" y="4267080"/>
            <a:ext cx="64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 2 aa =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26840" y="5180040"/>
            <a:ext cx="83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3" idx="2"/>
            <a:endCxn id="358" idx="0"/>
          </p:cNvCxnSpPr>
          <p:nvPr/>
        </p:nvCxnSpPr>
        <p:spPr>
          <a:xfrm flipH="1">
            <a:off x="2944440" y="3254040"/>
            <a:ext cx="249840" cy="19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3241800" y="441972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2 aa &gt;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53" idx="2"/>
          </p:cNvCxnSpPr>
          <p:nvPr/>
        </p:nvCxnSpPr>
        <p:spPr>
          <a:xfrm>
            <a:off x="3193920" y="3254040"/>
            <a:ext cx="673920" cy="19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3479400" y="5180040"/>
            <a:ext cx="83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lt;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4120" y="3581280"/>
            <a:ext cx="68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pos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50200" y="435132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2 aa &lt;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stCxn id="363" idx="2"/>
            <a:endCxn id="366" idx="0"/>
          </p:cNvCxnSpPr>
          <p:nvPr/>
        </p:nvCxnSpPr>
        <p:spPr>
          <a:xfrm flipH="1">
            <a:off x="5040000" y="3795480"/>
            <a:ext cx="546480" cy="13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5772240" y="4419720"/>
            <a:ext cx="64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2 aa =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82680" y="510372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3" idx="2"/>
            <a:endCxn id="368" idx="0"/>
          </p:cNvCxnSpPr>
          <p:nvPr/>
        </p:nvCxnSpPr>
        <p:spPr>
          <a:xfrm>
            <a:off x="5586480" y="3795480"/>
            <a:ext cx="61488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6518520" y="44956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2 aa &gt;  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3" idx="2"/>
            <a:endCxn id="372" idx="0"/>
          </p:cNvCxnSpPr>
          <p:nvPr/>
        </p:nvCxnSpPr>
        <p:spPr>
          <a:xfrm>
            <a:off x="5586120" y="3795480"/>
            <a:ext cx="183420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4635360" y="5180040"/>
            <a:ext cx="81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02000" y="5103720"/>
            <a:ext cx="83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 &lt;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0640" y="2438280"/>
            <a:ext cx="67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73" idx="2"/>
            <a:endCxn id="353" idx="0"/>
          </p:cNvCxnSpPr>
          <p:nvPr/>
        </p:nvCxnSpPr>
        <p:spPr>
          <a:xfrm flipH="1">
            <a:off x="3193200" y="2652840"/>
            <a:ext cx="109764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73" idx="2"/>
            <a:endCxn id="363" idx="0"/>
          </p:cNvCxnSpPr>
          <p:nvPr/>
        </p:nvCxnSpPr>
        <p:spPr>
          <a:xfrm>
            <a:off x="4290480" y="2652480"/>
            <a:ext cx="129636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3512160" y="2751120"/>
            <a:ext cx="40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36520" y="2895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incompatibilit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39960" y="4800600"/>
            <a:ext cx="7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38640" y="17524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su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1960" y="2590920"/>
            <a:ext cx="4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29240" y="1905120"/>
            <a:ext cx="281916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57840" y="2895480"/>
            <a:ext cx="7617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t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79" idx="3"/>
            <a:endCxn id="383" idx="3"/>
          </p:cNvCxnSpPr>
          <p:nvPr/>
        </p:nvCxnSpPr>
        <p:spPr>
          <a:xfrm flipV="1">
            <a:off x="3468240" y="3936240"/>
            <a:ext cx="1500840" cy="97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80" idx="3"/>
            <a:endCxn id="382" idx="1"/>
          </p:cNvCxnSpPr>
          <p:nvPr/>
        </p:nvCxnSpPr>
        <p:spPr>
          <a:xfrm>
            <a:off x="2936520" y="1860480"/>
            <a:ext cx="2105640" cy="280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81" idx="3"/>
            <a:endCxn id="382" idx="2"/>
          </p:cNvCxnSpPr>
          <p:nvPr/>
        </p:nvCxnSpPr>
        <p:spPr>
          <a:xfrm>
            <a:off x="2793960" y="2698560"/>
            <a:ext cx="1836000" cy="6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4952880" y="2924280"/>
            <a:ext cx="655920" cy="546120"/>
          </a:xfrm>
          <a:custGeom>
            <a:avLst/>
            <a:gdLst/>
            <a:ahLst/>
            <a:rect l="l" t="t" r="r" b="b"/>
            <a:pathLst>
              <a:path w="413" h="344">
                <a:moveTo>
                  <a:pt x="84" y="24"/>
                </a:moveTo>
                <a:cubicBezTo>
                  <a:pt x="76" y="48"/>
                  <a:pt x="69" y="58"/>
                  <a:pt x="48" y="72"/>
                </a:cubicBezTo>
                <a:cubicBezTo>
                  <a:pt x="42" y="81"/>
                  <a:pt x="21" y="112"/>
                  <a:pt x="12" y="126"/>
                </a:cubicBezTo>
                <a:cubicBezTo>
                  <a:pt x="8" y="132"/>
                  <a:pt x="0" y="144"/>
                  <a:pt x="0" y="144"/>
                </a:cubicBezTo>
                <a:cubicBezTo>
                  <a:pt x="5" y="160"/>
                  <a:pt x="13" y="202"/>
                  <a:pt x="30" y="216"/>
                </a:cubicBezTo>
                <a:cubicBezTo>
                  <a:pt x="46" y="229"/>
                  <a:pt x="77" y="234"/>
                  <a:pt x="96" y="240"/>
                </a:cubicBezTo>
                <a:cubicBezTo>
                  <a:pt x="134" y="251"/>
                  <a:pt x="168" y="266"/>
                  <a:pt x="204" y="282"/>
                </a:cubicBezTo>
                <a:cubicBezTo>
                  <a:pt x="216" y="287"/>
                  <a:pt x="229" y="287"/>
                  <a:pt x="240" y="294"/>
                </a:cubicBezTo>
                <a:cubicBezTo>
                  <a:pt x="263" y="309"/>
                  <a:pt x="287" y="316"/>
                  <a:pt x="312" y="324"/>
                </a:cubicBezTo>
                <a:cubicBezTo>
                  <a:pt x="324" y="328"/>
                  <a:pt x="348" y="336"/>
                  <a:pt x="348" y="336"/>
                </a:cubicBezTo>
                <a:cubicBezTo>
                  <a:pt x="366" y="334"/>
                  <a:pt x="390" y="344"/>
                  <a:pt x="402" y="330"/>
                </a:cubicBezTo>
                <a:cubicBezTo>
                  <a:pt x="413" y="318"/>
                  <a:pt x="398" y="298"/>
                  <a:pt x="396" y="282"/>
                </a:cubicBezTo>
                <a:cubicBezTo>
                  <a:pt x="385" y="185"/>
                  <a:pt x="365" y="140"/>
                  <a:pt x="312" y="60"/>
                </a:cubicBezTo>
                <a:cubicBezTo>
                  <a:pt x="292" y="30"/>
                  <a:pt x="306" y="46"/>
                  <a:pt x="264" y="18"/>
                </a:cubicBezTo>
                <a:cubicBezTo>
                  <a:pt x="253" y="11"/>
                  <a:pt x="240" y="10"/>
                  <a:pt x="228" y="6"/>
                </a:cubicBezTo>
                <a:cubicBezTo>
                  <a:pt x="222" y="4"/>
                  <a:pt x="210" y="0"/>
                  <a:pt x="210" y="0"/>
                </a:cubicBezTo>
                <a:cubicBezTo>
                  <a:pt x="178" y="2"/>
                  <a:pt x="146" y="3"/>
                  <a:pt x="114" y="6"/>
                </a:cubicBezTo>
                <a:cubicBezTo>
                  <a:pt x="98" y="8"/>
                  <a:pt x="84" y="33"/>
                  <a:pt x="84" y="2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000920" y="380988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tur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om limit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19960" y="228600"/>
            <a:ext cx="145944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IDE TURNING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3920" y="2666880"/>
            <a:ext cx="144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SPECT ANGLE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9" idx="2"/>
            <a:endCxn id="392" idx="0"/>
          </p:cNvCxnSpPr>
          <p:nvPr/>
        </p:nvCxnSpPr>
        <p:spPr>
          <a:xfrm flipH="1">
            <a:off x="3847320" y="442440"/>
            <a:ext cx="70236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89" idx="2"/>
            <a:endCxn id="394" idx="0"/>
          </p:cNvCxnSpPr>
          <p:nvPr/>
        </p:nvCxnSpPr>
        <p:spPr>
          <a:xfrm>
            <a:off x="4549680" y="442800"/>
            <a:ext cx="358056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5170680" y="10666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_ROOM_LIMIT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16520" y="2209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clos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01320" y="1447920"/>
            <a:ext cx="24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OSE_RANGE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TURNING_ROOM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53080" y="1981080"/>
            <a:ext cx="178848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 THE 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2" idx="2"/>
            <a:endCxn id="388" idx="0"/>
          </p:cNvCxnSpPr>
          <p:nvPr/>
        </p:nvCxnSpPr>
        <p:spPr>
          <a:xfrm>
            <a:off x="3848040" y="2195640"/>
            <a:ext cx="3834720" cy="16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3346200" y="3290760"/>
            <a:ext cx="168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&lt;aspect angle&lt;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20880" y="38862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2" idx="2"/>
            <a:endCxn id="399" idx="0"/>
          </p:cNvCxnSpPr>
          <p:nvPr/>
        </p:nvCxnSpPr>
        <p:spPr>
          <a:xfrm>
            <a:off x="3848040" y="2195640"/>
            <a:ext cx="49608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1816920" y="2895480"/>
            <a:ext cx="12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15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2" idx="2"/>
            <a:endCxn id="403" idx="0"/>
          </p:cNvCxnSpPr>
          <p:nvPr/>
        </p:nvCxnSpPr>
        <p:spPr>
          <a:xfrm flipH="1">
            <a:off x="1485360" y="2195280"/>
            <a:ext cx="23626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830520" y="373392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6640" y="243828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89" idx="2"/>
            <a:endCxn id="404" idx="0"/>
          </p:cNvCxnSpPr>
          <p:nvPr/>
        </p:nvCxnSpPr>
        <p:spPr>
          <a:xfrm flipH="1">
            <a:off x="1177560" y="442440"/>
            <a:ext cx="3372480" cy="19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1368720" y="167652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CLOSE_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15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Pur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4343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91240" y="4495680"/>
            <a:ext cx="139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3" idx="2"/>
          </p:cNvCxnSpPr>
          <p:nvPr/>
        </p:nvCxnSpPr>
        <p:spPr>
          <a:xfrm flipH="1">
            <a:off x="953640" y="3948120"/>
            <a:ext cx="532800" cy="8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551880" y="4205160"/>
            <a:ext cx="114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gle  Of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3" idx="2"/>
          </p:cNvCxnSpPr>
          <p:nvPr/>
        </p:nvCxnSpPr>
        <p:spPr>
          <a:xfrm>
            <a:off x="1485720" y="3948120"/>
            <a:ext cx="61812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2590920" y="41911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3" idx="2"/>
            <a:endCxn id="415" idx="0"/>
          </p:cNvCxnSpPr>
          <p:nvPr/>
        </p:nvCxnSpPr>
        <p:spPr>
          <a:xfrm>
            <a:off x="1485720" y="3948120"/>
            <a:ext cx="19976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2965320" y="480060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84760" y="46339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45760" y="4876920"/>
            <a:ext cx="13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399" idx="2"/>
            <a:endCxn id="419" idx="0"/>
          </p:cNvCxnSpPr>
          <p:nvPr/>
        </p:nvCxnSpPr>
        <p:spPr>
          <a:xfrm>
            <a:off x="4343400" y="4100400"/>
            <a:ext cx="766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3989880" y="46483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399" idx="2"/>
            <a:endCxn id="422" idx="0"/>
          </p:cNvCxnSpPr>
          <p:nvPr/>
        </p:nvCxnSpPr>
        <p:spPr>
          <a:xfrm>
            <a:off x="4343040" y="4100040"/>
            <a:ext cx="1872360" cy="12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6629400" y="4724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399" idx="2"/>
            <a:endCxn id="425" idx="0"/>
          </p:cNvCxnSpPr>
          <p:nvPr/>
        </p:nvCxnSpPr>
        <p:spPr>
          <a:xfrm>
            <a:off x="4343400" y="4100040"/>
            <a:ext cx="363600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461000" y="525780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1880" y="4876920"/>
            <a:ext cx="101592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9680" y="548640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6" idx="2"/>
            <a:endCxn id="429" idx="0"/>
          </p:cNvCxnSpPr>
          <p:nvPr/>
        </p:nvCxnSpPr>
        <p:spPr>
          <a:xfrm flipH="1">
            <a:off x="360360" y="5091120"/>
            <a:ext cx="34020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837360" y="647712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26" idx="2"/>
            <a:endCxn id="430" idx="0"/>
          </p:cNvCxnSpPr>
          <p:nvPr/>
        </p:nvCxnSpPr>
        <p:spPr>
          <a:xfrm>
            <a:off x="700200" y="5091120"/>
            <a:ext cx="467280" cy="138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1598760" y="647712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79640" y="594360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26" idx="2"/>
            <a:endCxn id="432" idx="0"/>
          </p:cNvCxnSpPr>
          <p:nvPr/>
        </p:nvCxnSpPr>
        <p:spPr>
          <a:xfrm>
            <a:off x="700200" y="5091120"/>
            <a:ext cx="1240560" cy="138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-2520" y="6400800"/>
            <a:ext cx="7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9800" y="5791320"/>
            <a:ext cx="9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9760" y="4890960"/>
            <a:ext cx="115164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8480" y="56386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36" idx="2"/>
            <a:endCxn id="439" idx="0"/>
          </p:cNvCxnSpPr>
          <p:nvPr/>
        </p:nvCxnSpPr>
        <p:spPr>
          <a:xfrm>
            <a:off x="2255760" y="5105520"/>
            <a:ext cx="30240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311640" y="594360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0000" y="632448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36" idx="2"/>
            <a:endCxn id="441" idx="0"/>
          </p:cNvCxnSpPr>
          <p:nvPr/>
        </p:nvCxnSpPr>
        <p:spPr>
          <a:xfrm>
            <a:off x="2255400" y="5105520"/>
            <a:ext cx="104220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72348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98760" y="5881680"/>
            <a:ext cx="93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6" idx="2"/>
            <a:endCxn id="443" idx="0"/>
          </p:cNvCxnSpPr>
          <p:nvPr/>
        </p:nvCxnSpPr>
        <p:spPr>
          <a:xfrm>
            <a:off x="2255400" y="5105520"/>
            <a:ext cx="18183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2207160" y="632448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92480" y="541008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88000" y="60199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22" idx="2"/>
            <a:endCxn id="448" idx="0"/>
          </p:cNvCxnSpPr>
          <p:nvPr/>
        </p:nvCxnSpPr>
        <p:spPr>
          <a:xfrm flipH="1">
            <a:off x="5071320" y="5548320"/>
            <a:ext cx="114372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6693480" y="6095880"/>
            <a:ext cx="95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080" y="647712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22" idx="2"/>
            <a:endCxn id="450" idx="0"/>
          </p:cNvCxnSpPr>
          <p:nvPr/>
        </p:nvCxnSpPr>
        <p:spPr>
          <a:xfrm>
            <a:off x="6214680" y="5548320"/>
            <a:ext cx="2070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754128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594360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22" idx="2"/>
            <a:endCxn id="452" idx="0"/>
          </p:cNvCxnSpPr>
          <p:nvPr/>
        </p:nvCxnSpPr>
        <p:spPr>
          <a:xfrm>
            <a:off x="6214680" y="5548320"/>
            <a:ext cx="16772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"/>
          <p:cNvSpPr/>
          <p:nvPr/>
        </p:nvSpPr>
        <p:spPr>
          <a:xfrm>
            <a:off x="472176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9040" y="5334120"/>
            <a:ext cx="115164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52280" y="0"/>
            <a:ext cx="2620800" cy="1219320"/>
            <a:chOff x="152280" y="0"/>
            <a:chExt cx="2620800" cy="1219320"/>
          </a:xfrm>
        </p:grpSpPr>
        <p:sp>
          <p:nvSpPr>
            <p:cNvPr id="456" name=""/>
            <p:cNvSpPr/>
            <p:nvPr/>
          </p:nvSpPr>
          <p:spPr>
            <a:xfrm>
              <a:off x="15228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88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8840" y="-152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5360" y="129528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NRING_ROOM_LIMIT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m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62720" y="457200"/>
            <a:ext cx="126720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IDE TURN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60" idx="2"/>
            <a:endCxn id="462" idx="0"/>
          </p:cNvCxnSpPr>
          <p:nvPr/>
        </p:nvCxnSpPr>
        <p:spPr>
          <a:xfrm flipH="1">
            <a:off x="2453760" y="671400"/>
            <a:ext cx="194400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4096440" y="119700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TUNRING_ROOM_LIM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60" idx="2"/>
            <a:endCxn id="465" idx="0"/>
          </p:cNvCxnSpPr>
          <p:nvPr/>
        </p:nvCxnSpPr>
        <p:spPr>
          <a:xfrm>
            <a:off x="4397040" y="671400"/>
            <a:ext cx="1005480" cy="145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4518720" y="2125800"/>
            <a:ext cx="17658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5" idx="2"/>
            <a:endCxn id="467" idx="0"/>
          </p:cNvCxnSpPr>
          <p:nvPr/>
        </p:nvCxnSpPr>
        <p:spPr>
          <a:xfrm>
            <a:off x="5402160" y="2339640"/>
            <a:ext cx="126288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8201880" y="3254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tur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>
            <a:stCxn id="465" idx="2"/>
            <a:endCxn id="468" idx="0"/>
          </p:cNvCxnSpPr>
          <p:nvPr/>
        </p:nvCxnSpPr>
        <p:spPr>
          <a:xfrm>
            <a:off x="5401800" y="2340000"/>
            <a:ext cx="31726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6868800" y="2797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SPECT ANGLE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67120" y="2887560"/>
            <a:ext cx="130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41800" y="34974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16600" y="3954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04160" y="3940200"/>
            <a:ext cx="90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AO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7" idx="2"/>
            <a:endCxn id="475" idx="0"/>
          </p:cNvCxnSpPr>
          <p:nvPr/>
        </p:nvCxnSpPr>
        <p:spPr>
          <a:xfrm flipH="1">
            <a:off x="6519600" y="3711240"/>
            <a:ext cx="1447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6985080" y="396252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_LIMIT 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NGLE OFF 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65200" y="4495680"/>
            <a:ext cx="11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67" idx="2"/>
            <a:endCxn id="477" idx="0"/>
          </p:cNvCxnSpPr>
          <p:nvPr/>
        </p:nvCxnSpPr>
        <p:spPr>
          <a:xfrm>
            <a:off x="6663960" y="3711600"/>
            <a:ext cx="170100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4456800" y="281160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&lt;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42200" y="342108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65" idx="2"/>
            <a:endCxn id="480" idx="0"/>
          </p:cNvCxnSpPr>
          <p:nvPr/>
        </p:nvCxnSpPr>
        <p:spPr>
          <a:xfrm flipH="1">
            <a:off x="4396680" y="2339640"/>
            <a:ext cx="10054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149760" y="624852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05280" y="39862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82200" y="38862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 &lt;AO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0" idx="2"/>
            <a:endCxn id="486" idx="0"/>
          </p:cNvCxnSpPr>
          <p:nvPr/>
        </p:nvCxnSpPr>
        <p:spPr>
          <a:xfrm flipH="1">
            <a:off x="1576080" y="3634920"/>
            <a:ext cx="282168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3914280" y="411480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_LIMIT&lt;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0" idx="2"/>
            <a:endCxn id="489" idx="0"/>
          </p:cNvCxnSpPr>
          <p:nvPr/>
        </p:nvCxnSpPr>
        <p:spPr>
          <a:xfrm flipH="1">
            <a:off x="4080960" y="3635280"/>
            <a:ext cx="31680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3505680" y="4572000"/>
            <a:ext cx="115164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34320" y="1577880"/>
            <a:ext cx="184032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YOND 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90520" y="31780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 speed as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3080" y="24163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18280" y="2187720"/>
            <a:ext cx="13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HIGH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MEDIUM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62" idx="2"/>
            <a:endCxn id="494" idx="0"/>
          </p:cNvCxnSpPr>
          <p:nvPr/>
        </p:nvCxnSpPr>
        <p:spPr>
          <a:xfrm flipH="1">
            <a:off x="1461600" y="1792080"/>
            <a:ext cx="99288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1806840" y="272088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LOW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18280" y="3178080"/>
            <a:ext cx="11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 to get clo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62" idx="2"/>
            <a:endCxn id="496" idx="0"/>
          </p:cNvCxnSpPr>
          <p:nvPr/>
        </p:nvCxnSpPr>
        <p:spPr>
          <a:xfrm flipH="1">
            <a:off x="2293200" y="1792080"/>
            <a:ext cx="16092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2621520" y="23400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HIGH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62" idx="2"/>
            <a:endCxn id="490" idx="0"/>
          </p:cNvCxnSpPr>
          <p:nvPr/>
        </p:nvCxnSpPr>
        <p:spPr>
          <a:xfrm>
            <a:off x="2454120" y="1792080"/>
            <a:ext cx="107712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1111320" y="27208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corner 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68120" y="4343400"/>
            <a:ext cx="101592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8280" y="53341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86" idx="2"/>
            <a:endCxn id="482" idx="0"/>
          </p:cNvCxnSpPr>
          <p:nvPr/>
        </p:nvCxnSpPr>
        <p:spPr>
          <a:xfrm flipH="1">
            <a:off x="460080" y="4557240"/>
            <a:ext cx="111672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1254240" y="556272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5360" y="617220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86" idx="2"/>
            <a:endCxn id="503" idx="0"/>
          </p:cNvCxnSpPr>
          <p:nvPr/>
        </p:nvCxnSpPr>
        <p:spPr>
          <a:xfrm>
            <a:off x="1576440" y="4557240"/>
            <a:ext cx="4680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2435400" y="60199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51814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6" idx="2"/>
            <a:endCxn id="505" idx="0"/>
          </p:cNvCxnSpPr>
          <p:nvPr/>
        </p:nvCxnSpPr>
        <p:spPr>
          <a:xfrm>
            <a:off x="1576080" y="4557600"/>
            <a:ext cx="1159560" cy="14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3197880" y="624852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9000" y="5486400"/>
            <a:ext cx="87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89" idx="2"/>
            <a:endCxn id="508" idx="0"/>
          </p:cNvCxnSpPr>
          <p:nvPr/>
        </p:nvCxnSpPr>
        <p:spPr>
          <a:xfrm flipH="1">
            <a:off x="3507840" y="4786200"/>
            <a:ext cx="573840" cy="14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79760" y="5715000"/>
            <a:ext cx="11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39440" y="632448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489" idx="2"/>
            <a:endCxn id="512" idx="0"/>
          </p:cNvCxnSpPr>
          <p:nvPr/>
        </p:nvCxnSpPr>
        <p:spPr>
          <a:xfrm>
            <a:off x="4081320" y="4785840"/>
            <a:ext cx="66564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5299200" y="60958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maneveur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vent overshoo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4280" y="54100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9" idx="2"/>
            <a:endCxn id="514" idx="0"/>
          </p:cNvCxnSpPr>
          <p:nvPr/>
        </p:nvCxnSpPr>
        <p:spPr>
          <a:xfrm>
            <a:off x="4080960" y="4786200"/>
            <a:ext cx="17470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5943960" y="4419720"/>
            <a:ext cx="115164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6880" y="63244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11880" y="58672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475" idx="2"/>
            <a:endCxn id="517" idx="0"/>
          </p:cNvCxnSpPr>
          <p:nvPr/>
        </p:nvCxnSpPr>
        <p:spPr>
          <a:xfrm>
            <a:off x="6519600" y="4633920"/>
            <a:ext cx="41796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6969240" y="556272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3520" y="624852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75" idx="2"/>
            <a:endCxn id="521" idx="0"/>
          </p:cNvCxnSpPr>
          <p:nvPr/>
        </p:nvCxnSpPr>
        <p:spPr>
          <a:xfrm>
            <a:off x="6519960" y="4633560"/>
            <a:ext cx="135108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8226720" y="5791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96080" y="525780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475" idx="2"/>
            <a:endCxn id="523" idx="0"/>
          </p:cNvCxnSpPr>
          <p:nvPr/>
        </p:nvCxnSpPr>
        <p:spPr>
          <a:xfrm>
            <a:off x="6519960" y="4633560"/>
            <a:ext cx="200736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6" name=""/>
          <p:cNvGrpSpPr/>
          <p:nvPr/>
        </p:nvGrpSpPr>
        <p:grpSpPr>
          <a:xfrm>
            <a:off x="0" y="0"/>
            <a:ext cx="2620800" cy="1219320"/>
            <a:chOff x="0" y="0"/>
            <a:chExt cx="2620800" cy="1219320"/>
          </a:xfrm>
        </p:grpSpPr>
        <p:sp>
          <p:nvSpPr>
            <p:cNvPr id="527" name=""/>
            <p:cNvSpPr/>
            <p:nvPr/>
          </p:nvSpPr>
          <p:spPr>
            <a:xfrm>
              <a:off x="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0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941840" y="12873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TUNR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 of the enem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9480" y="2049480"/>
            <a:ext cx="18144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YOND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56600" y="228600"/>
            <a:ext cx="89100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URN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31" idx="2"/>
            <a:endCxn id="530" idx="0"/>
          </p:cNvCxnSpPr>
          <p:nvPr/>
        </p:nvCxnSpPr>
        <p:spPr>
          <a:xfrm flipH="1">
            <a:off x="1606320" y="442440"/>
            <a:ext cx="2596320" cy="16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4416480" y="1066680"/>
            <a:ext cx="13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TUNR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M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 from the enem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79600" y="4191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ok for turn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2"/>
            <a:endCxn id="536" idx="0"/>
          </p:cNvCxnSpPr>
          <p:nvPr/>
        </p:nvCxnSpPr>
        <p:spPr>
          <a:xfrm>
            <a:off x="4202280" y="442440"/>
            <a:ext cx="186264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5180760" y="2133720"/>
            <a:ext cx="176580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6" idx="2"/>
            <a:endCxn id="538" idx="0"/>
          </p:cNvCxnSpPr>
          <p:nvPr/>
        </p:nvCxnSpPr>
        <p:spPr>
          <a:xfrm flipH="1">
            <a:off x="3582720" y="2347560"/>
            <a:ext cx="24818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8075880" y="3124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 tur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6" idx="2"/>
            <a:endCxn id="539" idx="0"/>
          </p:cNvCxnSpPr>
          <p:nvPr/>
        </p:nvCxnSpPr>
        <p:spPr>
          <a:xfrm>
            <a:off x="6063840" y="2347920"/>
            <a:ext cx="241236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7162920" y="266688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91400" y="251460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60200" y="3048120"/>
            <a:ext cx="144396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17800" y="4114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2"/>
            <a:endCxn id="534" idx="0"/>
          </p:cNvCxnSpPr>
          <p:nvPr/>
        </p:nvCxnSpPr>
        <p:spPr>
          <a:xfrm>
            <a:off x="3582720" y="3262320"/>
            <a:ext cx="27036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2"/>
            <a:endCxn id="546" idx="0"/>
          </p:cNvCxnSpPr>
          <p:nvPr/>
        </p:nvCxnSpPr>
        <p:spPr>
          <a:xfrm flipH="1">
            <a:off x="2118960" y="3261960"/>
            <a:ext cx="146448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6018840" y="274320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04280" y="3192480"/>
            <a:ext cx="130860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6" idx="2"/>
            <a:endCxn id="548" idx="0"/>
          </p:cNvCxnSpPr>
          <p:nvPr/>
        </p:nvCxnSpPr>
        <p:spPr>
          <a:xfrm>
            <a:off x="6064200" y="2347920"/>
            <a:ext cx="39600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8" idx="2"/>
            <a:endCxn id="551" idx="0"/>
          </p:cNvCxnSpPr>
          <p:nvPr/>
        </p:nvCxnSpPr>
        <p:spPr>
          <a:xfrm flipH="1">
            <a:off x="6081120" y="3406680"/>
            <a:ext cx="378360" cy="18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8" idx="2"/>
            <a:endCxn id="553" idx="0"/>
          </p:cNvCxnSpPr>
          <p:nvPr/>
        </p:nvCxnSpPr>
        <p:spPr>
          <a:xfrm flipH="1">
            <a:off x="4647600" y="3406680"/>
            <a:ext cx="1811880" cy="186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"/>
          <p:cNvSpPr/>
          <p:nvPr/>
        </p:nvSpPr>
        <p:spPr>
          <a:xfrm>
            <a:off x="7538760" y="50292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ok for turn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48" idx="2"/>
            <a:endCxn id="554" idx="0"/>
          </p:cNvCxnSpPr>
          <p:nvPr/>
        </p:nvCxnSpPr>
        <p:spPr>
          <a:xfrm>
            <a:off x="6459480" y="3406320"/>
            <a:ext cx="163584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71280" y="297180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44720" y="28875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"/>
          <p:cNvCxnSpPr>
            <a:stCxn id="530" idx="2"/>
            <a:endCxn id="556" idx="0"/>
          </p:cNvCxnSpPr>
          <p:nvPr/>
        </p:nvCxnSpPr>
        <p:spPr>
          <a:xfrm flipH="1">
            <a:off x="588240" y="2263320"/>
            <a:ext cx="10184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604080" y="373392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30" idx="2"/>
            <a:endCxn id="559" idx="0"/>
          </p:cNvCxnSpPr>
          <p:nvPr/>
        </p:nvCxnSpPr>
        <p:spPr>
          <a:xfrm flipH="1">
            <a:off x="1150560" y="2263680"/>
            <a:ext cx="456480" cy="147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30" idx="2"/>
            <a:endCxn id="562" idx="0"/>
          </p:cNvCxnSpPr>
          <p:nvPr/>
        </p:nvCxnSpPr>
        <p:spPr>
          <a:xfrm>
            <a:off x="1606680" y="2263320"/>
            <a:ext cx="573840" cy="11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"/>
          <p:cNvSpPr/>
          <p:nvPr/>
        </p:nvSpPr>
        <p:spPr>
          <a:xfrm>
            <a:off x="1828800" y="3429000"/>
            <a:ext cx="70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e turn 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40000" y="5272200"/>
            <a:ext cx="101592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2920" y="5943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>
            <a:stCxn id="553" idx="2"/>
            <a:endCxn id="565" idx="0"/>
          </p:cNvCxnSpPr>
          <p:nvPr/>
        </p:nvCxnSpPr>
        <p:spPr>
          <a:xfrm flipH="1">
            <a:off x="1156680" y="5486400"/>
            <a:ext cx="34916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2433240" y="647712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53" idx="2"/>
            <a:endCxn id="566" idx="0"/>
          </p:cNvCxnSpPr>
          <p:nvPr/>
        </p:nvCxnSpPr>
        <p:spPr>
          <a:xfrm flipH="1">
            <a:off x="2950920" y="5486400"/>
            <a:ext cx="16977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293400" y="632448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the same turn rate as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07400" y="59436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41960" y="6332400"/>
            <a:ext cx="77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66200" y="64008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e turn 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int beh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53" idx="2"/>
            <a:endCxn id="570" idx="0"/>
          </p:cNvCxnSpPr>
          <p:nvPr/>
        </p:nvCxnSpPr>
        <p:spPr>
          <a:xfrm flipH="1">
            <a:off x="4419000" y="548640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5505840" y="5257800"/>
            <a:ext cx="115164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76080" y="6521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Rate hig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51" idx="2"/>
            <a:endCxn id="572" idx="0"/>
          </p:cNvCxnSpPr>
          <p:nvPr/>
        </p:nvCxnSpPr>
        <p:spPr>
          <a:xfrm flipH="1">
            <a:off x="5722200" y="5471640"/>
            <a:ext cx="3596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1" idx="2"/>
            <a:endCxn id="575" idx="0"/>
          </p:cNvCxnSpPr>
          <p:nvPr/>
        </p:nvCxnSpPr>
        <p:spPr>
          <a:xfrm>
            <a:off x="6081840" y="5472000"/>
            <a:ext cx="832320" cy="10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7678800" y="6324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51" idx="2"/>
            <a:endCxn id="576" idx="0"/>
          </p:cNvCxnSpPr>
          <p:nvPr/>
        </p:nvCxnSpPr>
        <p:spPr>
          <a:xfrm>
            <a:off x="6081840" y="5472000"/>
            <a:ext cx="22406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6395760" y="647712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3320" y="4267080"/>
            <a:ext cx="115164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4648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541008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6880" y="518148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46" idx="2"/>
            <a:endCxn id="580" idx="0"/>
          </p:cNvCxnSpPr>
          <p:nvPr/>
        </p:nvCxnSpPr>
        <p:spPr>
          <a:xfrm flipH="1">
            <a:off x="693360" y="4481640"/>
            <a:ext cx="142632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2117520" y="4724280"/>
            <a:ext cx="125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73600" y="5181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46" idx="2"/>
            <a:endCxn id="583" idx="0"/>
          </p:cNvCxnSpPr>
          <p:nvPr/>
        </p:nvCxnSpPr>
        <p:spPr>
          <a:xfrm>
            <a:off x="2119320" y="4481640"/>
            <a:ext cx="59760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1972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Turn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18080" y="3322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14280" y="44956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0920" y="46483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640" y="4191120"/>
            <a:ext cx="8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1040" y="32767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6480" y="24382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4240" y="2666880"/>
            <a:ext cx="8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67800" y="358920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56720" y="351324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79000" y="586728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54200" y="5791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88680" y="59436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22200" y="54864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2620800" cy="1219320"/>
            <a:chOff x="0" y="0"/>
            <a:chExt cx="2620800" cy="1219320"/>
          </a:xfrm>
        </p:grpSpPr>
        <p:sp>
          <p:nvSpPr>
            <p:cNvPr id="600" name=""/>
            <p:cNvSpPr/>
            <p:nvPr/>
          </p:nvSpPr>
          <p:spPr>
            <a:xfrm>
              <a:off x="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860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257800" y="1218960"/>
            <a:ext cx="175248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657600"/>
            <a:ext cx="22860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25720" y="510552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89040" y="215892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96200" y="1866960"/>
            <a:ext cx="285480" cy="1904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06400" y="426708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0600" y="3962520"/>
            <a:ext cx="533520" cy="30456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386160" y="984240"/>
            <a:ext cx="3819600" cy="47577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8600" y="5410080"/>
            <a:ext cx="2620800" cy="1219320"/>
            <a:chOff x="228600" y="5410080"/>
            <a:chExt cx="2620800" cy="1219320"/>
          </a:xfrm>
        </p:grpSpPr>
        <p:sp>
          <p:nvSpPr>
            <p:cNvPr id="615" name=""/>
            <p:cNvSpPr/>
            <p:nvPr/>
          </p:nvSpPr>
          <p:spPr>
            <a:xfrm>
              <a:off x="228600" y="541008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200" y="609588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 rot="1234200">
            <a:off x="5257440" y="5943240"/>
            <a:ext cx="38088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2235000">
            <a:off x="5152680" y="3009600"/>
            <a:ext cx="380880" cy="609480"/>
          </a:xfrm>
          <a:prstGeom prst="triangle">
            <a:avLst>
              <a:gd name="adj" fmla="val 5022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7840" y="640080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01680" y="27432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04000" y="2111400"/>
            <a:ext cx="14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"/>
          <p:cNvCxnSpPr>
            <a:stCxn id="624" idx="3"/>
            <a:endCxn id="622" idx="1"/>
          </p:cNvCxnSpPr>
          <p:nvPr/>
        </p:nvCxnSpPr>
        <p:spPr>
          <a:xfrm flipV="1">
            <a:off x="2362320" y="2569680"/>
            <a:ext cx="4442400" cy="2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380880" y="3505320"/>
            <a:ext cx="1905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 rate  &lt; Max turn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Enemy 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ure rate &lt; 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 &lt;LOW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W_AO&lt;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HIGH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626880" y="3535200"/>
            <a:ext cx="20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ghten the turn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rner vel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5" idx="3"/>
            <a:endCxn id="626" idx="1"/>
          </p:cNvCxnSpPr>
          <p:nvPr/>
        </p:nvCxnSpPr>
        <p:spPr>
          <a:xfrm>
            <a:off x="2285640" y="4038480"/>
            <a:ext cx="43437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304920" y="5181480"/>
            <a:ext cx="1904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 rate  &gt; Max turn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 Enemy 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ure rate &gt;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&lt;LOW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 &lt;LOW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24720" y="518148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urning this way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turn as ene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8" idx="3"/>
            <a:endCxn id="629" idx="1"/>
          </p:cNvCxnSpPr>
          <p:nvPr/>
        </p:nvCxnSpPr>
        <p:spPr>
          <a:xfrm flipV="1">
            <a:off x="2209680" y="5776200"/>
            <a:ext cx="441720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1" name=""/>
          <p:cNvSpPr/>
          <p:nvPr/>
        </p:nvSpPr>
        <p:spPr>
          <a:xfrm>
            <a:off x="520920" y="13827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11360" y="14446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0880" y="1828800"/>
            <a:ext cx="1981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Max turn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Enemy 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W_AA&lt;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HIGH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7520" y="1905120"/>
            <a:ext cx="7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ve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1600" y="2590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.y. Potential_Ener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y.potential_ener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7" idx="0"/>
          </p:cNvCxnSpPr>
          <p:nvPr/>
        </p:nvCxnSpPr>
        <p:spPr>
          <a:xfrm flipH="1">
            <a:off x="1421640" y="2118960"/>
            <a:ext cx="113724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063800" y="3657600"/>
            <a:ext cx="71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in altitu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8120" y="28195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.y. Kinetic_Ener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y.kinetic_ener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37339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4" idx="2"/>
            <a:endCxn id="79" idx="0"/>
          </p:cNvCxnSpPr>
          <p:nvPr/>
        </p:nvCxnSpPr>
        <p:spPr>
          <a:xfrm>
            <a:off x="2558880" y="2118960"/>
            <a:ext cx="71856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680720" y="1684440"/>
            <a:ext cx="131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close Rang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9880" y="313200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44560" y="243828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.airspeed 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air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1" idx="2"/>
          </p:cNvCxnSpPr>
          <p:nvPr/>
        </p:nvCxnSpPr>
        <p:spPr>
          <a:xfrm flipH="1">
            <a:off x="4649040" y="1898640"/>
            <a:ext cx="6879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5483520" y="312408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s: lag pursu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1240" y="2438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craft tu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1" idx="2"/>
            <a:endCxn id="85" idx="0"/>
          </p:cNvCxnSpPr>
          <p:nvPr/>
        </p:nvCxnSpPr>
        <p:spPr>
          <a:xfrm>
            <a:off x="5337000" y="1898640"/>
            <a:ext cx="62604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7082640" y="18288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9280" y="2590920"/>
            <a:ext cx="10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CA&lt;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his flight p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2960" y="3276720"/>
            <a:ext cx="10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CA&gt;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his flight p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386160" y="984240"/>
            <a:ext cx="3819600" cy="47577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2315400">
            <a:off x="5028840" y="320040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234200">
            <a:off x="3885840" y="5743080"/>
            <a:ext cx="380880" cy="609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10080" y="2362320"/>
            <a:ext cx="1057320" cy="866520"/>
          </a:xfrm>
          <a:custGeom>
            <a:avLst/>
            <a:gdLst/>
            <a:ahLst/>
            <a:rect l="l" t="t" r="r" b="b"/>
            <a:pathLst>
              <a:path w="666" h="546">
                <a:moveTo>
                  <a:pt x="0" y="546"/>
                </a:moveTo>
                <a:cubicBezTo>
                  <a:pt x="51" y="495"/>
                  <a:pt x="195" y="331"/>
                  <a:pt x="306" y="240"/>
                </a:cubicBezTo>
                <a:cubicBezTo>
                  <a:pt x="417" y="149"/>
                  <a:pt x="591" y="50"/>
                  <a:pt x="6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267080" y="5410080"/>
            <a:ext cx="1143000" cy="277920"/>
          </a:xfrm>
          <a:custGeom>
            <a:avLst/>
            <a:gdLst/>
            <a:ahLst/>
            <a:rect l="l" t="t" r="r" b="b"/>
            <a:pathLst>
              <a:path w="720" h="175">
                <a:moveTo>
                  <a:pt x="0" y="175"/>
                </a:moveTo>
                <a:cubicBezTo>
                  <a:pt x="45" y="150"/>
                  <a:pt x="184" y="50"/>
                  <a:pt x="270" y="25"/>
                </a:cubicBezTo>
                <a:cubicBezTo>
                  <a:pt x="356" y="0"/>
                  <a:pt x="441" y="0"/>
                  <a:pt x="516" y="25"/>
                </a:cubicBezTo>
                <a:cubicBezTo>
                  <a:pt x="591" y="50"/>
                  <a:pt x="678" y="144"/>
                  <a:pt x="720" y="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886200" y="4190760"/>
            <a:ext cx="76212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114800" y="3504960"/>
            <a:ext cx="106668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50640" y="50292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38480" y="4952880"/>
            <a:ext cx="285840" cy="19080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53760" y="358128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00600" y="3962520"/>
            <a:ext cx="22860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8600" y="60948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 rate  &gt; Max turn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 Enemy 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ure rate &gt; 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 &lt;LOW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&lt;LOW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3120" y="541008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urning this way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turn as ene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66680" y="198108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3386160" y="984240"/>
            <a:ext cx="3819600" cy="47577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315400">
            <a:off x="5028840" y="320040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0642400">
            <a:off x="3809880" y="5790960"/>
            <a:ext cx="38124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18600600">
            <a:off x="3308400" y="4510080"/>
            <a:ext cx="1362240" cy="914400"/>
          </a:xfrm>
          <a:custGeom>
            <a:avLst/>
            <a:gdLst/>
            <a:ahLst/>
            <a:rect l="l" t="t" r="r" b="b"/>
            <a:pathLst>
              <a:path w="666" h="546">
                <a:moveTo>
                  <a:pt x="0" y="546"/>
                </a:moveTo>
                <a:cubicBezTo>
                  <a:pt x="51" y="495"/>
                  <a:pt x="195" y="331"/>
                  <a:pt x="306" y="240"/>
                </a:cubicBezTo>
                <a:cubicBezTo>
                  <a:pt x="417" y="149"/>
                  <a:pt x="591" y="50"/>
                  <a:pt x="6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2998800"/>
            <a:ext cx="1143000" cy="277920"/>
          </a:xfrm>
          <a:custGeom>
            <a:avLst/>
            <a:gdLst/>
            <a:ahLst/>
            <a:rect l="l" t="t" r="r" b="b"/>
            <a:pathLst>
              <a:path w="720" h="175">
                <a:moveTo>
                  <a:pt x="0" y="175"/>
                </a:moveTo>
                <a:cubicBezTo>
                  <a:pt x="45" y="150"/>
                  <a:pt x="184" y="50"/>
                  <a:pt x="270" y="25"/>
                </a:cubicBezTo>
                <a:cubicBezTo>
                  <a:pt x="356" y="0"/>
                  <a:pt x="441" y="0"/>
                  <a:pt x="516" y="25"/>
                </a:cubicBezTo>
                <a:cubicBezTo>
                  <a:pt x="591" y="50"/>
                  <a:pt x="678" y="144"/>
                  <a:pt x="720" y="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3543120" y="4114800"/>
            <a:ext cx="60948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114800" y="3504960"/>
            <a:ext cx="106668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3440" y="59436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1280" y="5562720"/>
            <a:ext cx="285840" cy="1904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5360" y="426708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00600" y="3962520"/>
            <a:ext cx="22860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" y="6094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 rate  &lt; Max turn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Enemy 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ure rate &lt; 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 &lt;LOW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W_AO&lt;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HIGH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2400" y="5257800"/>
            <a:ext cx="20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ghten the turn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rner vel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5410080"/>
            <a:ext cx="14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1371600"/>
            <a:ext cx="5257800" cy="4952880"/>
          </a:xfrm>
          <a:custGeom>
            <a:avLst/>
            <a:gdLst/>
            <a:ahLst/>
            <a:rect l="l" t="t" r="r" b="b"/>
            <a:pathLst>
              <a:path w="3312" h="3120">
                <a:moveTo>
                  <a:pt x="432" y="0"/>
                </a:moveTo>
                <a:lnTo>
                  <a:pt x="3312" y="2544"/>
                </a:lnTo>
                <a:lnTo>
                  <a:pt x="2976" y="2832"/>
                </a:lnTo>
                <a:lnTo>
                  <a:pt x="2664" y="2970"/>
                </a:lnTo>
                <a:lnTo>
                  <a:pt x="2352" y="3072"/>
                </a:lnTo>
                <a:lnTo>
                  <a:pt x="1680" y="3120"/>
                </a:lnTo>
                <a:lnTo>
                  <a:pt x="1104" y="2928"/>
                </a:lnTo>
                <a:lnTo>
                  <a:pt x="810" y="2778"/>
                </a:lnTo>
                <a:lnTo>
                  <a:pt x="528" y="2544"/>
                </a:lnTo>
                <a:lnTo>
                  <a:pt x="240" y="2160"/>
                </a:lnTo>
                <a:lnTo>
                  <a:pt x="96" y="1776"/>
                </a:lnTo>
                <a:lnTo>
                  <a:pt x="0" y="1296"/>
                </a:lnTo>
                <a:lnTo>
                  <a:pt x="48" y="816"/>
                </a:lnTo>
                <a:lnTo>
                  <a:pt x="240" y="336"/>
                </a:lnTo>
                <a:lnTo>
                  <a:pt x="48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21245400">
            <a:off x="2209680" y="304560"/>
            <a:ext cx="6172200" cy="601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1373040"/>
            <a:ext cx="4605480" cy="4078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386160" y="-380880"/>
            <a:ext cx="4919760" cy="61228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315400">
            <a:off x="5028840" y="320040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1571400">
            <a:off x="4572000" y="5943240"/>
            <a:ext cx="38088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76920" y="5105520"/>
            <a:ext cx="1057320" cy="866520"/>
          </a:xfrm>
          <a:custGeom>
            <a:avLst/>
            <a:gdLst/>
            <a:ahLst/>
            <a:rect l="l" t="t" r="r" b="b"/>
            <a:pathLst>
              <a:path w="666" h="546">
                <a:moveTo>
                  <a:pt x="0" y="546"/>
                </a:moveTo>
                <a:cubicBezTo>
                  <a:pt x="51" y="495"/>
                  <a:pt x="195" y="331"/>
                  <a:pt x="306" y="240"/>
                </a:cubicBezTo>
                <a:cubicBezTo>
                  <a:pt x="417" y="149"/>
                  <a:pt x="591" y="50"/>
                  <a:pt x="6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86400" y="2971800"/>
            <a:ext cx="1143000" cy="277920"/>
          </a:xfrm>
          <a:custGeom>
            <a:avLst/>
            <a:gdLst/>
            <a:ahLst/>
            <a:rect l="l" t="t" r="r" b="b"/>
            <a:pathLst>
              <a:path w="720" h="175">
                <a:moveTo>
                  <a:pt x="0" y="175"/>
                </a:moveTo>
                <a:cubicBezTo>
                  <a:pt x="45" y="150"/>
                  <a:pt x="184" y="50"/>
                  <a:pt x="270" y="25"/>
                </a:cubicBezTo>
                <a:cubicBezTo>
                  <a:pt x="356" y="0"/>
                  <a:pt x="441" y="0"/>
                  <a:pt x="516" y="25"/>
                </a:cubicBezTo>
                <a:cubicBezTo>
                  <a:pt x="591" y="50"/>
                  <a:pt x="678" y="144"/>
                  <a:pt x="720" y="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876920" y="350496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5440" y="167652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8000" y="1447920"/>
            <a:ext cx="285840" cy="1904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30080" y="419112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00600" y="3962520"/>
            <a:ext cx="30492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876920" y="0"/>
            <a:ext cx="3124080" cy="594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880" y="304920"/>
            <a:ext cx="1981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Max turn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urn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Enemy 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W_AA&lt;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HIGH_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4360" y="3056040"/>
            <a:ext cx="34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97720" y="69372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utside 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1760" y="3125880"/>
            <a:ext cx="5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360" y="5533920"/>
            <a:ext cx="86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osing for g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3" idx="1"/>
          </p:cNvCxnSpPr>
          <p:nvPr/>
        </p:nvCxnSpPr>
        <p:spPr>
          <a:xfrm>
            <a:off x="401760" y="3164040"/>
            <a:ext cx="135108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1" idx="0"/>
            <a:endCxn id="92" idx="1"/>
          </p:cNvCxnSpPr>
          <p:nvPr/>
        </p:nvCxnSpPr>
        <p:spPr>
          <a:xfrm flipV="1">
            <a:off x="228600" y="801360"/>
            <a:ext cx="970560" cy="22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1" idx="2"/>
            <a:endCxn id="94" idx="1"/>
          </p:cNvCxnSpPr>
          <p:nvPr/>
        </p:nvCxnSpPr>
        <p:spPr>
          <a:xfrm>
            <a:off x="228600" y="3270240"/>
            <a:ext cx="891360" cy="23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42440" y="18763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pect Angle rate &lt;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ange &gt; 2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0840" y="32479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pect Angle rate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ange &lt; 1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8240" y="63324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ter the enemy plan of mo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int to where entering the 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200" y="436716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PSR &gt;0.9)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airspeed &lt; 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76696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3560" y="633240"/>
            <a:ext cx="108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 enemy’s rou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46760" y="450684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 lea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76440" y="6335640"/>
            <a:ext cx="61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d to la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4" idx="3"/>
            <a:endCxn id="104" idx="1"/>
          </p:cNvCxnSpPr>
          <p:nvPr/>
        </p:nvCxnSpPr>
        <p:spPr>
          <a:xfrm flipV="1">
            <a:off x="1980720" y="4614120"/>
            <a:ext cx="1167480" cy="10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4" idx="3"/>
            <a:endCxn id="105" idx="1"/>
          </p:cNvCxnSpPr>
          <p:nvPr/>
        </p:nvCxnSpPr>
        <p:spPr>
          <a:xfrm>
            <a:off x="1980720" y="5641560"/>
            <a:ext cx="139788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897920" y="5878440"/>
            <a:ext cx="142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energy is pretty hig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7800" y="5037120"/>
            <a:ext cx="105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speed &lt;= 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6880" y="1763640"/>
            <a:ext cx="116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y Check and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01800" y="337644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inuous 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93" idx="3"/>
            <a:endCxn id="110" idx="1"/>
          </p:cNvCxnSpPr>
          <p:nvPr/>
        </p:nvCxnSpPr>
        <p:spPr>
          <a:xfrm flipV="1">
            <a:off x="2339640" y="1871280"/>
            <a:ext cx="1685160" cy="13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3" idx="3"/>
            <a:endCxn id="111" idx="1"/>
          </p:cNvCxnSpPr>
          <p:nvPr/>
        </p:nvCxnSpPr>
        <p:spPr>
          <a:xfrm>
            <a:off x="2339640" y="3233880"/>
            <a:ext cx="216612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604520" y="2766960"/>
            <a:ext cx="204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Range ++) AND (rapid LOS across horiz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27360" y="2903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4640" y="3135240"/>
            <a:ext cx="15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Range ++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continuous LOS across horiz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30840" y="436716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rt the first 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at Corner 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93" idx="3"/>
            <a:endCxn id="117" idx="1"/>
          </p:cNvCxnSpPr>
          <p:nvPr/>
        </p:nvCxnSpPr>
        <p:spPr>
          <a:xfrm>
            <a:off x="2340000" y="3233880"/>
            <a:ext cx="2497680" cy="13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171960" y="3894120"/>
            <a:ext cx="158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AngleAspect = 30 degr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17840" y="2766960"/>
            <a:ext cx="130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 maneuvers too 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53360" y="246204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1" idx="3"/>
            <a:endCxn id="121" idx="1"/>
          </p:cNvCxnSpPr>
          <p:nvPr/>
        </p:nvCxnSpPr>
        <p:spPr>
          <a:xfrm flipV="1">
            <a:off x="5381280" y="2569680"/>
            <a:ext cx="10735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018480" y="411480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1" idx="3"/>
            <a:endCxn id="123" idx="1"/>
          </p:cNvCxnSpPr>
          <p:nvPr/>
        </p:nvCxnSpPr>
        <p:spPr>
          <a:xfrm>
            <a:off x="5381280" y="3484080"/>
            <a:ext cx="63900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7233840" y="1523880"/>
            <a:ext cx="10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CA&lt;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his flight p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3000" y="11430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the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1" idx="3"/>
            <a:endCxn id="126" idx="1"/>
          </p:cNvCxnSpPr>
          <p:nvPr/>
        </p:nvCxnSpPr>
        <p:spPr>
          <a:xfrm flipV="1">
            <a:off x="7048440" y="1250640"/>
            <a:ext cx="1031040" cy="13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157880" y="2362320"/>
            <a:ext cx="10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CA&gt;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his flight p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1" idx="3"/>
            <a:endCxn id="130" idx="1"/>
          </p:cNvCxnSpPr>
          <p:nvPr/>
        </p:nvCxnSpPr>
        <p:spPr>
          <a:xfrm>
            <a:off x="7048080" y="2570040"/>
            <a:ext cx="8010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7841520" y="274320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re range 4000’-5000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peed 350 Kn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7360" y="312408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eed of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2840" y="3733920"/>
            <a:ext cx="89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: 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1" idx="3"/>
            <a:endCxn id="132" idx="1"/>
          </p:cNvCxnSpPr>
          <p:nvPr/>
        </p:nvCxnSpPr>
        <p:spPr>
          <a:xfrm>
            <a:off x="7048080" y="2569680"/>
            <a:ext cx="197640" cy="127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576120" y="579132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s: Yoyo maneu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: 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3" idx="2"/>
            <a:endCxn id="134" idx="1"/>
          </p:cNvCxnSpPr>
          <p:nvPr/>
        </p:nvCxnSpPr>
        <p:spPr>
          <a:xfrm>
            <a:off x="6300720" y="4328640"/>
            <a:ext cx="28008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842800" y="50292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sitional advan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reaten h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ce him deplete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98880" y="3282840"/>
            <a:ext cx="116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y Check and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8600" y="290196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reaten  the enem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3840" y="191124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al Pos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3"/>
            <a:endCxn id="140" idx="1"/>
          </p:cNvCxnSpPr>
          <p:nvPr/>
        </p:nvCxnSpPr>
        <p:spPr>
          <a:xfrm flipV="1">
            <a:off x="4782960" y="2079000"/>
            <a:ext cx="14630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674800" y="31305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the TC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8" idx="3"/>
            <a:endCxn id="139" idx="1"/>
          </p:cNvCxnSpPr>
          <p:nvPr/>
        </p:nvCxnSpPr>
        <p:spPr>
          <a:xfrm flipV="1">
            <a:off x="2460600" y="3069360"/>
            <a:ext cx="12852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828880" y="3740040"/>
            <a:ext cx="7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utside TC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8960" y="351144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crease Closure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36760" y="3206880"/>
            <a:ext cx="77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ut of range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39" idx="3"/>
            <a:endCxn id="145" idx="1"/>
          </p:cNvCxnSpPr>
          <p:nvPr/>
        </p:nvCxnSpPr>
        <p:spPr>
          <a:xfrm>
            <a:off x="4782600" y="3070080"/>
            <a:ext cx="121212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245560" y="244476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ill In range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72800" y="4129200"/>
            <a:ext cx="71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ter the 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38" idx="3"/>
            <a:endCxn id="149" idx="1"/>
          </p:cNvCxnSpPr>
          <p:nvPr/>
        </p:nvCxnSpPr>
        <p:spPr>
          <a:xfrm>
            <a:off x="2460240" y="3390480"/>
            <a:ext cx="1315080" cy="84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y check and ex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94360" y="2897280"/>
            <a:ext cx="5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76720" y="25383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9480" y="1535040"/>
            <a:ext cx="116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y Check and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44400" y="314784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inuous 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2" idx="3"/>
            <a:endCxn id="154" idx="1"/>
          </p:cNvCxnSpPr>
          <p:nvPr/>
        </p:nvCxnSpPr>
        <p:spPr>
          <a:xfrm flipV="1">
            <a:off x="1182240" y="1642680"/>
            <a:ext cx="1685160" cy="13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2" idx="3"/>
            <a:endCxn id="155" idx="1"/>
          </p:cNvCxnSpPr>
          <p:nvPr/>
        </p:nvCxnSpPr>
        <p:spPr>
          <a:xfrm>
            <a:off x="1182240" y="3005280"/>
            <a:ext cx="216612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7120" y="2538360"/>
            <a:ext cx="204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Range ++) AND (rapid LOS across horiz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9960" y="26748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7600" y="2906640"/>
            <a:ext cx="15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Range ++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continuous LOS across horiz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73800" y="413856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rt the first 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at Corner 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2" idx="3"/>
            <a:endCxn id="161" idx="1"/>
          </p:cNvCxnSpPr>
          <p:nvPr/>
        </p:nvCxnSpPr>
        <p:spPr>
          <a:xfrm>
            <a:off x="1182240" y="3005280"/>
            <a:ext cx="2498040" cy="13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14560" y="3665520"/>
            <a:ext cx="158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AngleAspect = 30 degr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0800" y="2538360"/>
            <a:ext cx="130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 maneuvers too 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95960" y="223344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55" idx="3"/>
            <a:endCxn id="165" idx="1"/>
          </p:cNvCxnSpPr>
          <p:nvPr/>
        </p:nvCxnSpPr>
        <p:spPr>
          <a:xfrm flipV="1">
            <a:off x="4223880" y="2341080"/>
            <a:ext cx="10735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4861080" y="388620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5" idx="3"/>
            <a:endCxn id="167" idx="1"/>
          </p:cNvCxnSpPr>
          <p:nvPr/>
        </p:nvCxnSpPr>
        <p:spPr>
          <a:xfrm>
            <a:off x="4223880" y="3255480"/>
            <a:ext cx="63900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076800" y="1295280"/>
            <a:ext cx="10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CA&lt;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his flight p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15600" y="9144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the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5" idx="3"/>
            <a:endCxn id="170" idx="1"/>
          </p:cNvCxnSpPr>
          <p:nvPr/>
        </p:nvCxnSpPr>
        <p:spPr>
          <a:xfrm flipV="1">
            <a:off x="5891040" y="1022040"/>
            <a:ext cx="1031040" cy="13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6000480" y="2133720"/>
            <a:ext cx="10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CA&gt;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ide his flight p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5" idx="3"/>
            <a:endCxn id="174" idx="1"/>
          </p:cNvCxnSpPr>
          <p:nvPr/>
        </p:nvCxnSpPr>
        <p:spPr>
          <a:xfrm>
            <a:off x="5890680" y="2341440"/>
            <a:ext cx="8010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6684120" y="251460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re range 4000’-5000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peed 350 Kn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0320" y="289548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eed of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85440" y="3505320"/>
            <a:ext cx="89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: 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5" idx="3"/>
            <a:endCxn id="176" idx="1"/>
          </p:cNvCxnSpPr>
          <p:nvPr/>
        </p:nvCxnSpPr>
        <p:spPr>
          <a:xfrm>
            <a:off x="5890680" y="2341080"/>
            <a:ext cx="197640" cy="127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5418720" y="556272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s: Yoyo maneu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: 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7" idx="2"/>
            <a:endCxn id="178" idx="1"/>
          </p:cNvCxnSpPr>
          <p:nvPr/>
        </p:nvCxnSpPr>
        <p:spPr>
          <a:xfrm>
            <a:off x="5143680" y="4100040"/>
            <a:ext cx="28008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468540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sitional advan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reaten h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ce him deplete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343320" y="198108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1320" y="342900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inuous 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1280" y="38098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rt the first 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at Corner 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07480" y="3124080"/>
            <a:ext cx="123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 is threatening y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98960" y="289548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3" idx="3"/>
            <a:endCxn id="186" idx="1"/>
          </p:cNvCxnSpPr>
          <p:nvPr/>
        </p:nvCxnSpPr>
        <p:spPr>
          <a:xfrm flipV="1">
            <a:off x="1180800" y="3003120"/>
            <a:ext cx="2019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3351240" y="449568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3" idx="3"/>
            <a:endCxn id="188" idx="1"/>
          </p:cNvCxnSpPr>
          <p:nvPr/>
        </p:nvCxnSpPr>
        <p:spPr>
          <a:xfrm>
            <a:off x="1181160" y="3536640"/>
            <a:ext cx="21718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6090120" y="15238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the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2" idx="3"/>
            <a:endCxn id="193" idx="1"/>
          </p:cNvCxnSpPr>
          <p:nvPr/>
        </p:nvCxnSpPr>
        <p:spPr>
          <a:xfrm>
            <a:off x="5819760" y="2013120"/>
            <a:ext cx="697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622200" y="365760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re range 4000’-5000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peed 350 Kn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07080" y="34290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.energy_depleting_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Enemy.energy_depleting _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88760" y="4191120"/>
            <a:ext cx="7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ve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86" idx="3"/>
            <a:endCxn id="196" idx="1"/>
          </p:cNvCxnSpPr>
          <p:nvPr/>
        </p:nvCxnSpPr>
        <p:spPr>
          <a:xfrm>
            <a:off x="3793680" y="3003120"/>
            <a:ext cx="239796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6549120" y="525780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s: Yoyo maneu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: 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88" idx="2"/>
            <a:endCxn id="198" idx="1"/>
          </p:cNvCxnSpPr>
          <p:nvPr/>
        </p:nvCxnSpPr>
        <p:spPr>
          <a:xfrm>
            <a:off x="3633480" y="4710240"/>
            <a:ext cx="2919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425988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sitional advan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reaten h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ce him deplete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y continuous 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38880" y="2438280"/>
            <a:ext cx="113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-off &gt; 30 degr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86" idx="3"/>
            <a:endCxn id="192" idx="1"/>
          </p:cNvCxnSpPr>
          <p:nvPr/>
        </p:nvCxnSpPr>
        <p:spPr>
          <a:xfrm flipV="1">
            <a:off x="3793680" y="2012400"/>
            <a:ext cx="9961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785480" y="190512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10240" y="2666880"/>
            <a:ext cx="131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close Rang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0760" y="23623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s close range  a dang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 &lt; 4000 or 5000’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70840" y="3886200"/>
            <a:ext cx="15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close-aspect 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1520" y="45720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8720" y="289548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pect  angle serious probl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&gt;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6" idx="2"/>
            <a:endCxn id="209" idx="0"/>
          </p:cNvCxnSpPr>
          <p:nvPr/>
        </p:nvCxnSpPr>
        <p:spPr>
          <a:xfrm flipH="1">
            <a:off x="1568520" y="671040"/>
            <a:ext cx="70524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633240" y="6172200"/>
            <a:ext cx="79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ne cherche pas a forcement se positionner derriere l’enemi mais plutot a eviter que celui si ne prenne un avantage positio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6" idx="2"/>
            <a:endCxn id="212" idx="0"/>
          </p:cNvCxnSpPr>
          <p:nvPr/>
        </p:nvCxnSpPr>
        <p:spPr>
          <a:xfrm>
            <a:off x="2273040" y="671040"/>
            <a:ext cx="235188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2968920" y="129528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ose probl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&gt;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1200" y="2286000"/>
            <a:ext cx="102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clos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160" y="1523880"/>
            <a:ext cx="51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&lt;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1280" y="2209680"/>
            <a:ext cx="101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 consid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9" idx="2"/>
            <a:endCxn id="205" idx="0"/>
          </p:cNvCxnSpPr>
          <p:nvPr/>
        </p:nvCxnSpPr>
        <p:spPr>
          <a:xfrm>
            <a:off x="1568160" y="2423880"/>
            <a:ext cx="188676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876600" y="31240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pect Angle little probl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15&lt;x&lt;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94640" y="39625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9" idx="2"/>
            <a:endCxn id="217" idx="0"/>
          </p:cNvCxnSpPr>
          <p:nvPr/>
        </p:nvCxnSpPr>
        <p:spPr>
          <a:xfrm>
            <a:off x="1568160" y="2423880"/>
            <a:ext cx="17676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56160" y="327672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pect  angl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&lt;1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09" idx="2"/>
            <a:endCxn id="221" idx="0"/>
          </p:cNvCxnSpPr>
          <p:nvPr/>
        </p:nvCxnSpPr>
        <p:spPr>
          <a:xfrm flipH="1">
            <a:off x="643680" y="2424240"/>
            <a:ext cx="92484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303480" y="411480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98920" y="5707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28440" y="502128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.airspeed 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air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05" idx="2"/>
            <a:endCxn id="222" idx="0"/>
          </p:cNvCxnSpPr>
          <p:nvPr/>
        </p:nvCxnSpPr>
        <p:spPr>
          <a:xfrm flipH="1">
            <a:off x="2998440" y="4100040"/>
            <a:ext cx="456480" cy="16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807360" y="556272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FMs: lag pursu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15120" y="502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craft tu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05" idx="2"/>
            <a:endCxn id="225" idx="0"/>
          </p:cNvCxnSpPr>
          <p:nvPr/>
        </p:nvCxnSpPr>
        <p:spPr>
          <a:xfrm>
            <a:off x="3454560" y="4100400"/>
            <a:ext cx="832320" cy="14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turn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3040" y="3352680"/>
            <a:ext cx="119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creasing My.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46360" y="44956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 == 7.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170&lt;speed&lt;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6720" y="525780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2"/>
            <a:endCxn id="232" idx="0"/>
          </p:cNvCxnSpPr>
          <p:nvPr/>
        </p:nvCxnSpPr>
        <p:spPr>
          <a:xfrm flipH="1">
            <a:off x="1302840" y="3567240"/>
            <a:ext cx="210744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2892960" y="48006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G insuffic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78800" y="5486400"/>
            <a:ext cx="134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 with higher Increase 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0" idx="2"/>
            <a:endCxn id="235" idx="0"/>
          </p:cNvCxnSpPr>
          <p:nvPr/>
        </p:nvCxnSpPr>
        <p:spPr>
          <a:xfrm flipH="1">
            <a:off x="2950920" y="3566880"/>
            <a:ext cx="459360" cy="19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17560" y="556272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just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0" idx="2"/>
            <a:endCxn id="237" idx="0"/>
          </p:cNvCxnSpPr>
          <p:nvPr/>
        </p:nvCxnSpPr>
        <p:spPr>
          <a:xfrm>
            <a:off x="3409920" y="3566880"/>
            <a:ext cx="1365840" cy="19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3648600" y="4495680"/>
            <a:ext cx="140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peed outside corner 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aken into ac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00400" y="3352680"/>
            <a:ext cx="2620800" cy="1219320"/>
            <a:chOff x="3200400" y="3352680"/>
            <a:chExt cx="2620800" cy="1219320"/>
          </a:xfrm>
        </p:grpSpPr>
        <p:sp>
          <p:nvSpPr>
            <p:cNvPr id="242" name=""/>
            <p:cNvSpPr/>
            <p:nvPr/>
          </p:nvSpPr>
          <p:spPr>
            <a:xfrm>
              <a:off x="3200400" y="335268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9000" y="403848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6:39Z</dcterms:created>
  <dc:creator>andriam</dc:creator>
  <dc:description/>
  <dc:language>en-US</dc:language>
  <cp:lastModifiedBy>lefeuvre</cp:lastModifiedBy>
  <dcterms:modified xsi:type="dcterms:W3CDTF">2003-04-11T10:09:43Z</dcterms:modified>
  <cp:revision>460</cp:revision>
  <dc:subject/>
  <dc:title>PowerPoint Presentation</dc:title>
</cp:coreProperties>
</file>