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3AB-80C5-4CB3-AD8D-631EE36D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EA3-45A1-489C-AE9D-A4040F68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945-1B86-47A4-AAD1-CE9891C0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9CB-3EF4-4F9C-B9E1-FA6B2397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ADE-880E-4159-85D2-3F29F02E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042-8D21-463D-AD5A-0E5BBB79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9D3-ABF0-4AC4-8A34-42096261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B15-FA1E-4421-9E8D-286E3B6C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79E-FE1D-4722-A120-D12A38A4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A62-B981-4891-B124-E0B6409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C9D-A89D-4707-B051-71201F4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F37-648D-4DEA-BF52-7A86A35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2AA-ACAC-4D79-BCDC-4F5BA548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1295280"/>
            <a:ext cx="1752480" cy="381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320040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32004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u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52800" y="100080"/>
            <a:ext cx="22860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1, priority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2, priority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3, priority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4, priority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0600" y="2457360"/>
            <a:ext cx="221004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3, priority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4, priority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7" idx="4"/>
            <a:endCxn id="48" idx="0"/>
          </p:cNvCxnSpPr>
          <p:nvPr/>
        </p:nvCxnSpPr>
        <p:spPr>
          <a:xfrm flipV="1" rot="10800000">
            <a:off x="3295080" y="1471320"/>
            <a:ext cx="1080" cy="98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52800" y="4492800"/>
            <a:ext cx="2286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4, priority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8" idx="4"/>
            <a:endCxn id="50" idx="0"/>
          </p:cNvCxnSpPr>
          <p:nvPr/>
        </p:nvCxnSpPr>
        <p:spPr>
          <a:xfrm flipV="1" rot="10800000">
            <a:off x="3295080" y="3295080"/>
            <a:ext cx="1080" cy="1197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457360" y="1519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earch for BM compatible with B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57360" y="34290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earch for BM compatible with B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0" idx="4"/>
            <a:endCxn id="55" idx="0"/>
          </p:cNvCxnSpPr>
          <p:nvPr/>
        </p:nvCxnSpPr>
        <p:spPr>
          <a:xfrm flipV="1" rot="10800000">
            <a:off x="3295080" y="5025600"/>
            <a:ext cx="1080" cy="685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076480" y="5710320"/>
            <a:ext cx="24382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1, priority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3, priority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 4, priority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57360" y="5024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uild the set of compatible 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428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533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41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90076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1522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of BM resulting from the trees evaluation</a:t>
            </a:r>
            <a:br>
              <a:rPr sz="1800"/>
            </a:br>
            <a:r>
              <a:rPr b="0" lang="en-US" sz="1800" spc="-1" strike="noStrike">
                <a:solidFill>
                  <a:srgbClr val="ff5050"/>
                </a:solidFill>
                <a:latin typeface="Times New Roman"/>
              </a:rPr>
              <a:t>BM1 and BM2 are incompa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3962520"/>
            <a:ext cx="2209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lgorithm is applied twice, and then the set of BM is build during the recursive 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feuvre</cp:lastModifiedBy>
  <dcterms:modified xsi:type="dcterms:W3CDTF">2003-05-08T13:17:56Z</dcterms:modified>
  <cp:revision>7</cp:revision>
  <dc:subject/>
  <dc:title>PowerPoint Presentation</dc:title>
</cp:coreProperties>
</file>