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51E4-07DC-4239-A860-015D2CDE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D958-C3EE-40B2-BE36-2785C149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0BA6-8ABE-4588-A0FF-9BD1D796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A95-8B2F-4F84-A735-9594F64C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15B-B8FA-4A23-B218-397629AA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87F-83A9-46BE-BD43-C4644A6D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6BD5-F70D-44F9-82DD-751A66B4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F499-BA8B-47B4-9084-54EAB96D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8E81-54B4-4299-A694-428E7057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AF3-CA66-43BA-AF2D-36EEEF3E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DDA4-2AAF-4F6C-BC94-ED1D36E3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DD79-0A69-4D1E-BC75-8C32AF54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756B-397A-44D3-A1DB-BAF46BF78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52280"/>
            <a:ext cx="7315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2057400"/>
            <a:ext cx="7315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962520"/>
            <a:ext cx="7315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5867280"/>
            <a:ext cx="7315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304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0574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-how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9625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ting Data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59817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ght G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4116240"/>
            <a:ext cx="2514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wareness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4116240"/>
            <a:ext cx="3124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ic Action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838080"/>
            <a:ext cx="485640" cy="1219320"/>
          </a:xfrm>
          <a:prstGeom prst="downArrow">
            <a:avLst>
              <a:gd name="adj1" fmla="val 50000"/>
              <a:gd name="adj2" fmla="val 627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838080"/>
            <a:ext cx="486000" cy="1219320"/>
          </a:xfrm>
          <a:prstGeom prst="upArrow">
            <a:avLst>
              <a:gd name="adj1" fmla="val 50000"/>
              <a:gd name="adj2" fmla="val 627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11430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2743200"/>
            <a:ext cx="485640" cy="1219320"/>
          </a:xfrm>
          <a:prstGeom prst="downArrow">
            <a:avLst>
              <a:gd name="adj1" fmla="val 50000"/>
              <a:gd name="adj2" fmla="val 627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24480" y="30481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ro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4648320"/>
            <a:ext cx="485640" cy="1218960"/>
          </a:xfrm>
          <a:prstGeom prst="downArrow">
            <a:avLst>
              <a:gd name="adj1" fmla="val 50000"/>
              <a:gd name="adj2" fmla="val 627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4952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2743200"/>
            <a:ext cx="486000" cy="1219320"/>
          </a:xfrm>
          <a:prstGeom prst="upArrow">
            <a:avLst>
              <a:gd name="adj1" fmla="val 50000"/>
              <a:gd name="adj2" fmla="val 627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4648320"/>
            <a:ext cx="486000" cy="1218960"/>
          </a:xfrm>
          <a:prstGeom prst="upArrow">
            <a:avLst>
              <a:gd name="adj1" fmla="val 50000"/>
              <a:gd name="adj2" fmla="val 6270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51055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ght Simulato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1295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3200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t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2209680"/>
            <a:ext cx="1870200" cy="3373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th Calc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2119320"/>
            <a:ext cx="3429000" cy="5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2119320"/>
            <a:ext cx="3504960" cy="5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97200" y="2209680"/>
            <a:ext cx="2098800" cy="3373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edback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2209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gn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2209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a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3:49:27Z</dcterms:created>
  <dc:creator>lefeuvre</dc:creator>
  <dc:description/>
  <dc:language>en-US</dc:language>
  <cp:lastModifiedBy>lefeuvre</cp:lastModifiedBy>
  <dcterms:modified xsi:type="dcterms:W3CDTF">2003-02-18T14:47:55Z</dcterms:modified>
  <cp:revision>12</cp:revision>
  <dc:subject/>
  <dc:title>PowerPoint Presentation</dc:title>
</cp:coreProperties>
</file>